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tif" ContentType="image/tif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7BD6-4235-4766-8152-D142E19D9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7689-3B70-479E-88B3-69435D7EB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545D-9491-41ED-B201-F1F700256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4EDD-8EC5-43BB-9790-F289CF686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AC3C-322A-42A9-8C5A-715080B38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FF5F-FDC1-4947-B43D-0B8E8C76F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50A2-0CC4-44E7-A92F-5C11CCA8F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3D0A-33B5-4FBD-8531-A1874BAD5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E730-A4C2-41E5-A7AD-8D46EBD54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324A-B68E-4FD5-AADB-B15B7B790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389C-C5A2-4C7E-8C51-682E4F17B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17F7-7642-4C8B-8D2C-C67305F79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79C8-CDDD-4CAE-B2A0-01ABF64BA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CACA-266C-4D7B-BEA8-DAB851A79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8465-B9FC-4551-8E5D-6CE262B05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28D3-5E89-4F63-8C0C-5AA00A3F3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B14D-6E23-4D08-A995-ED9F0B9DE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0829-84C8-4358-960F-F4D0F9526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4BA3-7339-4878-ACFA-5F57B88AC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5354-990A-402F-B5A5-5BB3772F4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BF93-4140-4D86-ACF6-592C65DCD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30A4-9D2A-4FD2-9E2C-E2EC98344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59B0-F2B2-4A78-B66F-E679A3F21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t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t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77960" y="761760"/>
            <a:ext cx="7586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THE CHANCES OF AN EVENT ARE 5/14, WHAT ARE THE ODDS AGAINST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52280" y="838080"/>
            <a:ext cx="37893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TED FILM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4495680" y="514440"/>
            <a:ext cx="4145040" cy="397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  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14200" y="762120"/>
            <a:ext cx="871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MADONNA'S BEST-SELLING STUDIO ALBUM?  (HINT: IT DOES NOT CONTAIN THE WORD "LIKE"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KING  GI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99960" y="762120"/>
            <a:ext cx="8363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ROMANTIC COMEDY FILM STARRED MELANIE GRIFFITH, HARRISON FORD, SIGOURNEY WEAVER, AND JOAN CUS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06320" y="762120"/>
            <a:ext cx="7731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THE SEAGULLS IN "FINDING NEMO" KEEP REPE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90440" y="49528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AT  OF  MANY  CO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71520" y="762120"/>
            <a:ext cx="8400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ENESIS 34, WHAT GARMENT DID JOSEPH OWN THAT WAS GIVEN TO HIM BY HIS FA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63680" y="762120"/>
            <a:ext cx="8181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ESPEARE CHARACTER SAYS "PARTING IS SUCH SWEET SORR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8800" y="762120"/>
            <a:ext cx="8366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RGE MICHAEL SONG, THE TITLE TRACK FROM HIS FIRST SOLO ALBUM, WAS THE BEST-SELLING SONG OF 198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371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TED FILM HAD THIS MOVIE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4495680" y="514440"/>
            <a:ext cx="414504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L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24000" y="762120"/>
            <a:ext cx="8496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ESSICA CHASTAIN'S FIRST FILM, WHERE SHE PLAYS THE TITLE CHARACTER, AN ORPHAN WITH A ROUGH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9  TO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69960" y="762120"/>
            <a:ext cx="7804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THE CHANCES OF AN EVENT ARE 5/14, WHAT ARE THE ODDS AGAINST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04920" y="49528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DOLLY  PARTON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92240" y="761760"/>
            <a:ext cx="8758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MADONNA'S BEST-SELLING STUDIO ALBUM?  (HINT: IT DOES NOT CONTAIN THE WORD "LIKE"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38040" y="762120"/>
            <a:ext cx="8467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ROMANTIC COMEDY FILM STARRED MELANIE GRIFFITH, HARRISON FORD, SIGOURNEY WEAVER, AND JOAN CUS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73120" y="762120"/>
            <a:ext cx="7996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THE SEAGULLS IN "FINDING NEMO" KEEP REPEA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34800" y="761760"/>
            <a:ext cx="8474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ENESIS 34, WHAT GARMENT DID JOSEPH OWN THAT WAS GIVEN TO HIM BY HIS FA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7840" y="761760"/>
            <a:ext cx="8248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ESPEARE CHARACTER SAYS "PARTING IS SUCH SWEET SORR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RGE MICHAEL SONG, THE TITLE TRACK FROM HIS FIRST SOLO ALBUM, WAS THE BEST-SELLING SONG OF 198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44520" y="762120"/>
            <a:ext cx="8453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ESSICA CHASTAIN'S FIRST FILM, WHERE SHE PLAYS THE TITLE CHARACTER, AN ORPHAN WITH A ROUGH L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9-02T23:29:19Z</dcterms:modified>
  <cp:revision>526</cp:revision>
  <dc:subject/>
  <dc:title>Slide 1</dc:title>
</cp:coreProperties>
</file>