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tif" ContentType="image/tif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918B-B59B-4955-9413-C27296CFE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28A5-FC42-4AB5-B192-C0E5D67E0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1438-ED17-4FC0-9BB2-A92921287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6801-248F-4FC1-B305-77CE9460A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669FB-F4C6-43F4-98E1-C563021BD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2820-AC45-4C5E-93FE-BC38332EE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90C0-6C86-4D74-B10C-92B31D8DD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2CE2-5AEE-45C0-B9E7-694D15A2D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4D94-ECE9-439B-AD87-6BE19AA35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E92F-2628-4137-9671-7A8660DD6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4C25-C111-4EEB-B143-0DD1765D3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099F-2301-42E7-94C3-17E32DCE9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036D-956F-409F-B55E-FD0C98AE0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5745-4C4B-4C54-9C65-0312E1C2A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2402-263A-4A87-9935-9336CB64F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E6D5-C70E-4B82-98F7-6855B56D8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FEA7-6E52-4B9E-AC14-41C17D448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87C5-D2B7-453C-85C8-51BB09490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DDE7-239C-4B5F-9D9A-6C188B0B5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987C-0F7E-43E2-B553-6292AC89E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9AE1-7A0C-4D54-8D68-9308241EC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CCEE-C029-46E6-8F5F-D233AC4B5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7AE2-0F36-415D-BD31-F737B550B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t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t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440" y="152388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77960" y="761760"/>
            <a:ext cx="7586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THE CHANCES OF AN EVENT ARE 5/14, WHAT ARE THE ODDS AGAINST 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52280" y="838080"/>
            <a:ext cx="378936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TED FILM HAD THIS MOVIE PO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4495680" y="514440"/>
            <a:ext cx="4145040" cy="397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542960" y="4952880"/>
            <a:ext cx="605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  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14200" y="762120"/>
            <a:ext cx="871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MADONNA'S BEST-SELLING STUDIO ALBUM?  (HINT: IT DOES NOT CONTAIN THE WORD "LIKE"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KING  GIR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99960" y="762120"/>
            <a:ext cx="8363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ROMANTIC COMEDY FILM STARRED MELANIE GRIFFITH, HARRISON FORD, SIGOURNEY WEAVER, AND JOAN CUSA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06320" y="762120"/>
            <a:ext cx="7731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O THE SEAGULLS IN "FINDING NEMO" KEEP REPEA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90440" y="49528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AT  OF  MANY  COL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71520" y="762120"/>
            <a:ext cx="8400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ENESIS 34, WHAT GARMENT DID JOSEPH OWN THAT WAS GIVEN TO HIM BY HIS FA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M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63680" y="762120"/>
            <a:ext cx="8181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AKESPEARE CHARACTER SAYS "PARTING IS SUCH SWEET SORR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579680" y="4952880"/>
            <a:ext cx="5984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88800" y="762120"/>
            <a:ext cx="8366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ORGE MICHAEL SONG, THE TITLE TRACK FROM HIS FIRST SOLO ALBUM, WAS THE BEST-SELLING SONG OF 198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2280" y="914400"/>
            <a:ext cx="3719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TED FILM HAD THIS MOVIE PO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4495680" y="514440"/>
            <a:ext cx="4145040" cy="39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914400" y="49528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L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24000" y="762120"/>
            <a:ext cx="8496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JESSICA CHASTAIN'S FIRST FILM, WHERE SHE PLAYS THE TITLE CHARACTER, AN ORPHAN WITH A ROUGH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9  TO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69960" y="762120"/>
            <a:ext cx="7804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THE CHANCES OF AN EVENT ARE 5/14, WHAT ARE THE ODDS AGAINST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304920" y="495288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DOLLY  PARTON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457200" y="762120"/>
            <a:ext cx="82296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92240" y="761760"/>
            <a:ext cx="8758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MADONNA'S BEST-SELLING STUDIO ALBUM?  (HINT: IT DOES NOT CONTAIN THE WORD "LIKE"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38040" y="762120"/>
            <a:ext cx="8467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ROMANTIC COMEDY FILM STARRED MELANIE GRIFFITH, HARRISON FORD, SIGOURNEY WEAVER, AND JOAN CUSA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73120" y="762120"/>
            <a:ext cx="7996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O THE SEAGULLS IN "FINDING NEMO" KEEP REPEA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34800" y="761760"/>
            <a:ext cx="8474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ENESIS 34, WHAT GARMENT DID JOSEPH OWN THAT WAS GIVEN TO HIM BY HIS FA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47840" y="761760"/>
            <a:ext cx="8248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AKESPEARE CHARACTER SAYS "PARTING IS SUCH SWEET SORR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ORGE MICHAEL SONG, THE TITLE TRACK FROM HIS FIRST SOLO ALBUM, WAS THE BEST-SELLING SONG OF 198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44520" y="762120"/>
            <a:ext cx="8453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JESSICA CHASTAIN'S FIRST FILM, WHERE SHE PLAYS THE TITLE CHARACTER, AN ORPHAN WITH A ROUGH LI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9-02T23:29:19Z</dcterms:modified>
  <cp:revision>526</cp:revision>
  <dc:subject/>
  <dc:title>Slide 1</dc:title>
</cp:coreProperties>
</file>