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F6419-036B-4F69-86D4-3C99884FF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8D639-00EA-468F-BA96-F577BBFD9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9EF58-C782-4743-8B68-9C1928AB5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0A87E-8279-4A71-A99B-1A12FAB14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CAAAF-E1ED-42DE-B1AB-F844F011F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88853-A618-4AB8-8037-3C3E80D6E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978F9-1C70-4D3D-B45C-6A3C18B88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22CC7-3E2F-45B6-AB4F-1D749FBF2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D3613-7814-4CB7-BE24-546A0CCC3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6D79A-4F11-4C6D-AFF3-BFF702FBD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7F7EC-D224-4CF3-9C34-446BBF765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136F8-C456-46FF-A357-072ED533D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7BF52-5E96-42F4-8BF2-6255AF613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AC58A-2211-49C9-98B3-F08EF1875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4259-EFB0-4713-8AE4-B0663DA6D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6C52F-595C-4E4A-A208-ED82E9229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EA140-982A-4705-82A4-B78E47BB1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5E00E-57EF-430B-9840-5090A0EB2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89EC2-FB5E-465D-9CAA-3D6791956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B4C52-8B5E-44AC-8624-918189A21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3C838-DD6B-4626-996C-7923BEA9C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4A942-07B7-4BA0-9858-CA25BDDC4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6C451-456B-44C8-83C3-80513006E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14440" y="1523880"/>
            <a:ext cx="8115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IGINALLY "ASSAULT" MEANT A THREAT OR ATTEMPT TO PHYSICALLY HARM, WHEREAS THE ACTUAL INFLICTION OF HARM WAS CALLE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77720" y="762120"/>
            <a:ext cx="8186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"GEESE-A-LAYING" ARE GIVEN IN "THE TWELVE DAYS OF CHRISTMA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542960" y="4952880"/>
            <a:ext cx="6058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239760" y="762120"/>
            <a:ext cx="8663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PHYSICS FORMULA PR=V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WHAT DOES THE P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L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792000" y="762120"/>
            <a:ext cx="7560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DOG'S DIRECT ANCESTOR IS EXTINCT, BUT IS GENETICALLY CLOSEST TO WHAT OTHER SPEC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246320" y="762120"/>
            <a:ext cx="6651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PART OF HIS BODY WAS JOHN LENNON SHOT TW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60520" y="762120"/>
            <a:ext cx="8021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4 HIT SONG BY PAUL MCCARTNEY AND WINGS WITH A 3-LETTER TITLE WAS NAMED AFTER PAUL'S BLACK LABRADOR RETRIE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47640" y="762120"/>
            <a:ext cx="7848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SOLID IN THE UNIVERSE THAT IS NOT AN ELE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579680" y="4952880"/>
            <a:ext cx="5984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LD  (CAS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82480" y="762120"/>
            <a:ext cx="7979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IN THE TITLE OF THE 7-SEASON POLICE-PROCEDURAL TV SHOW ABOUT UNSOLVED CASES IN PHILADELPH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00040" y="762120"/>
            <a:ext cx="8143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"GEESE-A-LAYING" ARE GIVEN IN "THE TWELVE DAYS OF CHRISTMA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914400" y="4952880"/>
            <a:ext cx="7315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03280" y="762120"/>
            <a:ext cx="8136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ST PEOPLE BORN IN 2020 WERE BORN IN THE YEAR OF WHAT CHINESE ZODIAC SIG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TT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80960" y="762120"/>
            <a:ext cx="81802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IGINALLY "ASSAULT" MEANT A THREAT OR ATTEMPT TO PHYSICALLY HARM, WHEREAS THE ACTUAL INFLICTION OF HARM WAS CALLE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533520" y="4952880"/>
            <a:ext cx="8076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LL  BE  FOLLOWED  BY  "PACK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57200" y="762120"/>
            <a:ext cx="8229600" cy="31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63080" y="761760"/>
            <a:ext cx="8815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PHYSICS FORMULA PR=V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WHAT DOES THE P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50880" y="762120"/>
            <a:ext cx="7842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DOG'S DIRECT ANCESTOR IS EXTINCT, BUT IS GENETICALLY CLOSEST TO WHAT OTHER SPEC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052640" y="762120"/>
            <a:ext cx="7037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PART OF HIS BODY WAS JOHN LENNON SHOT TWI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4 HIT SONG BY PAUL MCCARTNEY AND WINGS WITH A 3-LETTER TITLE WAS NAMED AFTER PAUL'S BLACK LABRADOR RETRIEV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39360" y="761760"/>
            <a:ext cx="7862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SOLID IN THE UNIVERSE THAT IS NOT AN ELE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20840" y="761760"/>
            <a:ext cx="8300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IN THE TITLE OF THE 7-SEASON POLICE-PROCEDURAL TV SHOW ABOUT UNSOLVED CASES IN PHILADELPH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51000" y="762120"/>
            <a:ext cx="8442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ST PEOPLE BORN IN 2020 WERE BORN IN THE YEAR OF WHAT CHINESE ZODIAC SIG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9-02T23:33:12Z</dcterms:modified>
  <cp:revision>514</cp:revision>
  <dc:subject/>
  <dc:title>Slide 1</dc:title>
</cp:coreProperties>
</file>