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F60F-08E1-4604-8CE8-68B56F0E7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703A-9E3A-4D11-8224-72A15FC4F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5109-828B-429E-87BB-2A60DBDAA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32A8-8E28-434A-BE35-93E5D118A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CB44-8686-457B-9C30-C73AA786E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86F6-64A1-4411-8C90-24913FDF6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6F64-8E2E-4AB4-93E3-188F31EC4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3838-3140-44C8-A8C2-FE8E05A69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4FD6-0BC7-46DD-A484-06909D943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3ED1-54D0-4487-A534-B1F5ACDD7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8CE8-90EE-4F1C-86FF-220CD816E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8903-F9A5-4E3B-B7CA-95DC5719E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907F-4C90-447F-9763-8DCE32551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1899-E506-4B63-804B-9D7EA9281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9710-8DAC-4BEA-96FB-87504ABB5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42CA-57FA-4DC4-BC77-E0CD945D7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4CEE-0865-447E-ADF0-EBB42CB3B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E161-7239-4A9C-91C9-17DF6CECD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134E-7134-4FF7-A332-1FC5FDF56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1076-1700-4FFB-AEAF-1ACEE26CE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1F2A-4258-4292-ADDF-63B0DA29E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687D-C9FB-431F-B93C-EDAAB2C33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E398-197C-4307-9FB2-EEB5C10E9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4440" y="1523880"/>
            <a:ext cx="8115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IGINALLY "ASSAULT" MEANT A THREAT OR ATTEMPT TO PHYSICALLY HARM, WHEREAS THE ACTUAL INFLICTION OF HARM WAS CALLE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77720" y="762120"/>
            <a:ext cx="8186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"GEESE-A-LAYING" ARE GIVEN IN "THE TWELVE DAYS OF CHRISTMA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42960" y="4952880"/>
            <a:ext cx="605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39760" y="762120"/>
            <a:ext cx="8663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PHYSICS FORMULA PR=V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WHAT DOES THE P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92000" y="762120"/>
            <a:ext cx="7560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OG'S DIRECT ANCESTOR IS EXTINCT, BUT IS GENETICALLY CLOSEST TO WHAT OTHER SPEC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246320" y="762120"/>
            <a:ext cx="6651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PART OF HIS BODY WAS JOHN LENNON SHOT TW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60520" y="762120"/>
            <a:ext cx="802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4 HIT SONG BY PAUL MCCARTNEY AND WINGS WITH A 3-LETTER TITLE WAS NAMED AFTER PAUL'S BLACK LABRADOR RETRI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47640" y="762120"/>
            <a:ext cx="7848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SOLID IN THE UNIVERSE THAT IS NOT AN ELE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579680" y="4952880"/>
            <a:ext cx="5984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D  (CA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82480" y="762120"/>
            <a:ext cx="7979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TITLE OF THE 7-SEASON POLICE-PROCEDURAL TV SHOW ABOUT UNSOLVED CASES IN PHILADELPH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00040" y="762120"/>
            <a:ext cx="8143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"GEESE-A-LAYING" ARE GIVEN IN "THE TWELVE DAYS OF CHRISTMA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914400" y="49528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03280" y="762120"/>
            <a:ext cx="8136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ST PEOPLE BORN IN 2020 WERE BORN IN THE YEAR OF WHAT CHINESE ZODIAC SIG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TT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80960" y="762120"/>
            <a:ext cx="8180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IGINALLY "ASSAULT" MEANT A THREAT OR ATTEMPT TO PHYSICALLY HARM, WHEREAS THE ACTUAL INFLICTION OF HARM WAS CALL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33520" y="4952880"/>
            <a:ext cx="8076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LL  BE  FOLLOWED  BY  "PACK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63080" y="761760"/>
            <a:ext cx="8815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PHYSICS FORMULA PR=V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WHAT DOES THE P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50880" y="762120"/>
            <a:ext cx="784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OG'S DIRECT ANCESTOR IS EXTINCT, BUT IS GENETICALLY CLOSEST TO WHAT OTHER SPEC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52640" y="762120"/>
            <a:ext cx="7037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PART OF HIS BODY WAS JOHN LENNON SHOT TW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4 HIT SONG BY PAUL MCCARTNEY AND WINGS WITH A 3-LETTER TITLE WAS NAMED AFTER PAUL'S BLACK LABRADOR RETRIE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39360" y="761760"/>
            <a:ext cx="7862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SOLID IN THE UNIVERSE THAT IS NOT AN ELE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20840" y="761760"/>
            <a:ext cx="8300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TITLE OF THE 7-SEASON POLICE-PROCEDURAL TV SHOW ABOUT UNSOLVED CASES IN PHILADELPH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51000" y="762120"/>
            <a:ext cx="8442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ST PEOPLE BORN IN 2020 WERE BORN IN THE YEAR OF WHAT CHINESE ZODIAC SIG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9-02T23:33:12Z</dcterms:modified>
  <cp:revision>514</cp:revision>
  <dc:subject/>
  <dc:title>Slide 1</dc:title>
</cp:coreProperties>
</file>