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3EED-03C3-48E4-80D6-23913BB19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127A-802B-424E-A205-BC96A4832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AEFB-AEA1-4462-ADCB-8144B250D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09B4-D567-44FE-96A0-AE0766D7A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65F8-971D-4E8A-B999-DBB20B4B9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D1E0-2CC4-4071-BC5F-21E9D10A6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7399-EA3B-4244-9A9E-A1A1CB500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643B-276E-46A3-AF8B-620B0A3F7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25BB-E5F3-413E-980E-83C104870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54B4-EB57-4DD5-9C77-D37E588C4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A7E8-BA16-4292-A1EF-8259D9E24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8E6C-1B37-4EEB-B46C-22E1C05D3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9811-4999-4E3A-A08C-62596E295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2337-DBAC-4DCE-BBA0-A40DBF091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BFB5-7593-4C1B-8E20-F224B9522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B890-3CDA-42F0-A1E6-5A0C267A2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4BD5-964B-42F1-A90F-D466884D2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6B2A-52E6-48A2-8471-E571ABEA6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A82A-151D-4849-891F-D8ABF6F61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B057-CC4E-46F7-AA67-535B3C604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006F-4259-4728-8365-4D97E42EB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B775-AF19-42D7-9E8C-278EEF9FE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C41D-7DCB-43A4-828F-9545A1A6B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PERMANENT BRIDGE ACROSS THE EAST RIVER IN NY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ONAL  P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77720" y="762120"/>
            <a:ext cx="8186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IDENT TRUMP MADE THE ST. LOUIS ARCH AND THE INDIANA DUNES INTO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TW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39760" y="762120"/>
            <a:ext cx="8663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MASTERWORK, OFTEN CALLED "THE GREAT AMERICAN NOVEL", IS STILL CENSORED IN SOME HIGH SCHOOLS DUE ITS USE OF THE N-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JEFF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386000" y="762120"/>
            <a:ext cx="6370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PICTURED ON THE U.S. $2 BI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VIL 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39800" y="762120"/>
            <a:ext cx="7664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ARMED CONFLICT IN U.S. HISTORY IN WHICH A NATIONAL DRAFT WAS U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YO  CLIN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36680" y="762120"/>
            <a:ext cx="827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U.S. NEWS AND WORLD REPOR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WHAT IS THE TOP-RANKED HOSPITAL, NEAR THE TOP OF THE RANKINGS FOR 3 DECAD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IE  ROBI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FRICAN-AMERICAN PLAYER IN MLB     IN THE MODERN E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HIB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06320" y="762120"/>
            <a:ext cx="7731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1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2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NDMENTS TO THE  U.S. CONSTITUTION AB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00040" y="762120"/>
            <a:ext cx="8143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IDENT TRUMP MADE THE ST. LOUIS ARCH AND THE INDIANA DUNES INTO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UE  OF  LIB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50800" y="762120"/>
            <a:ext cx="804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ALLEST STATUE IN THE CONTINENTAL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OKLYN  B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77920" y="762120"/>
            <a:ext cx="8588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PERMANENT BRIDGE ACROSS THE EAST RIVER IN NY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33520" y="4419720"/>
            <a:ext cx="80769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  BURNS  MADE  DOCUMENTARIES  ABOUT 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2360" y="761760"/>
            <a:ext cx="8639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MASTERWORK, OFTEN CALLED "THE GREAT AMERICAN NOVEL", IS STILL CENSORED IN SOME HIGH SCHOOLS DUE ITS USE OF THE N-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455840" y="762120"/>
            <a:ext cx="6232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PICTURED ON THE U.S. $2 BI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58800" y="762120"/>
            <a:ext cx="782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ARMED CONFLICT IN U.S. HISTORY IN WHICH A NATIONAL DRAFT WAS US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U.S. NEWS AND WORLD REPOR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WHAT IS THE TOP-RANKED HOSPITAL, NEAR THE TOP OF THE RANKINGS FOR 3 DECAD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9120" y="761760"/>
            <a:ext cx="8105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FRICAN-AMERICAN PLAYER IN MLB     IN THE MODERN ER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90120" y="761760"/>
            <a:ext cx="7761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1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2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NDMENTS TO THE  U.S. CONSTITUTION ABOU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51000" y="762120"/>
            <a:ext cx="8442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ALLEST STATUE IN THE CONTINENTAL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9-02T23:42:17Z</dcterms:modified>
  <cp:revision>511</cp:revision>
  <dc:subject/>
  <dc:title>Slide 1</dc:title>
</cp:coreProperties>
</file>