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E2BE-C541-4672-B19B-F690D8F5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B66E-1AEB-4B72-AC59-67F153C01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D68A-302A-4802-A6E2-DF0E989F6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30B2-6945-4610-8635-4E1B53FD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26B6-A216-4FE1-AFF2-1171557B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B5CB-5890-4C81-B004-CBE943601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623F-53A4-4CA3-A6FF-DAB28CC6C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A16E-84CB-4317-9377-3A1C8BB6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1ED1-AAF2-4373-BE74-77E1169C0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7E50-6584-416F-A31F-2C17718DC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849F-EE76-422C-A66E-CD1A4ACDD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EDE3-7A3D-4E51-8A9C-22057D52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697C-2082-471E-A586-A03F71227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5537-92DC-4A06-AFA7-E791259A1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317B-E0E7-4E6C-B1CF-0DB8D376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C577-0F62-40FC-8215-9C7883A20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0D5A-E8A9-4A04-9E84-11649EEDB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A123-9DF1-48AE-8EB7-8162522F4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FFD9-6929-4C81-9974-91C44B750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8F37-9110-46CF-A2E3-EAC725FDB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994D-87BD-474D-82B6-8B4B19A5A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474C-F02C-4513-ABA6-92D614E30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C740-92A1-473A-A8E2-D0B81CBF9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ERMANENT BRIDGE ACROSS THE EAST RIVER IN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TRUMP MADE THE ST. LOUIS ARCH AND THE INDIANA DUNES INT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9760" y="762120"/>
            <a:ext cx="8663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ASTERWORK, OFTEN CALLED "THE GREAT AMERICAN NOVEL", IS STILL CENSORED IN SOME HIGH SCHOOLS DUE ITS USE OF THE N-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86000" y="762120"/>
            <a:ext cx="637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U.S. $2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VIL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39800" y="762120"/>
            <a:ext cx="766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RMED CONFLICT IN U.S. HISTORY IN WHICH A NATIONAL DRAFT WAS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YO  CLI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6680" y="762120"/>
            <a:ext cx="827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.S. NEWS AND WORLD REPO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IS THE TOP-RANKED HOSPITAL, NEAR THE TOP OF THE RANKINGS FOR 3 DECA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PLAYER IN MLB     IN THE MODERN 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HIB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6320" y="762120"/>
            <a:ext cx="773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S TO THE  U.S. CONSTITUTION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TRUMP MADE THE ST. LOUIS ARCH AND THE INDIANA DUNES INT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50800" y="762120"/>
            <a:ext cx="804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STATUE IN THE CONTINENTAL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 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77920" y="762120"/>
            <a:ext cx="858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ERMANENT BRIDGE ACROSS THE EAST RIVER IN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4197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  MADE  DOCUMENTARIES  ABOUT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ASTERWORK, OFTEN CALLED "THE GREAT AMERICAN NOVEL", IS STILL CENSORED IN SOME HIGH SCHOOLS DUE ITS USE OF THE N-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55840" y="762120"/>
            <a:ext cx="6232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U.S. $2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RMED CONFLICT IN U.S. HISTORY IN WHICH A NATIONAL DRAFT WAS U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.S. NEWS AND WORLD REPO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IS THE TOP-RANKED HOSPITAL, NEAR THE TOP OF THE RANKINGS FOR 3 DECA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9120" y="761760"/>
            <a:ext cx="8105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PLAYER IN MLB     IN THE MODERN E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S TO THE  U.S. CONSTITUTION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1000" y="762120"/>
            <a:ext cx="844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STATUE IN THE CONTINENTAL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02T23:42:17Z</dcterms:modified>
  <cp:revision>511</cp:revision>
  <dc:subject/>
  <dc:title>Slide 1</dc:title>
</cp:coreProperties>
</file>