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9339-D942-45DA-B1DE-51988D799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96AA-82E0-42ED-A3A7-302418AA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F928-38E2-45F9-A7EC-3BF1F26B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832B-7DC5-43C2-B0C1-CE93B6D62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3CF4-0996-44A2-81C3-E2CF7E0B0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2C96-64E2-402C-8257-79F94D7A4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F3C5-821B-4DF3-B5BE-3D5C5C9D9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FAA2-76E2-462C-B9AD-8D42DC2DE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9689-3FBD-4BC7-85FE-9648212A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A258-B5F1-42FD-9EE7-FE96E618B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6E2C-4440-4047-BE48-EB27CF7AD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FD82-3D1E-4212-B231-DC61822E7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91FE-CDF8-41B9-9FB1-7FF4E9D3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C37D-9BFA-4A9B-821E-5D4FF5C0C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E4AD-4B8D-4183-8B4A-B5B54D1F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40A6-D512-42DA-B4FB-A2E5B2A44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A571-B845-4670-8A9C-1D472BA6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1A9F-32AA-4D52-9065-1DBD3C394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2AA3-E5C1-4E06-8A93-8548EFD04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AD2E-D1A9-4DC0-B31A-DCA6FDF72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0C4F-CC2F-4EB8-8B3E-9CECAC24F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5A11-8BE8-4441-BF6C-885E251AF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CE66-2096-4740-8AC3-6E28E7A2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BD4F-0AE0-401D-9257-699A26429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152280" y="762120"/>
            <a:ext cx="587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"COWARDLY DOG" ON A SERIES ON THE CARTOON NET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625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36480" y="761760"/>
            <a:ext cx="7871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CALCULATED BY DIVIDING WORK BY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4-LETTER WORD WITH A SILENT "B" THAT DOES NOT END WITH "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U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8040" y="762120"/>
            <a:ext cx="792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NATOR JOSEPH MCCARTHY WAS CENSURED IN 1954 FOR ACCUSING MANY PEOPLE  OF SYMPATHY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5280" y="762120"/>
            <a:ext cx="835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TENNIS GAME, WHAT WORD IS USED INSTEAD OF "Z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0400" y="762120"/>
            <a:ext cx="742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DICTATING TELEGRAMS, WHAT WORD WAS USED FOR A PERI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WHY CAN'T WE BE 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762120"/>
            <a:ext cx="814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MOTION DID COMEDIAN LEWIS BLACK PLAY IN THE ANIMATED FILM "INSIDE 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(WILL  ROBI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2680" y="762120"/>
            <a:ext cx="837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A CATCHPHRASE OF THE ROBOT IN "LOST IN SPACE" THAT WAS USED FOR THE URL FOR THE WEBSITE OF THE 1998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080" y="762120"/>
            <a:ext cx="5827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"COWARDLY DOG" ON A SERIES ON THE CARTOON NET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6019920" y="838080"/>
            <a:ext cx="2625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93720" y="762120"/>
            <a:ext cx="7756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CALCULATED BY DIVIDING WORK BY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366920" y="4343400"/>
            <a:ext cx="6410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ASSOCIATED  WITH  THE  COLOR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3600" y="762120"/>
            <a:ext cx="841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4-LETTER WORD WITH A SILENT "B" THAT DOES NOT END WITH "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50440" y="761760"/>
            <a:ext cx="804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NATOR JOSEPH MCCARTHY WAS CENSURED IN 1954 FOR ACCUSING MANY PEOPLE   OF SYMPATHY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04640" y="762120"/>
            <a:ext cx="833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TENNIS GAME, WHAT WORD IS USED INSTEAD OF "Z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61480" y="762120"/>
            <a:ext cx="7418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DICTATING TELEGRAMS, WHAT WORD WAS USED FOR A PERI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WHY CAN'T WE BE 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6440" y="761760"/>
            <a:ext cx="8148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MOTION DID COMEDIAN LEWIS BLACK PLAY IN THE ANIMATED FILM "INSIDE OU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1000" y="761760"/>
            <a:ext cx="8442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A CATCHPHRASE OF THE ROBOT IN "LOST IN SPACE" THAT WAS USED FOR THE URL FOR THE WEBSITE OF THE 1998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10-13T12:43:47Z</dcterms:modified>
  <cp:revision>494</cp:revision>
  <dc:subject/>
  <dc:title>Slide 1</dc:title>
</cp:coreProperties>
</file>