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CB57-4A82-44DC-89A9-7054BD361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F2B0-29D8-4284-BD6E-73B43D183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1395-5B6D-404A-B50A-1CC8AD805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7467-6F99-44AB-824E-08290A4AE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FC05-8B05-4DE2-BA22-DD1C75561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88C5-0FE5-4B4E-A8FD-345809AFB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7A2E-B758-4415-963F-51EAC4B39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B750-9D60-4808-AAE3-F26F5CBA0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4CC3-EF89-4FF8-9C70-CF32A2B4C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87C6-C96E-4F27-929B-B5E4ECD41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6F7C-02B3-4FB1-B63B-23777BC76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65E3-1B1F-46B0-B992-466B1AD95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AAAA-722C-4832-9C1D-373FEC966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EA59-0C77-4102-8475-DB7932BD0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AAE8-02E3-447D-8285-A1EB65CDE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8913-2802-48FD-A742-553205748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B2BB-A430-42B0-B4D4-EB605C0DF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A5AF-FC19-4AEF-BEF0-61F08EFC3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ECB0-6F9E-4852-9801-9C30BC2E8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7C30-EA85-4E53-B959-4D297F5FC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C7C1-36AF-48DA-AFA7-7C44D42D0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50BF-D760-4306-A1B0-AD8AF1679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A55E-BE0F-47B5-8658-0135E4A07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645A-1D70-4CED-9728-D9C92A3E8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152280" y="762120"/>
            <a:ext cx="587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"COWARDLY DOG" ON A SERIES ON THE CARTOON NET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019920" y="838080"/>
            <a:ext cx="26254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36480" y="761760"/>
            <a:ext cx="7871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CALCULATED BY DIVIDING WORK BY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38120" y="762120"/>
            <a:ext cx="82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4-LETTER WORD WITH A SILENT "B" THAT DOES NOT END WITH "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U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8040" y="762120"/>
            <a:ext cx="7927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NATOR JOSEPH MCCARTHY WAS CENSURED IN 1954 FOR ACCUSING MANY PEOPLE  OF SYMPATHY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95280" y="762120"/>
            <a:ext cx="8353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TENNIS GAME, WHAT WORD IS USED INSTEAD OF "ZE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60400" y="762120"/>
            <a:ext cx="742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DICTATING TELEGRAMS, WHAT WORD WAS USED FOR A PERI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88960" y="762120"/>
            <a:ext cx="796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 SANG "WHY CAN'T WE BE 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00040" y="762120"/>
            <a:ext cx="8142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MOTION DID COMEDIAN LEWIS BLACK PLAY IN THE ANIMATED FILM "INSIDE OU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GER  (WILL  ROBIN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2680" y="762120"/>
            <a:ext cx="8378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A CATCHPHRASE OF THE ROBOT IN "LOST IN SPACE" THAT WAS USED FOR THE URL FOR THE WEBSITE OF THE 1998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9080" y="762120"/>
            <a:ext cx="5827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"COWARDLY DOG" ON A SERIES ON THE CARTOON NET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019920" y="838080"/>
            <a:ext cx="26254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93720" y="762120"/>
            <a:ext cx="7756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CALCULATED BY DIVIDING WORK BY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366920" y="4343400"/>
            <a:ext cx="6410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ASSOCIATED  WITH  THE  COLOR 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3600" y="762120"/>
            <a:ext cx="841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4-LETTER WORD WITH A SILENT "B" THAT DOES NOT END WITH "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50440" y="761760"/>
            <a:ext cx="804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NATOR JOSEPH MCCARTHY WAS CENSURED IN 1954 FOR ACCUSING MANY PEOPLE   OF SYMPATHY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04640" y="762120"/>
            <a:ext cx="8334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TENNIS GAME, WHAT WORD IS USED INSTEAD OF "ZE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61480" y="762120"/>
            <a:ext cx="7418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DICTATING TELEGRAMS, WHAT WORD WAS USED FOR A PERI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 SANG "WHY CAN'T WE BE 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6440" y="761760"/>
            <a:ext cx="8148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MOTION DID COMEDIAN LEWIS BLACK PLAY IN THE ANIMATED FILM "INSIDE OU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51000" y="761760"/>
            <a:ext cx="8442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A CATCHPHRASE OF THE ROBOT IN "LOST IN SPACE" THAT WAS USED FOR THE URL FOR THE WEBSITE OF THE 1998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10-13T12:43:47Z</dcterms:modified>
  <cp:revision>494</cp:revision>
  <dc:subject/>
  <dc:title>Slide 1</dc:title>
</cp:coreProperties>
</file>