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D8D4-6B5D-4ED2-A37A-B4393812F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D060-E767-4BA7-A4D5-32F799E19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64B1-65F7-458C-9B3F-F1129F682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7359-13E4-4C03-8AF4-6F566757C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FCB8-7452-4665-B50D-D9D8EE734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60DB-32C0-4FE4-9ABD-ECFEC5CD1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A7DC-BCD6-4C4F-A32F-F5995A8F0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BD4B-318F-45F9-AD63-8CCE3802B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39E-E6F1-4B70-8F26-68521A430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5C60-86DC-4332-8494-E9D207F1C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FE3F-B0C6-4455-8CF6-923D752233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80DD-337D-4F65-936F-B528BA092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60DD-5CCA-4C61-B495-02A4849F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F419C-C42F-47CB-AEC0-DD1A8C469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4FAE9-FAB1-4AAB-B5EE-E83828FAD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C031-5108-4FCC-B7D5-5E509654E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AF7A-0CD1-4DAA-8502-6B43F9E8E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A760-1581-4ACE-A448-702F53A64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193F2-B7C7-4297-92D6-F703C20A7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AB37F-17C7-4DF3-9C58-8E7815C5E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163EB-A154-42E3-A022-0C060272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FA820-1CB6-4424-A0AF-EE8CDF602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37F0B-1572-4752-BFEF-93ED87DC0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87440" y="761760"/>
            <a:ext cx="8167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2 DISNEY ANIMATED FILM, WHAT IS THE NAME OF THE ALIEN BEFRIENDED BY THE HAWAIIAN GIRL LIL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952880"/>
            <a:ext cx="7162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99960" y="762120"/>
            <a:ext cx="8344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PRESIDENT OBAMA DO WHEN MEETING THE SAUDI KING IN APRIL 2009 THAT HE WAS CRITICIZE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-38160" y="4952880"/>
            <a:ext cx="9220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93720" y="762120"/>
            <a:ext cx="7755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NDA MODEL IS TH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325600" y="1951200"/>
            <a:ext cx="4491000" cy="29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610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08080" y="762120"/>
            <a:ext cx="872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7 SERIES DID DR. TEMPERANCE BRENNAN AND SPECIAL AGENT SEELEY BOOTH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MAJOR DISCOVERY DO HISTORIANS ESTIMATE HUMANS MADE   1-2 MILLION YEARS AG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266760" y="4952880"/>
            <a:ext cx="8610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GRADUATE  RECORD)  EXA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1122480" y="762120"/>
            <a:ext cx="6897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G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57360" y="762120"/>
            <a:ext cx="7829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GENRES SELLS THE MOST RECORDS?  CHRISTIAN, COUNTRY, HEAVY METAL, OR RAP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719280" y="4952880"/>
            <a:ext cx="770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76240" y="762120"/>
            <a:ext cx="73915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WHAT NAME IS GIVEN TO 640 ACRES, OR 1/3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TOWN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01760" y="762120"/>
            <a:ext cx="8339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D PRESIDENT OBAMA DO WHEN MEETING THE SAUDI KING IN APRIL 2009 THAT HE WAS CRITICIZE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16040" y="762120"/>
            <a:ext cx="7711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ATING, WHAT TERM IS USED FOR THE WIDTH OF A BOAT AT ITS WIDEST POI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09760" y="762120"/>
            <a:ext cx="81230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A 2002 DISNEY ANIMATED FILM, WHAT IS THE NAME OF THE ALIEN BEFRIENDED BY THE HAWAIIAN GIRL LILO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66760" y="495288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CROSS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3560"/>
            <a:ext cx="8076960" cy="22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79600" y="761760"/>
            <a:ext cx="79833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HONDA MODEL IS THI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9800" y="1981080"/>
            <a:ext cx="53244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423720" y="762120"/>
            <a:ext cx="8296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N WHAT 2005-2017 SERIES DID DR. TEMPERANCE BRENNAN AND SPECIAL AGENT SEELEY BOOTH SOLVE CRIM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39360" y="762120"/>
            <a:ext cx="78627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FIRST MAJOR DISCOVERY DO HISTORIANS ESTIMATE HUMANS MADE   1-2 MILLION YEARS AG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7560" y="761760"/>
            <a:ext cx="696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"E" STAND FOR IN "G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GENRES SELLS THE MOST RECORDS?  CHRISTIAN, COUNTRY, HEAVY METAL, OR RA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9880" y="761760"/>
            <a:ext cx="7464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SURVEYING, WHAT NAME IS GIVEN TO 640 ACRES, OR 1/3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F A TOWN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96960" y="762120"/>
            <a:ext cx="77486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BOATING, WHAT TERM IS USED FOR THE WIDTH OF A BOAT AT ITS WIDEST POI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1T16:48:58Z</dcterms:created>
  <dc:creator>Jennifer Budzinski</dc:creator>
  <dc:description/>
  <dc:language>en-US</dc:language>
  <cp:lastModifiedBy>Erich Friedman</cp:lastModifiedBy>
  <dcterms:modified xsi:type="dcterms:W3CDTF">2022-09-16T17:48:59Z</dcterms:modified>
  <cp:revision>500</cp:revision>
  <dc:subject/>
  <dc:title>Slide 1</dc:title>
</cp:coreProperties>
</file>