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9103F-4943-44CC-9112-DE4F05BB4D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51CF5-BAD8-4786-A8D8-E64008931B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5ECF9-6BDF-43D0-A969-4A6436B356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82D2D-EBF6-4181-8520-013B4FE2D1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1EA98-C8B1-4494-941C-68B30E586D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EFC3E-D06D-4098-9245-B03173B3DD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D0475-A836-4CF0-99D1-90B94A7CA1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4DB0A-D16D-46FA-AA18-7ACCD68887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341A3-697B-4F5A-A40A-B6529B9121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79D1F-3834-4F76-8F4E-F8F904CFDA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D6073-2735-4FC4-87E6-5A2F340768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A6F72-EBD0-4EDD-BFDA-605C1F9357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1E826-C977-4126-9AFA-E1E03F9996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1023C-5D4F-48CD-AFE7-24F8827642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E1CB7-AECA-4B3E-BB43-1BB0844E02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A590B-0C76-4F37-B945-A3931A18CD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5DC24-9AA9-4EBB-B13F-5E3A254A58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50EB2-97E6-49EE-B2A4-CA9603E8A6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C7D85-F65B-4DC8-98AB-218ADA2329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00BE8-B798-44B4-9D85-C697DA6C2C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BC07E-5AED-4F59-93A1-88D6A1F7BD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8B99B-3FA9-4165-8BBD-398FAF8EBB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04A83-AE75-42BC-A093-02AFEBCF78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333440" y="1523880"/>
            <a:ext cx="64771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87440" y="761760"/>
            <a:ext cx="81676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A 2002 DISNEY ANIMATED FILM, WHAT IS THE NAME OF THE ALIEN BEFRIENDED BY THE HAWAIIAN GIRL LILO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3"/>
          <p:cNvSpPr/>
          <p:nvPr/>
        </p:nvSpPr>
        <p:spPr>
          <a:xfrm>
            <a:off x="990720" y="4952880"/>
            <a:ext cx="716256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399960" y="762120"/>
            <a:ext cx="83440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ID PRESIDENT OBAMA DO WHEN MEETING THE SAUDI KING IN APRIL 2009 THAT HE WAS CRITICIZED FO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3"/>
          <p:cNvSpPr/>
          <p:nvPr/>
        </p:nvSpPr>
        <p:spPr>
          <a:xfrm>
            <a:off x="-38160" y="4952880"/>
            <a:ext cx="92203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"/>
          <p:cNvSpPr/>
          <p:nvPr/>
        </p:nvSpPr>
        <p:spPr>
          <a:xfrm>
            <a:off x="693720" y="762120"/>
            <a:ext cx="77551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HONDA MODEL IS THI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3" descr=""/>
          <p:cNvPicPr/>
          <p:nvPr/>
        </p:nvPicPr>
        <p:blipFill>
          <a:blip r:embed="rId1"/>
          <a:stretch/>
        </p:blipFill>
        <p:spPr>
          <a:xfrm>
            <a:off x="2325600" y="1951200"/>
            <a:ext cx="4491000" cy="2955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304920" y="4952880"/>
            <a:ext cx="86104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O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208080" y="762120"/>
            <a:ext cx="87278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N WHAT 2005-2017 SERIES DID DR. TEMPERANCE BRENNAN AND SPECIAL AGENT SEELEY BOOTH SOLVE CRIM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304920" y="4952880"/>
            <a:ext cx="84582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I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685800" y="762120"/>
            <a:ext cx="77724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IRST MAJOR DISCOVERY DO HISTORIANS ESTIMATE HUMANS MADE   1-2 MILLION YEARS AG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266760" y="4952880"/>
            <a:ext cx="86104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2000"/>
          </a:bodyPr>
          <a:p>
            <a:pPr marL="178200" indent="-178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GRADUATE  RECORD)  EXAMIN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1122480" y="762120"/>
            <a:ext cx="68976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ES THE "E" STAND FOR IN "GR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UNT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657360" y="762120"/>
            <a:ext cx="782928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OF THESE GENRES SELLS THE MOST RECORDS?  CHRISTIAN, COUNTRY, HEAVY METAL, OR RAP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719280" y="4952880"/>
            <a:ext cx="77054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E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876240" y="762120"/>
            <a:ext cx="73915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SURVEYING, WHAT NAME IS GIVEN TO 640 ACRES, OR 1/36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OF A TOWNSHIP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01760" y="762120"/>
            <a:ext cx="83390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ID PRESIDENT OBAMA DO WHEN MEETING THE SAUDI KING IN APRIL 2009 THAT HE WAS CRITICIZED FO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0880" y="4952880"/>
            <a:ext cx="838224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EA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716040" y="762120"/>
            <a:ext cx="77119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BOATING, WHAT TERM IS USED FOR THE WIDTH OF A BOAT AT ITS WIDEST POIN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380880" y="495288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TIT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509760" y="762120"/>
            <a:ext cx="812304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A 2002 DISNEY ANIMATED FILM, WHAT IS THE NAME OF THE ALIEN BEFRIENDED BY THE HAWAIIAN GIRL LILO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3"/>
          <p:cNvSpPr/>
          <p:nvPr/>
        </p:nvSpPr>
        <p:spPr>
          <a:xfrm>
            <a:off x="266760" y="4952880"/>
            <a:ext cx="86104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N  FOLLOW  "CROSS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2"/>
          <p:cNvSpPr/>
          <p:nvPr/>
        </p:nvSpPr>
        <p:spPr>
          <a:xfrm>
            <a:off x="533520" y="763560"/>
            <a:ext cx="8076960" cy="22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579600" y="761760"/>
            <a:ext cx="79833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HONDA MODEL IS THI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1909800" y="1981080"/>
            <a:ext cx="5324400" cy="3505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423720" y="762120"/>
            <a:ext cx="829656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N WHAT 2005-2017 SERIES DID DR. TEMPERANCE BRENNAN AND SPECIAL AGENT SEELEY BOOTH SOLVE CRIM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639360" y="762120"/>
            <a:ext cx="78627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IRST MAJOR DISCOVERY DO HISTORIANS ESTIMATE HUMANS MADE   1-2 MILLION YEARS AGO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1087560" y="761760"/>
            <a:ext cx="69688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ES THE "E" STAND FOR IN "GR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611280" y="761760"/>
            <a:ext cx="79214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OF THESE GENRES SELLS THE MOST RECORDS?  CHRISTIAN, COUNTRY, HEAVY METAL, OR RAP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839880" y="761760"/>
            <a:ext cx="74642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SURVEYING, WHAT NAME IS GIVEN TO 640 ACRES, OR 1/36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OF A TOWNSHIP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696960" y="762120"/>
            <a:ext cx="774864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BOATING, WHAT TERM IS USED FOR THE WIDTH OF A BOAT AT ITS WIDEST POIN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21T16:48:58Z</dcterms:created>
  <dc:creator>Jennifer Budzinski</dc:creator>
  <dc:description/>
  <dc:language>en-US</dc:language>
  <cp:lastModifiedBy>Erich Friedman</cp:lastModifiedBy>
  <dcterms:modified xsi:type="dcterms:W3CDTF">2022-09-16T17:48:59Z</dcterms:modified>
  <cp:revision>500</cp:revision>
  <dc:subject/>
  <dc:title>Slide 1</dc:title>
</cp:coreProperties>
</file>