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963D-E3A0-4D5E-8EC5-FBCE11DB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4382-EECD-4A03-B712-B52CB51DA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4A56-3288-4727-BAC7-91AC3491EE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E175-16AE-47BD-95C9-7E15D4D71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4F52-6265-408D-B686-9867A123D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930F-72A2-436D-9E37-C6F2D7394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2132D-65F9-4ADE-8E5A-8DB747F96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43A-08A7-4C7B-9853-0A723EEA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BB08-10E3-4109-ABA9-F0C393414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B52-0343-4604-8D40-AABFBDF0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993AD-6BD4-4CD5-85D4-58DD48EDC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F00FA-0D1F-470B-8B74-C791E4F2E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FE34-B8BE-4895-A2A5-337741ED4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74DA-CD46-45AD-B526-7DA90D655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166C-D8CF-4213-8005-9665B4FF0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BA39-24C1-428D-A001-A29FBFF9E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EDC8-5FC7-42F1-96A8-5494B5CA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9852-096C-43F5-84FE-892D5665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F734-3F93-4285-A87F-B12E2D0BC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CE6-DCD3-47FA-9769-6CA7D62FE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86843-C427-4080-8B68-46F16133E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095D-388C-487C-8631-CA96E5A164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747F-C65E-4CAE-848A-66B80226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SS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85800" y="762120"/>
            <a:ext cx="7772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UG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762120" y="762120"/>
            <a:ext cx="7619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78360"/>
            <a:ext cx="8382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U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OTH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R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95280" y="762120"/>
            <a:ext cx="6553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SS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38080" y="762120"/>
            <a:ext cx="746784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MEASURED IN PASCALS OR TOR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M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85800" y="762120"/>
            <a:ext cx="7772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TYPE OF HOLIDAYS     IN ENGLAND ARE EASTER MONDAY, WHIT MONDAY,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MONDAY IN AUGUST, AND BOXING 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02888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CAN  FOLLOW  "BLOOD"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457200" y="762120"/>
            <a:ext cx="8229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REPEATED WORD IN THE TITLE OF THE ONLY HIT BY THE FICTIONAL BAND "THE ARCHI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EAGLE, WHIPPET, SALUKI, AND BORZOI FALL INTO WHAT GROUP OF DOG BREE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09120" y="762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IS REPEATED 3 TIMES IN THE TITLE OF A 1976 HIT SONG BY ABB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WERE REMUS AND ROMULUS REL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LOR IS ASSOCIATED WITH THE PROTESTANT IRISH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ANY LARGE SHIPS HAVE NAMES THAT START WITH THE LETTERS "MV".  WHAT DOES THE "V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UBSTANCE HAS THE LARGEST HARDNESS OF ANY BULK MATERIAL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20:17:28Z</dcterms:created>
  <dc:creator>Jennifer Budzinski</dc:creator>
  <dc:description/>
  <dc:language>en-US</dc:language>
  <cp:lastModifiedBy>Erich Friedman</cp:lastModifiedBy>
  <dcterms:modified xsi:type="dcterms:W3CDTF">2020-08-25T14:00:04Z</dcterms:modified>
  <cp:revision>383</cp:revision>
  <dc:subject/>
  <dc:title>Slide 1</dc:title>
</cp:coreProperties>
</file>