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DE63-9871-4D62-A8EA-A09EC4FA2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ACB3-7057-4D1D-826F-80AFC8976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5C63-EE9A-4280-A969-710DF88A3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4939-E673-479F-9CC4-5392BB85E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ED0C-7627-4A54-97B8-5C7752B6C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FE8B-666D-462A-9D30-A1C88C851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4D10-88B5-414C-8552-2134C59CA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3219-BA27-475F-A552-BC13059CE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34E9-0F5A-46E4-AE5A-578A5490D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86E2-EC31-4809-97ED-0E046CDD4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BD60-734D-4F1D-95E0-762DBBDDC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FD9D-1D5E-48B2-AF7D-E36A95A02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99F7-A746-45AD-8D35-D053F7EAE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F2B2-5B4E-4259-85B9-998FAFE6A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627D-2E0B-4ABA-8199-647F8E0E1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31E4-7B42-4C35-BAB0-1D73A45BC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A101-B80D-459A-A901-2029D7D7A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68DC-E823-4AA6-BBCD-0E57C39BB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2AC2-423B-43FD-9B5A-00646A48C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F71D-2C6A-4AFE-8B01-3F65EE4E3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614C-C0D6-4311-883B-1D0B8F168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B997-E676-4A07-8A46-D7C0314A3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4AE4-B3B0-42AB-9CB4-11AC04BE0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HOLIDAYS      IN ENGLAND ARE EASTER MONDAY, WHIT MONDAY,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NDAY IN AUGUST, AND BOXING 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EASURED IN PASCALS OR TOR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PEATED WORD IN THE TITLE OF THE ONLY HIT BY THE FICTIONAL BAND "THE ARCH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836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AGLE, WHIPPET, SALUKI, AND BORZOI FALL INTO WHAT GROUP OF DOG BREE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4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EATED 3 TIMES IN THE TITLE OF A 1976 HIT SONG BY ABB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WERE REMUS AND ROMULUS REL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95280" y="762120"/>
            <a:ext cx="6553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ASSOCIATED WITH THE PROTESTANT IR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SS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NY LARGE SHIPS HAVE NAMES THAT START WITH THE LETTERS "MV".  WHAT DOES THE "V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EASURED IN PASCALS OR TOR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BSTANCE HAS THE LARGEST HARDNESS OF ANY BULK MATERIA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HOLIDAYS     IN ENGLAND ARE EASTER MONDAY, WHIT MONDAY,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NDAY IN AUGUST, AND BOXING 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028880" y="487692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FOLLOW  "BLOOD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PEATED WORD IN THE TITLE OF THE ONLY HIT BY THE FICTIONAL BAND "THE ARCH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AGLE, WHIPPET, SALUKI, AND BORZOI FALL INTO WHAT GROUP OF DOG BREE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1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EATED 3 TIMES IN THE TITLE OF A 1976 HIT SONG BY ABB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WERE REMUS AND ROMULUS REL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ASSOCIATED WITH THE PROTESTANT IR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NY LARGE SHIPS HAVE NAMES THAT START WITH THE LETTERS "MV".  WHAT DOES THE "V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BSTANCE HAS THE LARGEST HARDNESS OF ANY BULK MATERIAL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20:17:28Z</dcterms:created>
  <dc:creator>Jennifer Budzinski</dc:creator>
  <dc:description/>
  <dc:language>en-US</dc:language>
  <cp:lastModifiedBy>Erich Friedman</cp:lastModifiedBy>
  <dcterms:modified xsi:type="dcterms:W3CDTF">2020-08-25T14:00:04Z</dcterms:modified>
  <cp:revision>383</cp:revision>
  <dc:subject/>
  <dc:title>Slide 1</dc:title>
</cp:coreProperties>
</file>