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716-FFC1-4A15-903E-6BE57BDF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CE84-9B4A-40FA-8A66-BC435BFB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87D-D61A-4E72-8F07-34C622D5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EFD-9EA0-46DE-9E9F-EE3BB76C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8B4B-FF12-449D-9816-4F78D0B6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342-1EEC-42A4-84E7-9CD65997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F8CC-C164-4114-BAF3-5F272CB6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B969-B16E-4C5F-93AA-E6C9ED95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1A9E-45D3-4EC1-BD46-4F8B78B7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463-018C-4818-8FC7-88F581A6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AAF-B888-4A40-A57A-A657BC27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69AE-6A00-449D-B018-CB091C55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F47-598D-45DC-81DB-ADE48E20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77D2-9268-4464-A1C8-F9C2E5DB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AA0-FE6F-4E60-849D-26236572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096-4722-4247-8BC1-B71B4599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E96-444B-49E0-82A2-BEF2054F7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65E9-02B0-40A8-96BC-0BA91D47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6A7F-7442-4311-9967-7C6D4D1E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8852-37D0-4D9C-B31D-34818926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16A3-6D95-4707-9B4E-98D93FAB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3B72-C892-4C0F-A706-F8178297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7C8-2B37-4959-A3AF-87FE7C2A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S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BLOOD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1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17:28Z</dcterms:created>
  <dc:creator>Jennifer Budzinski</dc:creator>
  <dc:description/>
  <dc:language>en-US</dc:language>
  <cp:lastModifiedBy>Erich Friedman</cp:lastModifiedBy>
  <dcterms:modified xsi:type="dcterms:W3CDTF">2020-08-25T14:00:04Z</dcterms:modified>
  <cp:revision>383</cp:revision>
  <dc:subject/>
  <dc:title>Slide 1</dc:title>
</cp:coreProperties>
</file>