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D7CF-23A4-490C-B78F-1880CE9B2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58AA-42C4-4B33-8EE6-60E518685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DCB1-44A6-403D-8A4C-F8C2B93CB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82B6-64BD-4BDA-A1A5-8EB8EC876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B520-95D6-4223-8099-F59C85612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3453-C5A3-4833-88CB-3DE39C98B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0A76-27AF-41FD-96EF-60BD46C2C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6A7D-9670-420D-B745-8EE3DB6BB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ECAF-AE15-4C13-9C39-0F2ECAA61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CB12-0737-4512-BCF8-5EE39FA0D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4209A-A190-47CB-8B64-0AC7F96EA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D807-C0AF-4864-A1C6-BF66EDAE0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97EA-472F-4A0D-84AF-2185FB98A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9947-5550-4078-97DD-B8C7EF767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5B76-1133-4483-9117-3D065B666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EC06-D7E2-4CD0-A160-4223B1563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3CD4-F1C0-42A1-A4B1-B3E25CB79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3260-6B43-4D59-880E-152E86B78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432A-E71A-41CB-98E6-B8B623983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2160-92CD-45AE-ACA8-D49A21B8F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FC78-2D7D-400A-B919-1627D1401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CF4A-25A9-431B-B7E8-C02CA51DF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16FE-BD47-4E3F-A96A-88C182482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85760" y="1523880"/>
            <a:ext cx="6972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30200" y="761760"/>
            <a:ext cx="828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VOLKSWAGEN MOD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THI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OT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93760" y="762120"/>
            <a:ext cx="8556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THE BRIEFCASE HELD BY         AN AIDE-DE-CAMP OF THE PRESIDENT THAT CAN BE USED TO START A NUCLEAR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81080" y="4876920"/>
            <a:ext cx="8781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31720" y="762120"/>
            <a:ext cx="8080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ONE IN THE WORLD IS ALMOST 20 ACRES, LOCATED AT A RESORT IN CHILE.  WHAT I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68280" y="4876920"/>
            <a:ext cx="7251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ATH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12640" y="76212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USED TO HAVE THE LOGO ON THE LEFT, BEFORE THEY CHANGED IT TO THE ONE ON THE R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392040" y="4226040"/>
            <a:ext cx="2028960" cy="1301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5576760" y="4302000"/>
            <a:ext cx="3208320" cy="114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QU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84200" y="774720"/>
            <a:ext cx="817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VEGETABLE COMES IN VARIETIES WINTER, SUMMER, CARNIVAL, BANANA, BUTTERCUP, BUTTERNUT, TURBAN, AND SPAGHETT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DGE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00200" y="762120"/>
            <a:ext cx="7743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FILM STARRED VINCE VAUGHN AND BEN STILLER AS MISFITS TRYING TO SAVE THEIR LOCAL GY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I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36480" y="762120"/>
            <a:ext cx="7871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RISTOPHER CROSS SONG WAS HIS FIRST #1 H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I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23720" y="762120"/>
            <a:ext cx="8296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INSECTS HAVE VARIETIES CALLED TOBACCO, HOUSE, SAND, CAMEL, MOLE,  MORMON, FIELD, CAVE, BUSH, TREE, AND JERUSAL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14280" y="762120"/>
            <a:ext cx="8515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THE BRIEFCASE HELD BY       AN AIDE-DE-CAMP OF THE PRESIDENT THAT CAN BE USED TO START A NUCLEAR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22600" y="4876920"/>
            <a:ext cx="569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E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46240" y="762120"/>
            <a:ext cx="864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9-PART DOCUMENTARY   BY KEN BURNS IS THE MOST WATCHED SHOW ON PBS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436680" y="762120"/>
            <a:ext cx="8270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VOLKSWAGEN MOD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114480" y="4819680"/>
            <a:ext cx="8915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S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861840" y="819000"/>
            <a:ext cx="74073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THI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1880" y="761760"/>
            <a:ext cx="8220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ONE IN THE WORLD IS ALMOST 20 ACRES, LOCATED AT A RESORT IN CHILE.  WHAT IS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96800" y="762120"/>
            <a:ext cx="815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USED TO HAVE THE LOGO ON THE LEFT, BEFORE THEY CHANGED IT TO THE ONE ON THE R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81200" y="3956040"/>
            <a:ext cx="2438280" cy="1565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3992400" y="3956040"/>
            <a:ext cx="437040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762120"/>
            <a:ext cx="8353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VEGETABLE COMES IN VARIETIES WINTER, SUMMER, CARNIVAL, BANANA, BUTTERCUP, BUTTERNUT, TURBAN, AND SPAGHETT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8040" y="762120"/>
            <a:ext cx="7926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FILM STARRED VINCE VAUGHN AND BEN STILLER AS MISFITS TRYING TO SAVE THEIR LOCAL GY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4520" y="761760"/>
            <a:ext cx="7913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RISTOPHER CROSS SONG WAS HIS FIRST #1 H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INSECTS HAVE VARIETIES CALLED TOBACCO, HOUSE, SAND, CAMEL, MOLE,  MORMON, FIELD, CAVE, BUSH, TREE, AND JERUSAL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14200" y="762120"/>
            <a:ext cx="8715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9-PART DOCUMENTARY   BY KEN BURNS IS THE MOST WATCHED SHOW ON PBS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9-16T17:51:33Z</dcterms:modified>
  <cp:revision>544</cp:revision>
  <dc:subject/>
  <dc:title>Slide 1</dc:title>
</cp:coreProperties>
</file>