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C157-D6D6-4F78-B77C-39CF3FA1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3BB-1B31-4175-B859-DAB527FA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8D34-BD2F-48C9-8FB2-BFB2797D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9FE7-7214-4250-AE1F-8C5100493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D249-1BD5-42C1-9748-14AEABD1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09E-4FD0-425B-A1C3-6EF2852F4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B19-8841-4BB4-A8D8-1A3B7200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C69-BE44-4EB7-8590-F8E2A589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700A-7A9D-45E7-86FB-080E6D2B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4D3-9A7E-4CA6-A9C1-7C5E36265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7E6-06D2-407B-85C4-ABD114E3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D18-5454-406E-A553-5C6E0BFF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8CEE-2753-40E6-898E-CF536AAD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D008-0476-4FE4-A19F-91613C25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3EF-2A86-4B67-967B-4F3AB11B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CE9E-9415-4554-9FD3-B96F617B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B85-99C7-436F-94FA-7F713ADF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47F5-4923-498C-8A46-58FB91311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A4B-4549-43EB-AC2E-3C183754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4EB-C8AF-4990-B5EF-D2DF101A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AEB-E4D2-4E0C-9236-BA960523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E04-39CB-4F31-B96F-35D0BD5A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803A-C441-4198-B1AB-E76A6AB1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152388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VOLKSWAGEN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3760" y="762120"/>
            <a:ext cx="855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HE BRIEFCASE HELD BY         AN AIDE-DE-CAMP OF THE PRESIDENT THAT CAN BE USED TO START A NUCLEAR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81080" y="4876920"/>
            <a:ext cx="8781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1720" y="762120"/>
            <a:ext cx="808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ONE IN THE WORLD IS ALMOST 20 ACRES, LOCATED AT A RESORT IN CHILE. 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68280" y="4876920"/>
            <a:ext cx="7251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264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USED TO HAVE THE LOGO ON THE LEFT, BEFORE THEY CHANGED IT TO THE ONE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92040" y="4226040"/>
            <a:ext cx="202896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576760" y="4302000"/>
            <a:ext cx="320832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84200" y="774720"/>
            <a:ext cx="817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GETABLE COMES IN VARIETIES WINTER, SUMMER, CARNIVAL, BANANA, BUTTERCUP, BUTTERNUT, TURBAN, AND SPAGHET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0200" y="762120"/>
            <a:ext cx="77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VINCE VAUGHN AND BEN STILLER AS MISFITS TRYING TO SAVE THEIR LOCAL G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OPHER CROSS SONG WAS HIS FIRST #1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INSECTS HAVE VARIETIES CALLED TOBACCO, HOUSE, SAND, CAMEL, MOLE,  MORMON, FIELD, CAVE, BUSH, TREE, AND JERUSA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HE BRIEFCASE HELD BY       AN AIDE-DE-CAMP OF THE PRESIDENT THAT CAN BE USED TO START A NUCLEAR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22600" y="4876920"/>
            <a:ext cx="569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6240" y="762120"/>
            <a:ext cx="864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9-PART DOCUMENTARY   BY KEN BURNS IS THE MOST WATCHED SHOW ON PB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VOLKSWAGEN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196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861840" y="819000"/>
            <a:ext cx="7407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ONE IN THE WORLD IS ALMOST 20 ACRES, LOCATED AT A RESORT IN CHILE.  WHAT I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6800" y="762120"/>
            <a:ext cx="815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USED TO HAVE THE LOGO ON THE LEFT, BEFORE THEY CHANGED IT TO THE ONE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1200" y="3956040"/>
            <a:ext cx="2438280" cy="156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3992400" y="3956040"/>
            <a:ext cx="43704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GETABLE COMES IN VARIETIES WINTER, SUMMER, CARNIVAL, BANANA, BUTTERCUP, BUTTERNUT, TURBAN, AND SPAGHET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8040" y="762120"/>
            <a:ext cx="792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VINCE VAUGHN AND BEN STILLER AS MISFITS TRYING TO SAVE THEIR LOCAL G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4520" y="761760"/>
            <a:ext cx="7913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OPHER CROSS SONG WAS HIS FIRST #1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INSECTS HAVE VARIETIES CALLED TOBACCO, HOUSE, SAND, CAMEL, MOLE,  MORMON, FIELD, CAVE, BUSH, TREE, AND JERUSA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4200" y="762120"/>
            <a:ext cx="8715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9-PART DOCUMENTARY   BY KEN BURNS IS THE MOST WATCHED SHOW ON PB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16T17:51:33Z</dcterms:modified>
  <cp:revision>544</cp:revision>
  <dc:subject/>
  <dc:title>Slide 1</dc:title>
</cp:coreProperties>
</file>