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435B-8EFE-43F9-8863-E14618039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D308-435D-4B3E-BECD-11001DC21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A4A1-EE5E-4505-BD66-71E20CF47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C64B-3731-4D06-B231-CB8EBD4D9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A019-EA71-4D2A-B97D-F6F7CD900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91A5-349F-4CA4-BDBA-D0D8C4E8F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76EF-45E2-4D7F-B649-B5ACD4881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FA79-EF5E-4597-A717-49D23EE2B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3750-5DB5-4CEC-B26F-E24CD5536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D438-F941-4E92-948E-EA629ED05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B5F4-5F3E-463D-80FE-4E2511A12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6EAA-E43F-46E0-A35E-6850061F8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1571-6406-4518-829F-ACAD6910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BB39-0C2A-44E0-BCAB-8F154F05F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02FD-7556-4168-9A81-BCA269669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F41E-1658-4E90-9B99-AD2E5034C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B15F-58F8-4BB0-ABC7-15099B4B9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9189-9E2B-44E4-B736-0DC05DA26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AFB9-F875-4E97-AAF6-0DDDF26B5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C14F-F95E-460E-80A2-7B7E435D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CE64-692C-4FEA-BB83-10ACDD532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9FE3-E167-4269-BD1B-A3DD02E2C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85E9-C885-4386-BBAA-D5FD47F87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TE IN LIFE, HOLLYWOOD DIRECTORS JOHN FORD, RAOUL WALSH, NICHOLAS RAY, AND FRITZ LANG ALL WORE WHAT TRADEMARK I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BEGINS THE FEWEST ENGLISH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ENGTH EXERCISE INVOLVES MAINTAINING THE POSITION OF ONLY TOES AND FOREARMS ON THE GR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B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UFFALO'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FL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23880" y="771480"/>
            <a:ext cx="614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INSECTICIDE BRAND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R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NLY BIRDS IN THE WORLD THAT EAT WITH THEIR F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DANCE HIT'S VIDEO DO JENNIFER LOPEZ AND IGGY AZALEA BOTH SHAKE THE TITLE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D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8640" y="762120"/>
            <a:ext cx="7686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SLEY KERCHIEF GETS ITS NAME FROM THE HINDI WORD "BĀNDHNŪ", MEANING "TIE-DYE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0840" y="762120"/>
            <a:ext cx="884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BEGINS THE FEWEST ENGLISH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MUSICAL RIFF OR PHRASE USED TO "CATCH THE EAR OF THE LISTEN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P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01760" y="762120"/>
            <a:ext cx="8339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TE IN LIFE, HOLLYWOOD DIRECTORS JOHN FORD, RAOUL WALSH, NICHOLAS RAY, AND FRITZ LANG ALL WORE WHAT TRADEMARK I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00600"/>
            <a:ext cx="878544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ASSOCIATED  WITH  PI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ENGTH EXERCISE INVOLVES MAINTAINING THE POSITION OF ONLY TOES AND FOREARMS ON THE GR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UFFALO'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94000" y="762120"/>
            <a:ext cx="615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INSECTICIDE BRAND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7800" y="762120"/>
            <a:ext cx="7448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NLY BIRDS IN THE WORLD THAT EAT WITH THEIR F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DANCE HIT'S VIDEO DO JENNIFER LOPEZ AND IGGY AZALEA BOTH SHAKE THE TITLE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SLEY KERCHIEF GETS ITS NAME FROM THE HINDI WORD "BĀNDHNŪ", MEANING "TIE-DYE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MUSICAL RIFF OR PHRASE USED TO "CATCH THE EAR OF THE LISTEN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9-16T17:53:47Z</dcterms:modified>
  <cp:revision>414</cp:revision>
  <dc:subject/>
  <dc:title>Slide 1</dc:title>
</cp:coreProperties>
</file>