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11C2-6822-4810-BB5C-C5C2F8A3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E354-16C4-4A74-A04C-02B988F8B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25B1-22B9-49FA-A377-C30D74BE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C21-7918-4308-B850-E86496BFF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370D-6DBB-41BD-936F-1348B7A6E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4048-6ABF-44CD-A3A6-15FFBFE2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5C8F-D8BF-4F97-818A-A53952AF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A3BD-995D-4684-9771-B00214C6E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AFE9-6F4D-4A0E-85FC-499E3316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469E-35D2-4EEF-8CBC-AC8FFF492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7CCB-2350-479F-9343-56F096491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699-2CDE-48F0-9F8D-4A5C8648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C6E6-2954-4E93-B06C-B7AE06AD7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58973-A025-403A-BAB4-2472E3EFD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54BD-BBAD-4133-94A1-B50AE3EE5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F7E1-EF4A-4473-8E0B-D74081020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579C-B87E-4B28-801E-C82BACC5E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D965-3C0F-4436-B36C-2685CFBF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24C4-DBA6-4743-8BA9-FF38E67B0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37A1-9F17-43F7-8BE8-8F491736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FFDB-BB55-4397-95E3-3537E5AD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6185-5BA2-4860-AF10-EEBB84EF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247-9925-4EBA-B8A3-BE281ED1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TE IN LIFE, HOLLYWOOD DIRECTORS JOHN FORD, RAOUL WALSH, NICHOLAS RAY, AND FRITZ LANG ALL WORE WHAT TRADEMARK I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BEGINS THE FEWEST ENGLISH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NGTH EXERCISE INVOLVES MAINTAINING THE POSITION OF ONLY TOES AND FOREARMS ON THE G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UFFAL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3880" y="771480"/>
            <a:ext cx="614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INSECTICIDE BRAND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R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19000" y="762120"/>
            <a:ext cx="750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BIRDS IN THE WORLD THAT EAT WITH THEIR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1800" y="762120"/>
            <a:ext cx="842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DANCE HIT'S VIDEO DO JENNIFER LOPEZ AND IGGY AZALEA BOTH SHAKE THE TITLE O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D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8640" y="762120"/>
            <a:ext cx="768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SLEY KERCHIEF GETS ITS NAME FROM THE HINDI WORD "BĀNDHNŪ", MEANING "TIE-DYE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TTER BEGINS THE FEWEST ENGLISH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USICAL RIFF OR PHRASE USED TO "CATCH THE EAR OF THE LISTEN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P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01760" y="762120"/>
            <a:ext cx="8339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TE IN LIFE, HOLLYWOOD DIRECTORS JOHN FORD, RAOUL WALSH, NICHOLAS RAY, AND FRITZ LANG ALL WORE WHAT TRADEMARK I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00600"/>
            <a:ext cx="878544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ASSOCIATED  WITH  PI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NGTH EXERCISE INVOLVES MAINTAINING THE POSITION OF ONLY TOES AND FOREARMS ON THE G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UFFALO'S NHL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94000" y="762120"/>
            <a:ext cx="615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INSECTICIDE BRAND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BIRDS IN THE WORLD THAT EAT WITH THEIR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4 DANCE HIT'S VIDEO DO JENNIFER LOPEZ AND IGGY AZALEA BOTH SHAKE THE TITLE O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SLEY KERCHIEF GETS ITS NAME FROM THE HINDI WORD "BĀNDHNŪ", MEANING "TIE-DYE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A MUSICAL RIFF OR PHRASE USED TO "CATCH THE EAR OF THE LISTEN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9-16T17:53:47Z</dcterms:modified>
  <cp:revision>414</cp:revision>
  <dc:subject/>
  <dc:title>Slide 1</dc:title>
</cp:coreProperties>
</file>