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DD33-21A8-4BDD-9551-0E207F14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8B8-14C1-455D-8ABF-671932BF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17EC-65C5-4D66-8B32-0160ABC0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535-8FEB-4730-99D3-35FF9981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4D8-DBE4-43AA-A868-319A9DCF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1275-E89F-40C5-BD1A-DF9209C2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D3D-985F-48AC-A23E-9A330B46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FE2-1881-438D-AC8C-A992BF5F0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ACA5-44FB-48A8-BADE-193F0BE6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4D91-617E-4B24-B549-5D626C70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D2E6-E92C-459E-8DCE-19B9761C3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FC26-C4A8-4904-A93E-27CF29FC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9968-5B7B-4310-BD32-D98CB702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171F-4890-44C6-9047-A41ACEBA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87F-4BCA-4290-9968-388A815B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8C3D-5D8D-498A-AFB2-877F298D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BAAB-7293-4A8D-BEFC-B2F070DE3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FF0F-6564-471E-9090-BEDCEA53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9E1D-B23B-4B97-AA0E-CD9ED0BC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C2BF-56BD-4666-82B4-3778819D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D743-3DFA-4F25-A6BB-3D744D08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5002-80D7-4654-87A0-2175FC9C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F7A5-B917-4A73-A4D3-F3305499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06C5-B228-4D4F-A269-C49B2312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F=ma,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77720" y="762120"/>
            <a:ext cx="8188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 3-LETTER WORD THAT BEGINS NAMES OF U.S.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  (HI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7160" y="762120"/>
            <a:ext cx="868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SERVED AS WHITE HOUSE COMMUNICATION DIRECTOR AFTER SEAN SPICER AND ANTHONY SCARAMUC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03440" y="762120"/>
            <a:ext cx="773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A MAC KEYBOARD DOES THE SAME THING AS THE "ENTER" KEY ON A PC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17560" y="762120"/>
            <a:ext cx="750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5 ABC SERIES WAS INSPIRED BY "THE COUNT OF MONTE CRISTO" AND WAS SPELLED WITH AN "8" INSTEAD OF A "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33360" y="762120"/>
            <a:ext cx="667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GAME OF BOWLING, WHAT CAN THERE BE NO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84320" y="762120"/>
            <a:ext cx="877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ON THIS FOOTBALL JERSEY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308400" y="2666880"/>
            <a:ext cx="2527200" cy="22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11200" y="762120"/>
            <a:ext cx="812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ABOUT A HIGH SCHOOL THEATER PROGRAM STARRING JOSH RADNOR WAS CANCELED AFTER ONE SEASON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 3-LETTER WORD THAT BEGINS NAMES OF U.S. C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7480" y="762120"/>
            <a:ext cx="7709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ERIES WITH AN ALMOST ENTIRELY BLACK CAST CENTERED ON THE CONTROL OF A HIP 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F=ma,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57440" y="4419720"/>
            <a:ext cx="5829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"STAR  WARS"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SERVED AS WHITE HOUSE COMMUNICATION DIRECTOR AFTER SEAN SPICER AND ANTHONY SCARAMUC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A MAC KEYBOARD DOES THE SAME THING AS THE "ENTER" KEY ON A PC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5 ABC SERIES WAS INSPIRED BY "THE COUNT OF MONTE CRISTO" AND WAS SPELLED WITH AN "8" INSTEAD OF A "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GAME OF BOWLING, WHAT CAN THERE BE NO MORE THAN 12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ON THIS FOOTBALL JERSEY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308400" y="2666880"/>
            <a:ext cx="252720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5800" y="761760"/>
            <a:ext cx="831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ABOUT A HIGH SCHOOL THEATER PROGRAM STARRING JOSH RADNOR  WAS CANCELED AFTER ONE SEASON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ERIES WITH AN ALMOST ENTIRELY BLACK CAST CENTERED ON THE CONTROL OF A HIP HOP MUSIC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10-13T12:52:47Z</dcterms:modified>
  <cp:revision>454</cp:revision>
  <dc:subject/>
  <dc:title>Slide 1</dc:title>
</cp:coreProperties>
</file>