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29E-5478-40F5-B15C-6884075B9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9BD-BC45-44FD-A3B4-81ECD5045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8665-6965-49BE-8CB5-ECD2D5B76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DED2-62A9-4F3F-B6F7-3411DC0B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203-747F-4FC1-82A2-A76DEA902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70D4-9765-4859-A68F-65AF26960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77A-8FDC-47EF-87A6-A318BD7F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435A-A323-4BB1-A1FC-EF888B91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01E5-2242-4CD2-A0A8-19C78D25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7E1D-DA84-45F2-83C4-86D53D06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FA2F-16A3-4101-80C3-EBF3CE05A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8132-6FEB-45D1-A978-1E7D5DC1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4363-59E5-4218-ACDC-3251393D8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3A4-3BAA-46BE-B8FF-FCAEC462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4E36-87A0-43D2-962C-A456F239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A06B-A463-493B-AB6A-E1FACCF5B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EC460-2194-4E02-9D2D-039459BE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8423-4547-4A15-9FFD-68766338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71C6-E4B7-4042-A1F2-5BD16FE1F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8E35-A515-4081-9D6A-87E9DA44D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8BB8-0C00-4EE3-BDFD-47DD8E57D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97AC-4535-4587-A623-32F6598D4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EFDD-7862-4328-8E4E-0A8FAE7A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95C2-F3CC-4DA0-8FAE-9D69F48A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F=ma, WHAT DOES THE "F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77720" y="762120"/>
            <a:ext cx="8188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 3-LETTER WORD THAT BEGINS NAMES OF U.S. C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666880" y="4952880"/>
            <a:ext cx="3810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  (HI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27160" y="762120"/>
            <a:ext cx="868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SERVED AS WHITE HOUSE COMMUNICATION DIRECTOR AFTER SEAN SPICER AND ANTHONY SCARAMUC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03440" y="762120"/>
            <a:ext cx="773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A MAC KEYBOARD DOES THE SAME THING AS THE "ENTER" KEY ON A PC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17560" y="762120"/>
            <a:ext cx="750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5 ABC SERIES WAS INSPIRED BY "THE COUNT OF MONTE CRISTO" AND WAS SPELLED WITH AN "8" INSTEAD OF A "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33360" y="762120"/>
            <a:ext cx="667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GAME OF BOWLING, WHAT CAN THERE BE NO MORE THAN 12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(JUD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84320" y="762120"/>
            <a:ext cx="877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ON THIS FOOTBALL JERSEY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3308400" y="2666880"/>
            <a:ext cx="2527200" cy="22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ABOUT A HIGH SCHOOL THEATER PROGRAM STARRING JOSH RADNOR WAS CANCELED AFTER ONE SEASON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 3-LETTER WORD THAT BEGINS NAMES OF U.S. C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7480" y="762120"/>
            <a:ext cx="7709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ERIES WITH AN ALMOST ENTIRELY BLACK CAST CENTERED ON THE CONTROL OF A HIP 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ORMULA F=ma, WHAT DOES THE "F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57440" y="4419720"/>
            <a:ext cx="5829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S  IN  TITLES  OF  "STAR  WARS"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WOMAN WHO SERVED AS WHITE HOUSE COMMUNICATION DIRECTOR AFTER SEAN SPICER AND ANTHONY SCARAMUC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A MAC KEYBOARD DOES THE SAME THING AS THE "ENTER" KEY ON A PC KEYBO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-2015 ABC SERIES WAS INSPIRED BY "THE COUNT OF MONTE CRISTO" AND WAS SPELLED WITH AN "8" INSTEAD OF A "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GAME OF BOWLING, WHAT CAN THERE BE NO MORE THAN 12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ON THIS FOOTBALL JERSEY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3308400" y="2666880"/>
            <a:ext cx="2527200" cy="22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5800" y="761760"/>
            <a:ext cx="831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ERIES ABOUT A HIGH SCHOOL THEATER PROGRAM STARRING JOSH RADNOR  WAS CANCELED AFTER ONE SEASON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-2020 FOX SERIES WITH AN ALMOST ENTIRELY BLACK CAST CENTERED ON THE CONTROL OF A HIP HOP MUSIC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52:47Z</dcterms:modified>
  <cp:revision>454</cp:revision>
  <dc:subject/>
  <dc:title>Slide 1</dc:title>
</cp:coreProperties>
</file>