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144F-E1FC-4898-A392-0943B385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A780-3729-41F3-BFCF-A14B3FA06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80F1-05D0-4469-A436-BE8D1CF9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F422-FDF6-44EE-9EC0-00CBAC1B6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8E2A-44E2-4F85-A370-6583753A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6CE3-629F-4B81-8222-ECE94E7BE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0D63-8F7B-49CA-8ED4-60E3D58A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AF2F-5FF5-4FAE-9F19-8FE3F0E75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720A-4656-4B9C-9A4A-141721CB0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DAB5-9476-4804-B292-9D9EFFD5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B134-A407-4670-9219-1AC1F65C2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7236-D5CA-491F-B20D-6B97F0D5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DC86-DAB8-4BDD-9CF5-7C7263037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7113-7585-4F46-A78F-F0B49D5B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29C5-4CD3-45EF-9DDA-0CDCF50F3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CD2F-236D-4595-ABB1-980EEED9B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6932-83CA-42A3-9A45-73BEC07C8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A84D-A54F-4E08-B2BB-5F74CDFE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F1CA-DE1B-48AE-B2B5-437A6A89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8379-A321-48DD-9CB8-0AB7AEDB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AAAB-E531-4DAD-AE1B-69727729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3FAD-A8FD-4779-B15C-B29E891F9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AEBB-E54F-46C1-8DE2-51EAC0D00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0520" y="761760"/>
            <a:ext cx="856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FFERSON AIRPLANE    HIT SONG STARTS WITH THE LYRICS "WHEN THE TRUTH IS FOUND TO BE LIES AND ALL THE JOY WITHIN YOU D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OW  MUST  GO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3200" y="762120"/>
            <a:ext cx="8877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HRASE MEANING "KEEP GOING" ORIGINATED IN THE CIRCUS, AND WAS SAID BY HUGH JACKMAN WHILE PORTRAYING P.T. BARNUM   IN "THE GREATEST SHOWMA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AR  (LI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22200" y="762120"/>
            <a:ext cx="849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 OF THE 1997 JIM CARREY FILM WITH TAG LINE "TRUST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55520" y="762120"/>
            <a:ext cx="7031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DID COMEDIAN JACK BENNY CLAIM TO BE FOR OVER 4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9360" y="762120"/>
            <a:ext cx="804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EVER SPOKEN BY THE RAVEN IN A FAMOUS POE PO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  SAVE  THE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69920" y="762120"/>
            <a:ext cx="8802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ANTHEM OF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IL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76200" y="762120"/>
            <a:ext cx="8389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EBREW BIBLE, WHAT WAS THE NAME OF SAMPSON'S LOVER WHO BETRAY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CYCLE  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TOUR DE FR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6840" y="762120"/>
            <a:ext cx="894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HRASE MEANING "KEEP GOING" ORIGINATED IN THE CIRCUS, AND WAS SAID BY HUGH JACKMAN WHILE PORTRAYING P.T. BARNUM   IN "THE GREATEST SHOWMA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4800" y="762120"/>
            <a:ext cx="847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CHESS NOTATION, WHAT PIECE STARTS ON SQUARE D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BODY  TO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66840" y="762120"/>
            <a:ext cx="8427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FFERSON AIRPLANE    HIT SONG STARTS WITH THE LYRICS "WHEN THE TRUTH IS FOUND TO BE LIES AND ALL THE JOY WITHIN YOU D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47640" y="4952880"/>
            <a:ext cx="7848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SONGS  BY 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8040" y="761760"/>
            <a:ext cx="846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REPEATED TWICE IN THE TITLE OF THE 1997 JIM CARREY FILM WITH TAG LINE "TRUST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76400" y="762120"/>
            <a:ext cx="6991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DID COMEDIAN JACK BENNY CLAIM TO BE FOR OVER 4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ORD EVER SPOKEN BY THE RAVEN IN A FAMOUS POE PO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3160" y="761760"/>
            <a:ext cx="8797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ATIONAL ANTHEM OF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4520" y="761760"/>
            <a:ext cx="8454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HEBREW BIBLE, WHAT WAS THE NAME OF SAMPSON'S LOVER WHO BETRAY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5120" y="761760"/>
            <a:ext cx="8753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"TOUR DE FR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CHESS NOTATION, WHAT PIECE STARTS ON SQUARE D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10-13T12:54:44Z</dcterms:modified>
  <cp:revision>496</cp:revision>
  <dc:subject/>
  <dc:title>Slide 1</dc:title>
</cp:coreProperties>
</file>