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DB6-5188-40C7-8DE7-61DAE6B29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A6AF-2A37-44CF-B721-019AB4B0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7204-DC3D-417B-837C-5A76EE2C5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B41-AD75-41B6-A06B-B9885EAF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0BD2-3BCD-4306-8DDF-DA01D584A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036F-5B39-4090-B866-6ED08F50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6B1-C8E7-467B-A914-40EFA76C7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0294-8ED7-45AF-B295-C013FEB0C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1A74-055E-4245-962F-056636587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AF67-079E-4C23-9622-E65D0677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3710-3821-44A3-BAAD-E48EC155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D90A-2F73-417F-98C5-C39A8B58F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7FF-D438-4009-A530-B96A46D5C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C85-A4BB-4A6F-95E0-9C8A98FA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897-72E5-4B92-98A5-2039A78F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EB1-40E6-49A5-8DE3-D594416F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B26A-D8D1-4609-A2CB-F3D1A456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943-817C-4AC8-804C-3BC2BDC4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C57-9851-43DB-A2CE-744C7C02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FBF5-28D1-47A2-A97A-227A0002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40C-3137-4AFA-90EC-C9553D9F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6A9-EA87-4656-92AC-7B3B25B5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3888-50EA-4E3F-86F1-1492B2AEF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FFERSON AIRPLANE    HIT SONG STARTS WITH THE LYRICS "WHEN THE TRUTH IS FOUND TO BE LIES AND ALL THE JOY WITHIN YOU D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OW  MUST  GO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3200" y="762120"/>
            <a:ext cx="887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HRASE MEANING "KEEP GOING" ORIGINATED IN THE CIRCUS, AND WAS SAID BY HUGH JACKMAN WHILE PORTRAYING P.T. BARNUM   IN "THE GREATEST SHOWMA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AR  (LI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2200" y="762120"/>
            <a:ext cx="849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 OF THE 1997 JIM CARREY FILM WITH TAG LINE "TRUST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DID COMEDIAN JACK BENNY CLAIM TO BE FOR OVER 4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9360" y="762120"/>
            <a:ext cx="804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EVER SPOKEN BY THE RAVEN IN A FAMOUS POE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  SAVE  THE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69920" y="762120"/>
            <a:ext cx="8802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ANTHEM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IL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76200" y="762120"/>
            <a:ext cx="8389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EBREW BIBLE, WHAT WAS THE NAME OF SAMPSON'S LOVER WHO BETRAY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CYCLE  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TOUR DE FR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4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HRASE MEANING "KEEP GOING" ORIGINATED IN THE CIRCUS, AND WAS SAID BY HUGH JACKMAN WHILE PORTRAYING P.T. BARNUM   IN "THE GREATEST SHOWMA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CHESS NOTATION, WHAT PIECE STARTS ON SQUARE D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BODY  TO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66840" y="762120"/>
            <a:ext cx="8427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FFERSON AIRPLANE    HIT SONG STARTS WITH THE LYRICS "WHEN THE TRUTH IS FOUND TO BE LIES AND ALL THE JOY WITHIN YOU D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ONGS  BY 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8040" y="761760"/>
            <a:ext cx="846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 OF THE 1997 JIM CARREY FILM WITH TAG LINE "TRUST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DID COMEDIAN JACK BENNY CLAIM TO BE FOR OVER 4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EVER SPOKEN BY THE RAVEN IN A FAMOUS POE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3160" y="761760"/>
            <a:ext cx="8797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ANTHEM OF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4520" y="761760"/>
            <a:ext cx="8454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EBREW BIBLE, WHAT WAS THE NAME OF SAMPSON'S LOVER WHO BETRAY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5120" y="761760"/>
            <a:ext cx="8753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TOUR DE FR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CHESS NOTATION, WHAT PIECE STARTS ON SQUARE D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10-13T12:54:44Z</dcterms:modified>
  <cp:revision>496</cp:revision>
  <dc:subject/>
  <dc:title>Slide 1</dc:title>
</cp:coreProperties>
</file>