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9469-13F2-4CA3-9170-0E2B3E1FA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7151-8874-4B2B-9B35-D6DE8D8F0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B4D4-02A3-4B6B-9666-2D122DD5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C55B-4297-4C49-A573-5D53F5108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28B9-8E5F-49BD-A319-477DA8EC4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B769-1B39-42DF-84DE-1E5BC0E73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AE1E-7A2D-476C-BBAD-75A86BAAE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9FE9-3362-4C5A-922D-40B5B51F1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FD38-A886-4078-BBF1-E3678B64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636C-235E-434D-98CA-5CDB1A0D4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2DBF-A0ED-4825-B244-E62D3B733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5D9F-3E92-4AE1-8374-9EB4CB32D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1C66-A2A6-48FF-872F-E60ACCF51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11F3-4F12-4798-A263-DDF3B5C28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7F11-FAAD-456A-8598-D75F9516D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A90A-38E7-45D0-982B-049E98858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4A3C-F84E-49AE-BC98-F5FC728E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294A-134F-4A8D-AE8D-87C12786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2571-1D8F-4BF6-83BB-7DC63FC2A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C7AE-64DE-4CB1-9333-45A20BB40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E0F5-F768-4896-8EAE-F02B26E0B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ADF5-C3A3-43D5-95CE-608606E8E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4E56-CC8A-4833-B2F8-A321ED46D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RUNNING FOR A SENATE SEAT IN 2010, WHAT DID CHRISTINE O'DONNELL FAMOUSLY DENY BEING      IN A CAMPAIGN 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68580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42840" y="762120"/>
            <a:ext cx="7258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2006 DOCUMENTARY FILM ABOUT COMPETITIVE CROSSWORD SOL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HIT SONG "WHITE ROOM", WHICH IS ACTUALLY ABOUT A WHITE-PAINTED GREEN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28600" y="762120"/>
            <a:ext cx="68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PIECE IN CHESS HAS A MAXIMUM OF 4 DIFFERENT MOVES NO MATTER WHERE IT   IS ON THE 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MP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    WAS DIZZY GILLESPIE FAMOUS FOR PLAY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OSCAR WILDE QUOTE: "____ IS NOT AT ALL   A BAD BEGINNING FOR A FRIENDSHIP, AND IT IS BY FAR THE BEST ENDING FOR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03440" y="762120"/>
            <a:ext cx="773712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MASS, WHAT IS THE LARGEST INTERNAL ORGAN IN THE HUMAN BOD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3360" y="762120"/>
            <a:ext cx="847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1999 FILM DOES MATTHEW BRODERICK PLAY A HIGH    SCHOOL TEACHER, AND REESE WITHERSPOON PLAY A STUDENT RUNNING FOR STUDENT COUNCI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9880" y="762120"/>
            <a:ext cx="7462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2006 DOCUMENTARY FILM ABOUT COMPETITIVE CROSSWORD SOLV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81040" y="762120"/>
            <a:ext cx="798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ATIONSHIP IS JUDY GARLAND TO LIZA MINNEL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7136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23960" y="762120"/>
            <a:ext cx="765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RUNNING FOR A SENATE SEAT IN 2010, WHAT DID CHRISTINE O'DONNELL FAMOUSLY DENY BEING      IN A CAMPAIGN 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09480" y="43434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STILL  WORDS  IF  YOU  ADD  "S"  TO  THE  STAR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60948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HIT SONG "WHITE ROOM", WHICH IS ACTUALLY ABOUT A WHITE-PAINTED GREEN RO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23920" y="762120"/>
            <a:ext cx="689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PIECE IN CHESS HAS A MAXIMUM OF 4 DIFFERENT MOVES NO MATTER WHERE IT   IS ON THE 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    WAS DIZZY GILLESPIE FAMOUS FOR PLAY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OSCAR WILDE QUOTE: "____ IS NOT AT ALL   A BAD BEGINNING FOR A FRIENDSHIP, AND IT IS BY FAR THE BEST ENDING FOR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MASS, WHAT IS THE LARGEST INTERNAL ORGAN IN THE HUMAN BOD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1999 FILM DOES MATTHEW BRODERICK PLAY A HIGH   SCHOOL TEACHER, AND REESE WITHERSPOON PLAY A STUDENT RUNNING FOR STUDENT COUNCI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ATIONSHIP IS JUDY GARLAND TO LIZA MINNEL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2-09-16T18:11:17Z</dcterms:modified>
  <cp:revision>360</cp:revision>
  <dc:subject/>
  <dc:title>Slide 1</dc:title>
</cp:coreProperties>
</file>