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73B2-7F88-4EAD-9F60-47F857102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B71E-5750-4A10-8FCF-3A4FA05E8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F930-D9A3-4966-8764-7BEE2A640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5BED-B0D2-485A-99EB-52C59DF55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3AA3-BE6F-4776-B2C7-DEF0441CB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D07D-1BEB-482C-B574-4B2FE395E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EA74-27D9-478F-B3E3-817623BE5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22DC-FF17-430C-B76A-B6767C03F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B23E-A352-40FA-9B22-DB9392C9E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CFD5-34AE-44BF-A19A-3B0B4936D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D67D-EFAB-4841-9AAC-6455BAC42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8515-F41A-43BF-990F-F40C0BC25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32AF-3EE0-4B4F-B5EA-39DEB072F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2B51-F877-40D7-9D4D-997EE4CBA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33FD-0359-42B3-BAA9-3CACC931C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30AF-7583-4ED5-A01E-BFC0F6D39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7710-31FA-452F-AC4F-0770EBE72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6257-37EC-4281-BC4D-5EFADD610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5D49-7033-401D-BADD-5402CD093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E214-3E84-47B2-A09A-3EDF66B0B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F093-853B-4D7E-8DF3-A395F13D0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2477-A32A-4C94-9E88-B4542ADDB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6027-1B05-438B-B75C-4F458D594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RUNNING FOR A SENATE SEAT IN 2010, WHAT DID CHRISTINE O'DONNELL FAMOUSLY DENY BEING      IN A CAMPAIGN 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68580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42840" y="762120"/>
            <a:ext cx="7258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2006 DOCUMENTARY FILM ABOUT COMPETITIVE CROSSWORD SOLV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HIT SONG "WHITE ROOM", WHICH IS ACTUALLY ABOUT A WHITE-PAINTED GREEN 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28600" y="762120"/>
            <a:ext cx="68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PIECE IN CHESS HAS A MAXIMUM OF 4 DIFFERENT MOVES NO MATTER WHERE IT   IS ON THE BO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MP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    WAS DIZZY GILLESPIE FAMOUS FOR PLAY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GH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IS OSCAR WILDE QUOTE: "____ IS NOT AT ALL   A BAD BEGINNING FOR A FRIENDSHIP, AND IT IS BY FAR THE BEST ENDING FOR O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03440" y="762120"/>
            <a:ext cx="773712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MASS, WHAT IS THE LARGEST INTERNAL ORGAN IN THE HUMAN BOD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33360" y="762120"/>
            <a:ext cx="8477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WHAT 1999 FILM DOES MATTHEW BRODERICK PLAY A HIGH    SCHOOL TEACHER, AND REESE WITHERSPOON PLAY A STUDENT RUNNING FOR STUDENT COUNCI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39880" y="762120"/>
            <a:ext cx="7462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2006 DOCUMENTARY FILM ABOUT COMPETITIVE CROSSWORD SOLV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81040" y="762120"/>
            <a:ext cx="7981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ATIONSHIP IS JUDY GARLAND TO LIZA MINNELL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7136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23960" y="762120"/>
            <a:ext cx="7657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RUNNING FOR A SENATE SEAT IN 2010, WHAT DID CHRISTINE O'DONNELL FAMOUSLY DENY BEING      IN A CAMPAIGN 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09480" y="4343400"/>
            <a:ext cx="7925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STILL  WORDS  IF  YOU  ADD  "S"  TO  THE  STAR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609480"/>
            <a:ext cx="8077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HIT SONG "WHITE ROOM", WHICH IS ACTUALLY ABOUT A WHITE-PAINTED GREEN RO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23920" y="762120"/>
            <a:ext cx="6896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PIECE IN CHESS HAS A MAXIMUM OF 4 DIFFERENT MOVES NO MATTER WHERE IT   IS ON THE BO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    WAS DIZZY GILLESPIE FAMOUS FOR PLAY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IS OSCAR WILDE QUOTE: "____ IS NOT AT ALL   A BAD BEGINNING FOR A FRIENDSHIP, AND IT IS BY FAR THE BEST ENDING FOR O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09560" y="761760"/>
            <a:ext cx="7724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MASS, WHAT IS THE LARGEST INTERNAL ORGAN IN THE HUMAN BOD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14280" y="761760"/>
            <a:ext cx="8515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WHAT 1999 FILM DOES MATTHEW BRODERICK PLAY A HIGH   SCHOOL TEACHER, AND REESE WITHERSPOON PLAY A STUDENT RUNNING FOR STUDENT COUNCIL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23800" y="762120"/>
            <a:ext cx="8096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ATIONSHIP IS JUDY GARLAND TO LIZA MINNELL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2-09-16T18:11:17Z</dcterms:modified>
  <cp:revision>360</cp:revision>
  <dc:subject/>
  <dc:title>Slide 1</dc:title>
</cp:coreProperties>
</file>