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E2A0-6238-440E-A652-831000583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A639-CFDC-4278-8BDC-1C5907235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3178-01CB-43D2-952B-19DD3C907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25BD-2387-402E-BA68-BD0DF77A4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F8ED-3AD7-4B2B-88C1-373D60470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870B-0B8E-46D0-AA1F-26C893781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2F6D-75B6-4B0D-B2E7-35608D885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2FC1-610E-4357-BA8F-6F9FC8ED0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E331-969F-4D54-AB8B-6BAF560F9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9345-AB41-468D-B37D-10A05F553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8FFE-A3EA-4A62-B4C6-EE63070B8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3083-EB78-4A76-A043-4D6370B36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07CE-3B95-40DB-9F71-FB245518F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FE52-23C4-4A79-A610-9439B6723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D07E-F66C-4DA0-8EA9-CC8B2A6FE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DA01-EFE6-444B-BCBE-6C464C6C5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0B18-74C9-4E42-BDA1-9A5D5A584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33C6-500D-42AD-AD85-7CD675243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DE0B-B0E0-44C5-9ADC-BCB8DC908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DC00-37F9-414B-8BB7-D1B5F8D09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5B96-5134-4E48-BCB3-5C9E523BA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41EB-F235-45C0-BF43-25E15DB37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6BEE-1AE1-4FCD-8A0D-2B9573A88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44640" y="761760"/>
            <a:ext cx="72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GYPT BECAME PART OF THE ROMAN EMPIRE IN 30 BC UPON THE DEATH OF WHAT FEMALE RU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DDENLY  LAST 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33360" y="762120"/>
            <a:ext cx="847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TELS HAD TWO TOP-10 SONGS: "ONLY THE LONELY" AND WHAT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  W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71720" y="762120"/>
            <a:ext cx="700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9 MOVIE WAS THE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LM ADAPTATION OF AN 1868 LOUISA MAY ALCOTT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H  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200240" y="762120"/>
            <a:ext cx="6743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DAY OF LE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AMING  OF  THE  SH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93560" y="762120"/>
            <a:ext cx="8156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COMEDY  IS ABOUT THE COURTSHIP OF PETRUCHIO AND KATHER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  OF  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52360" y="762120"/>
            <a:ext cx="8639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91 FILM STARRING STEVE MARTIN, DIANE KEATON, AND MARTIN SHORT HAD TAGLINE "LOVE IS WONDERFUL.  UNTIL IT HAPPENS TO YOUR ONLY DAUGHTER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LINT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88920" y="762120"/>
            <a:ext cx="7164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"THE SIMPSONS", WHAT ANIMATED TV SHOW AIRED THE MOST EPISODES IN PRIM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TICAL POLE HOLDING A SAIL IS CALLED A MAST.  WHAT IS THE HORIZONTAL POLE AT THE BOTTOM OF A SAIL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44680" y="762120"/>
            <a:ext cx="805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TELS HAD TWO TOP-10 SONGS: "ONLY THE LONELY" AND WHAT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6320" y="4952880"/>
            <a:ext cx="8991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ON  A  HOT  TIN  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14320" y="762120"/>
            <a:ext cx="7513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ESSEE WILLIAMS PLAY ABOUT THE FAMILY OF BIG DADDY POLLITT WON THE PULITZER PRIZE FOR DRAMA IN 19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OP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GYPT BECAME PART OF THE ROMAN EMPIRE IN 30 BC UPON THE DEATH OF WHAT FEMALE RU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9528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TAYLOR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17720" y="761760"/>
            <a:ext cx="710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9 MOVIE WAS THE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LM ADAPTATION OF AN 1868 LOUISA MAY ALCOTT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38400" y="762120"/>
            <a:ext cx="6667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DAY OF LE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6520" y="762120"/>
            <a:ext cx="8129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COMEDY  IS ABOUT THE COURTSHIP OF PETRUCHIO AND KATHER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5520" y="761760"/>
            <a:ext cx="8832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91 FILM STARRING STEVE MARTIN, DIANE KEATON, AND MARTIN SHORT HAD TAGLINE "LOVE IS WONDERFUL.  UNTIL IT HAPPENS TO YOUR ONLY DAUGHTER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63720" y="761760"/>
            <a:ext cx="7216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"THE SIMPSONS", WHAT ANIMATED TV SHOW AIRED THE MOST EPISODES IN PRIM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5000" y="761760"/>
            <a:ext cx="887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TICAL POLE HOLDING A SAIL IS CALLED A MAST.  WHAT IS THE HORIZONTAL POLE AT THE BOTTOM OF A SAIL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6800" y="762120"/>
            <a:ext cx="7608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ESSEE WILLIAMS PLAY ABOUT THE FAMILY OF BIG DADDY POLLITT WON THE PULITZER PRIZE FOR DRAMA IN 19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9-16T18:13:20Z</dcterms:modified>
  <cp:revision>503</cp:revision>
  <dc:subject/>
  <dc:title>Slide 1</dc:title>
</cp:coreProperties>
</file>