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321D-110E-49EB-8EC5-F3B0CE34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2122-A06C-43CE-90B0-AEB75677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6056-9059-413E-9E28-9FBAA120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8882-B1FB-4933-ABB6-60EF19E0F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4D5E-4DAB-4285-BA21-E6490D79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95BD-02D9-4636-8266-778C9C65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E345-5B4F-4FFC-9AF3-48FC1CAF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BDC4-22EC-4346-90B1-1ED2EB97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AF5A-C2BB-4422-905A-D78ABBE9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0788-895D-48A4-924F-8FF59CFFC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D231-7598-40CE-9C61-A96C741A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D139-CB07-409D-8AB1-07D3A56C6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2949-6120-4B2B-B3EA-C5F7F986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2AC9-52E5-4CA7-A99E-4EF35F6CE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02DF-F1D4-4730-A175-33C1B04EA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CAB4-BE96-465E-B002-1B3E5CC9C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602-0158-42F6-91E9-9F2124782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8F66-A379-42EF-9D3B-ECA495F2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B264-CF11-40D6-97FF-91F10B569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8261-2DBD-4F1A-A139-A94BA009A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D991-DA12-40CC-A22A-7B3B6E3D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D57E-2DBD-45FE-A3E9-2A61A9FC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2971-0E3B-49FB-8C6E-A6642ACCE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GYPT BECAME PART OF THE ROMAN EMPIRE IN 30 BC UPON THE DEATH OF WHAT FEMALE RU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LY  LAST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TELS HAD TWO TOP-10 SONGS: "ONLY THE LONELY"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1720" y="762120"/>
            <a:ext cx="700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MOVIE WAS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ADAPTATION OF AN 1868 LOUISA MAY ALCOT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0240" y="762120"/>
            <a:ext cx="6743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AMING  OF  THE  SH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3560" y="762120"/>
            <a:ext cx="815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OMEDY  IS ABOUT THE COURTSHIP OF PETRUCHIO AND KATHER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2360" y="762120"/>
            <a:ext cx="863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1 FILM STARRING STEVE MARTIN, DIANE KEATON, AND MARTIN SHORT HAD TAGLINE "LOVE IS WONDERFUL.  UNTIL IT HAPPENS TO YOUR ONLY DAUGH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8920" y="762120"/>
            <a:ext cx="716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"THE SIMPSONS", WHAT ANIMATED TV SHOW AIRED THE MOST EPISODES IN PRIM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TICAL POLE HOLDING A SAIL IS CALLED A MAST.  WHAT IS THE HORIZONTAL POLE AT THE BOTTOM OF A SAI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TELS HAD TWO TOP-10 SONGS: "ONLY THE LONELY"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ON  A  HOT  TI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4320" y="762120"/>
            <a:ext cx="7513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ABOUT THE FAMILY OF BIG DADDY POLLITT WON THE PULITZER PRIZE FOR DRAMA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OP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GYPT BECAME PART OF THE ROMAN EMPIRE IN 30 BC UPON THE DEATH OF WHAT FEMALE RU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7720" y="761760"/>
            <a:ext cx="710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MOVIE WAS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ADAPTATION OF AN 1868 LOUISA MAY ALCOTT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2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OMEDY  IS ABOUT THE COURTSHIP OF PETRUCHIO AND KATHER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5520" y="761760"/>
            <a:ext cx="8832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1 FILM STARRING STEVE MARTIN, DIANE KEATON, AND MARTIN SHORT HAD TAGLINE "LOVE IS WONDERFUL.  UNTIL IT HAPPENS TO YOUR ONLY DAUGH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3720" y="761760"/>
            <a:ext cx="721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"THE SIMPSONS", WHAT ANIMATED TV SHOW AIRED THE MOST EPISODES IN PRIM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5000" y="761760"/>
            <a:ext cx="88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TICAL POLE HOLDING A SAIL IS CALLED A MAST.  WHAT IS THE HORIZONTAL POLE AT THE BOTTOM OF A SAI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08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ABOUT THE FAMILY OF BIG DADDY POLLITT WON THE PULITZER PRIZE FOR DRAMA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6T18:13:20Z</dcterms:modified>
  <cp:revision>503</cp:revision>
  <dc:subject/>
  <dc:title>Slide 1</dc:title>
</cp:coreProperties>
</file>