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6321-C576-4534-B1CE-D75A1688E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CDA2-D1FD-4C75-8DAA-A3181D0A6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DD63-6B99-4D81-84EA-342E5320D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882F-7953-4BC7-AF9A-A6A4820DB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D7F3-FD5E-4F7B-AE84-108855B19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94E2-1441-4EDB-8FAE-73FABBE91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257A-A385-4415-985B-DADA23496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3709-CADC-462A-B8C1-6CF4C43EA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5A40-8717-4954-ACBC-0BD7A8E92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BC0B-7A62-4F51-80D8-6986FB1B8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C125-A2B8-4C84-A68B-256584BA7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7FA3-E101-4D7D-8285-939346CF9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3310-E36B-4D2B-9EEE-CF6683397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9770-B307-44DA-A087-48AC1792B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47F5-E701-4EE2-8486-97734366B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E88F-1742-416D-B0AB-96CBDE78E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0156-560B-4498-B1FA-A5DCD8583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D479-D4A4-475E-874A-BC48837A1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450C-2B54-4AD4-A27E-4E0799FC0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0EE4-C55B-473F-B058-85D57CE31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6625-409B-4AE7-80AD-B77F498F7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A6D9-8AAC-4CAB-94D6-B897E6CD1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677E-DCDB-4A02-A3C0-48681B52E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74760" y="761760"/>
            <a:ext cx="8394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RANNOSAURUS REX WAS THE STAR OF A CHILDREN'S SHOW 1992-201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2019240" y="4876920"/>
            <a:ext cx="5105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THY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19240" y="762120"/>
            <a:ext cx="8705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RADITIONAL BIRTHSTONE FOR FEBRU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AN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VILLAIN OF "AVENGERS: INFINITY WAR" AND "AVENGERS: ENDGA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NKY–WIN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00000" y="762120"/>
            <a:ext cx="7344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AMES OF THE FOUR TELETUBBIES ARE DIPSY, LAA-LAA, PO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PES  &amp;  FI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00160" y="762120"/>
            <a:ext cx="8743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"SEVEN SPECIES" MENTIONED IN DEUTERONOMY 8:8 ARE WHEAT, BARLEY, DATES, OLIVE OIL, POMEGRANATES, AND WHAT OTHER 2 FOO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IM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72960" y="762120"/>
            <a:ext cx="8396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NALD MCDONALD HAD     TWO ACQUAINTANCES WHO OCCASIONALLY STOLE FOOD: THE HAMBURGLAR AND W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135080" y="762120"/>
            <a:ext cx="68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FLINTSTONE'S P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OL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23920" y="762120"/>
            <a:ext cx="8696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TATE FLOWER OF RHODE ISLAND, WISCONSIN, ILLINOIS, AND NEW JERS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66680" y="762120"/>
            <a:ext cx="88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RADITIONAL BIRTHSTONE FOR FEBRUA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GGPL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52320" y="762120"/>
            <a:ext cx="78393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TEXTING, WHAT EMOJI IS TYPICALLY USED TO SYMBOLIZE A PEN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RANNOSAURUS REX WAS THE STAR OF A CHILDREN'S SHOW 1992-201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762120" y="4876920"/>
            <a:ext cx="7619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PUR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76280" y="761760"/>
            <a:ext cx="8191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VILLAIN OF "AVENGERS: INFINITY WAR" AND "AVENGERS: ENDGA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15840" y="762120"/>
            <a:ext cx="7310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AMES OF THE FOUR TELETUBBIES ARE DIPSY, LAA-LAA, PO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"SEVEN SPECIES" MENTIONED IN DEUTERONOMY 8:8 ARE WHEAT, BARLEY, DATES, OLIVE OIL, POMEGRANATES, AND WHAT OTHER 2 FOO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0600" y="762120"/>
            <a:ext cx="8362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NALD MCDONALD HAD     TWO ACQUAINTANCES WHO OCCASIONALLY STOLE FOOD: THE HAMBURGLAR AND WH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44080" y="761760"/>
            <a:ext cx="6853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FLINTSTONE'S P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24000" y="761760"/>
            <a:ext cx="8496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TATE FLOWER OF RHODE ISLAND, WISCONSIN, ILLINOIS, AND NEW JERS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66720" y="762120"/>
            <a:ext cx="78105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TEXTING, WHAT EMOJI IS TYPICALLY USED TO SYMBOLIZE A PEN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1T18:24:11Z</dcterms:created>
  <dc:creator>Jennifer Budzinski</dc:creator>
  <dc:description/>
  <dc:language>en-US</dc:language>
  <cp:lastModifiedBy>Erich Friedman</cp:lastModifiedBy>
  <dcterms:modified xsi:type="dcterms:W3CDTF">2022-09-17T12:19:49Z</dcterms:modified>
  <cp:revision>420</cp:revision>
  <dc:subject/>
  <dc:title>Slide 1</dc:title>
</cp:coreProperties>
</file>