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35D2-EB13-451A-AC2D-80E61F2D7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09E2-2948-48D9-8158-7A06D34F8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911E-CF4D-479E-A186-19A460774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F61F-7D07-4E7E-A264-E8FFC1724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9AC2-43FD-4C78-BB75-FE37D403F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1459-681D-48D6-BD49-FEF7C9A7F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CC67-A783-4727-AFF6-0E4949CCF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A689-E491-48CA-9FD4-B564E9DAD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281E-70F4-4712-8FE5-CA4B43948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6924-C615-45E2-B255-056221D93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5A58-D9BD-495D-9E86-9D70D043C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C7F1-D194-4359-B01E-4BE457C83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D7C8-AD84-4B91-B774-2F2BE098E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A853-1896-44DB-A66C-3CD979E3D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B383-A837-4587-B1D5-7E3DDBDB4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DF00-1548-4C33-B2E2-D81B8A2B8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1071-4E7D-478C-9A19-05E8C5B70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A7DB-4BB3-4D83-BBBE-5AF01EBF2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2D9F-494F-482E-8515-B557EBC1C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F058-5D5C-4C68-8481-8D0DF6AFC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EF68-D9B0-467D-82B0-13C3818C8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8DBA-7EC8-4C9D-8749-992FF273E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671E-43EB-485B-9A34-1C878D0FF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74760" y="761760"/>
            <a:ext cx="8394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RANNOSAURUS REX WAS THE STAR OF A CHILDREN'S SHOW 1992-201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2019240" y="487692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THY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19240" y="762120"/>
            <a:ext cx="8705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RADITIONAL BIRTHSTONE FOR FEBRU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AN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VILLAIN OF "AVENGERS: INFINITY WAR" AND "AVENGERS: ENDGA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NKY–WIN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00000" y="762120"/>
            <a:ext cx="7344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AMES OF THE FOUR TELETUBBIES ARE DIPSY, LAA-LAA, PO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PES  &amp;  FI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00160" y="762120"/>
            <a:ext cx="8743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SEVEN SPECIES" MENTIONED IN DEUTERONOMY 8:8 ARE WHEAT, BARLEY, DATES, OLIVE OIL, POMEGRANATES, AND WHAT OTHER 2 FOO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IM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72960" y="762120"/>
            <a:ext cx="8396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NALD MCDONALD HAD     TWO ACQUAINTANCES WHO OCCASIONALLY STOLE FOOD: THE HAMBURGLAR AND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135080" y="762120"/>
            <a:ext cx="68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FLINTSTONE'S P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O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23920" y="762120"/>
            <a:ext cx="8696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TE FLOWER OF RHODE ISLAND, WISCONSIN, ILLINOIS, AND NEW JERS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66680" y="762120"/>
            <a:ext cx="88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RADITIONAL BIRTHSTONE FOR FEBRU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GPL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52320" y="762120"/>
            <a:ext cx="7839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TEXTING, WHAT EMOJI IS TYPICALLY USED TO SYMBOLIZE A PEN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RANNOSAURUS REX WAS THE STAR OF A CHILDREN'S SHOW 1992-20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62120" y="4876920"/>
            <a:ext cx="7619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PUR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6280" y="761760"/>
            <a:ext cx="8191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VILLAIN OF "AVENGERS: INFINITY WAR" AND "AVENGERS: ENDGA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15840" y="762120"/>
            <a:ext cx="7310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AMES OF THE FOUR TELETUBBIES ARE DIPSY, LAA-LAA, PO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SEVEN SPECIES" MENTIONED IN DEUTERONOMY 8:8 ARE WHEAT, BARLEY, DATES, OLIVE OIL, POMEGRANATES, AND WHAT OTHER 2 FOO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0600" y="762120"/>
            <a:ext cx="8362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NALD MCDONALD HAD     TWO ACQUAINTANCES WHO OCCASIONALLY STOLE FOOD: THE HAMBURGLAR AND WH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44080" y="761760"/>
            <a:ext cx="6853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FLINTSTONE'S P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4000" y="761760"/>
            <a:ext cx="849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TE FLOWER OF RHODE ISLAND, WISCONSIN, ILLINOIS, AND NEW JERS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66720" y="762120"/>
            <a:ext cx="7810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TEXTING, WHAT EMOJI IS TYPICALLY USED TO SYMBOLIZE A PEN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2-09-17T12:19:49Z</dcterms:modified>
  <cp:revision>420</cp:revision>
  <dc:subject/>
  <dc:title>Slide 1</dc:title>
</cp:coreProperties>
</file>