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C5F-9312-4EB6-A633-9E4691E4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0BF7-3AE7-4553-A314-C1D3E48D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2C0-4A2E-45CF-9968-18D65119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44A7-CD06-4222-93D3-CEC9270A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EED-8CB0-456A-A95A-F13A8488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CD8-1F22-4042-8FCD-BAFA5D2F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720C-3959-489E-99C6-A1423EBD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85BD-DC8F-41BF-B375-C9D68B7B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68D9-4DED-4175-8536-F8514C3D3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0D1A-AA68-4BF8-95B2-A420B9C9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218-340E-453C-B87F-77A14A52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A196-7E48-4F93-A8C7-F83D89DD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F2AB-E7F9-42CF-9818-950228CE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5F49-4610-49CB-926C-CE627E83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2E73-F201-4210-A13D-01965659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CCBF-AB69-4677-8E60-ED9286C5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FFB0-0E49-4E3E-A0AB-066EF3F1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BAF-0DD8-4085-8E74-B34CE2C12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ED1F-D58F-4597-AAA8-955A6744E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BB39-09B4-4840-8772-2004392C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4AC7-C203-474A-9E14-58AC3EE2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6C0F-2506-4115-B682-D4857BF6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665F-BA82-4144-8E49-470734BF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2120" y="761760"/>
            <a:ext cx="815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ONE VEHICLE HAS EVER LANDED ON THE SUMMIT OF MOUNT EVEREST.  WHAT TYPE OF VEHICLE WA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RPORAL WALTER O'REILLEY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MY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PANY HARIBO FAMOUS FOR MA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ORD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63400" y="762120"/>
            <a:ext cx="80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SIMILAR TO A CONCERTINA OR A BANDONE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,  THEN  AUTO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09560" y="75564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MOST NUMEROUS VEHICLES IN THE WORLD, IN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ING  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3400" y="765000"/>
            <a:ext cx="747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ION IS LARGELY RESPONSIBLE FOR THE RENAISS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ON  MICRO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35080" y="762120"/>
            <a:ext cx="68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6 NOBEL PRIZE IN PHYSICS WAS AWARDED FOR WHAT 1931 OPTICAL INVEN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  L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762120"/>
            <a:ext cx="53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ONARDO DA VINCI IS CREDITED WITH THE IDEA BEHIND WHAT 1950'S INVEN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013200" cy="20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7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RPORAL WALTER O'REILLEY ON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SEL  EN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2320" y="762120"/>
            <a:ext cx="783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% OF AMERICAN CARS BUT 50% OF EUROPEAN CARS HAV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ICOP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ONE VEHICLE HAS EVER LANDED ON THE SUMMIT OF MOUNT EVEREST.  WHAT TYPE OF VEHICLE WA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VENTED  BY  GER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PANY HARIBO FAMOUS FOR MA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3120" y="762120"/>
            <a:ext cx="7997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SIMILAR TO A CONCERTINA OR A BANDONE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MOST NUMEROUS VEHICLES IN THE WORLD, IN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80920" y="762120"/>
            <a:ext cx="738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ION IS LARGELY RESPONSIBLE FOR THE RENAISS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4080" y="761760"/>
            <a:ext cx="6853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6 NOBEL PRIZE IN PHYSICS WAS AWARDED FOR WHAT 1931 OPTICAL INVEN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5391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ONARDO DA VINCI IS CREDITED WITH THE IDEA BEHIND WHAT 1950'S INVEN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1284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% OF AMERICAN CARS BUT 50% OF EUROPEAN CARS HAV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11-17T14:17:38Z</dcterms:modified>
  <cp:revision>425</cp:revision>
  <dc:subject/>
  <dc:title>Slide 1</dc:title>
</cp:coreProperties>
</file>