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1A5-A18F-476D-A74A-DB1DADDDB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5DB5-F705-4610-A9E8-A21BEFB7D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50AF-0766-4A96-9879-55623B461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3909-7BF3-40C8-AD85-B6D40D6B7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1E05-0C23-4F85-A9F1-F05B1422F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00AF-7094-40BC-AD97-BA7D5132E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0A2D-5DF1-47E3-884E-74D91B9DA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0E08-43DD-4B67-B44F-A060A3BE4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0EC5-EBE3-4AEF-BED1-C714C6A3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2CB5-1B12-4420-A538-D20229470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3565-AD37-4FC4-A207-AD9DB796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08FE-9C2D-49C3-87EF-C80F436CC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140-50A1-45E8-9702-BE4741815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53C-EECD-418A-9EED-959E1D62F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C22-DD46-43D9-9426-11A5299DA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B56E-9C59-4718-8B2C-B0DC6923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C4EC-62A8-45DD-8632-CB474D98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7E33-CB12-4510-987A-3B5ABA66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812F-5BB8-483E-AB7D-52EBD51ED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E4D9-F32A-4794-A719-5F08C54B7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4561-04D9-4D32-9669-BF7D6F1F0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336-7184-4B2D-B13C-E66EAD90F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25FA-5CC6-4E9D-9C1B-2AD9FD11B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2120" y="761760"/>
            <a:ext cx="815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ONE VEHICLE HAS EVER LANDED ON THE SUMMIT OF MOUNT EVEREST.  WHAT TYPE OF VEHICLE WA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RPORAL WALTER O'REILLEY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MMY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PANY HARIBO FAMOUS FOR MA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CORD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63400" y="762120"/>
            <a:ext cx="80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SIMILAR TO A CONCERTINA OR A BANDONE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CYCLE,  THEN  AUTO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09560" y="75564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MOST NUMEROUS VEHICLES IN THE WORLD, IN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ING  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3400" y="765000"/>
            <a:ext cx="747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ION IS LARGELY RESPONSIBLE FOR THE RENAISS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ON  MICRO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35080" y="762120"/>
            <a:ext cx="68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6 NOBEL PRIZE IN PHYSICS WAS AWARDED FOR WHAT 1931 OPTICAL INVEN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CT  L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280" y="762120"/>
            <a:ext cx="53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ONARDO DA VINCI IS CREDITED WITH THE IDEA BEHIND WHAT 1950'S INVEN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013200" cy="20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8200" y="762120"/>
            <a:ext cx="7527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ORPORAL WALTER O'REILLEY ON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SEL  ENG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2320" y="762120"/>
            <a:ext cx="7839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% OF AMERICAN CARS BUT 50% OF EUROPEAN CARS HAV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ICOP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ONE VEHICLE HAS EVER LANDED ON THE SUMMIT OF MOUNT EVEREST.  WHAT TYPE OF VEHICLE WA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VENTED  BY  GER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PANY HARIBO FAMOUS FOR MA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3120" y="762120"/>
            <a:ext cx="7997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INSTRUMENT IS SIMILAR TO A CONCERTINA OR A BANDONE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MOST NUMEROUS VEHICLES IN THE WORLD, IN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80920" y="762120"/>
            <a:ext cx="738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ION IS LARGELY RESPONSIBLE FOR THE RENAISS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44080" y="761760"/>
            <a:ext cx="6853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986 NOBEL PRIZE IN PHYSICS WAS AWARDED FOR WHAT 1931 OPTICAL INVEN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990360"/>
            <a:ext cx="5391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ONARDO DA VINCI IS CREDITED WITH THE IDEA BEHIND WHAT 1950'S INVEN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301284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% OF AMERICAN CARS BUT 50% OF EUROPEAN CARS HAV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11-17T14:17:38Z</dcterms:modified>
  <cp:revision>425</cp:revision>
  <dc:subject/>
  <dc:title>Slide 1</dc:title>
</cp:coreProperties>
</file>