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746E-ECD4-43F9-B115-52CF90DB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F6E-8523-428F-A261-CDE49EDE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F55-925D-4218-A1EE-8B75B821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0D61-3F70-4273-8BB6-89536060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4D4-C6BF-44AB-89E3-A6572808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29C-DAFF-4A1E-AAC9-75035E48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D4E-EBE8-441A-AC49-8B1FCE0C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1C32-083E-4EA3-A2A3-513FE306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E184-4EFE-4B45-86E3-7606501C6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60A-BB4B-4D14-816A-E6A2B708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04D7-63EE-4559-8681-C1BFDF832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C87-596A-42FF-AE3F-E9453100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6BF-E2B9-42C1-913C-A9480A02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9A42-F3DA-4F38-ACB6-38AF8E8E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59A5-026A-41C1-B77C-AE84BBCD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BEEB-9A4E-446A-94F1-F28ED41C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1B2-3ECC-41C4-A1AD-87010749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3C8D-2B79-4E50-8059-090F9F31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351-82E1-4BD8-98AA-B0B9B376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59B9-E48D-4355-B98B-BCBED121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BFB2-FA37-4932-BA45-20ADCC57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DD23-0F06-43FB-83B6-4289A24C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43E4-9D95-44F8-8124-413E397A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A GROUP OF L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COULO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DOES THE TORAH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RTH CAROLINA LICENSE PLATES FEATURE THE PHRASE "FIRST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IS LOCATED BETWEEN THE LU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2960" y="762120"/>
            <a:ext cx="839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ESCRIBING PAPER CURRENCY, AMERICANS USE THE WORD "BILL", BUT THE BRITISH USE WHA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E  (IT  TO  BEA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2960" y="762120"/>
            <a:ext cx="78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1957-1963 TV SHOW STARRING JERRY MA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3120" y="762120"/>
            <a:ext cx="853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CE SPRINGSTEEN SONG, WHICH BEGINS WITH THE LINE "I'M RIDIN' IN YOUR CAR", WAS A #2 HIT FOR THE POINTER SISTERS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COULO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8520" y="78912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UN STARTING WITH "E" IS COMMONLY MISSPELLED STARTING WITH "A", MAKING   IT A RELATED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A GROUP OF L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TAK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DOES THE TORAH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RTH CAROLINA LICENSE PLATES FEATURE THE PHRASE "FIRST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IS LOCATED BETWEEN THE LU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ESCRIBING PAPER CURRENCY, AMERICANS USE THE WORD "BILL", BUT THE BRITISH USE WHA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1957-1963 TV SHOW STARRING JERRY MA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CE SPRINGSTEEN SONG, WHICH BEGINS WITH THE LINE "I'M RIDIN' IN YOUR CAR", WAS A #2 HIT FOR THE POINTER SISTERS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1520" y="762120"/>
            <a:ext cx="839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UN STARTING WITH "E" IS COMMONLY MISSPELLED STARTING WITH "A", MAKING   IT A RELATED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27:29Z</dcterms:modified>
  <cp:revision>424</cp:revision>
  <dc:subject/>
  <dc:title>Slide 1</dc:title>
</cp:coreProperties>
</file>