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87B9-3761-4AE4-8175-5955435ED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A539-81A8-4CC6-A352-DADFCB5B1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0615-EB35-4C3C-9A8D-876F3A9B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3587-9981-45B3-9855-0FA84DED6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A4D7-6D28-487F-8083-B2BFEE1F9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4501-F016-47A5-837D-AA64877B7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AF17-15B2-42D1-80CF-E1A85280E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F4A2-7DE7-43E1-B3CF-AB8968908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BFDAF-4803-4917-88A3-768B37451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D77A-2583-4EB9-A3B6-5F42154F0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B462-7111-4C57-B230-57E411CE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78C6-67E0-444C-98CF-62F0584F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71D0-413A-4D52-BE1F-A25897AF0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B6BA-DC36-4EF5-AFAC-12AE67BDA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7029-8EBE-485B-BB85-515A21CD8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0A47-DB1B-4B6F-9EF3-F7374B929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8257-5F78-41DD-99EA-260AE7E3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7F53-0BAE-4CC8-9CD6-44E47B992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5A17-8B79-4A36-BF9D-D83615DC2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878A-3DCB-45C9-99EB-D67BB220C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9F0C-5494-413B-AB50-5B1E6FA7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DFBA-9ADE-42B0-8BEA-CE9FBF9E4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B100-15D8-4303-B5F6-4C9E6DB22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A GROUP OF L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9240" y="762120"/>
            <a:ext cx="87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COULOM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DOES THE TORAH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RTH CAROLINA LICENSE PLATES FEATURE THE PHRASE "FIRST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0160" y="7621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IS LOCATED BETWEEN THE LU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2960" y="762120"/>
            <a:ext cx="8396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ESCRIBING PAPER CURRENCY, AMERICANS USE THE WORD "BILL", BUT THE BRITISH USE WHAT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VE  (IT  TO  BEA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2960" y="762120"/>
            <a:ext cx="78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1957-1963 TV SHOW STARRING JERRY MA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3120" y="762120"/>
            <a:ext cx="853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CE SPRINGSTEEN SONG, WHICH BEGINS WITH THE LINE "I'M RIDIN' IN YOUR CAR", WAS A #2 HIT FOR THE POINTER SISTERS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680" y="762120"/>
            <a:ext cx="88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COULOM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F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8520" y="789120"/>
            <a:ext cx="8381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UN STARTING WITH "E" IS COMMONLY MISSPELLED STARTING WITH "A", MAKING   IT A RELATED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LLECTIVE NOUN FOR A GROUP OF L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TAK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DOES THE TORAH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5840" y="762120"/>
            <a:ext cx="7310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RTH CAROLINA LICENSE PLATES FEATURE THE PHRASE "FIRST I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IS LOCATED BETWEEN THE LU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ESCRIBING PAPER CURRENCY, AMERICANS USE THE WORD "BILL", BUT THE BRITISH USE WHAT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1957-1963 TV SHOW STARRING JERRY MA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CE SPRINGSTEEN SONG, WHICH BEGINS WITH THE LINE "I'M RIDIN' IN YOUR CAR", WAS A #2 HIT FOR THE POINTER SISTERS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71520" y="762120"/>
            <a:ext cx="839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UN STARTING WITH "E" IS COMMONLY MISSPELLED STARTING WITH "A", MAKING   IT A RELATED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9-17T12:27:29Z</dcterms:modified>
  <cp:revision>424</cp:revision>
  <dc:subject/>
  <dc:title>Slide 1</dc:title>
</cp:coreProperties>
</file>