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EA99-F14A-4C24-A291-0F4A698E6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BDFC-8600-4130-A1AD-6B6A68D61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9047-1278-46AC-AA0A-9018D0BEF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7DBB-1147-409E-9FE5-D417DE1A4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E2C8-88D1-448E-9461-A13D26CE0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A08D-D84A-4348-92CA-35F1F32C8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00B2-3AB6-4C6C-A650-88E3F1C33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5542-269C-4DF9-8CA3-BDAC476EB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E16-6389-4F9A-A1DB-E4612558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B719-9D79-4041-8F90-D818DA8E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4965-6D85-4F8A-8C6A-74E31279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9F40-CBFE-4AD7-B089-386B9D430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7DC5-DC2B-41FE-A15B-07BF8664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DCB1-E259-46B5-9D1B-DD3EBA5A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C5F9-80F5-4BD8-92A1-F7A80BC23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90AF-B3AF-4406-AA47-BB9D9E286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49A6-F609-4CF0-BA36-7102B3DB1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098C-FB78-4B35-8796-A7368E74B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7E99-4603-43B3-BC34-A702D9C9A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78AF-1E7B-403E-8C01-BA4C277D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CE9-5D0F-4575-8036-74B9595D4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E19C-6941-47DF-917B-91081125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0AB-8215-4328-B620-0F1A0A1C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4760" y="761760"/>
            <a:ext cx="839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PART OF MICHAEL JACKSON'S WARDROBE DID  HE FIRST BORROW FROM A FILM EDITOR WHILE TOURING A PRODUCTION FACILITY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19240" y="762120"/>
            <a:ext cx="870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APPEARS ON GERMAN AND SWISS PLAYING CARDS INSTEAD OF DIAM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SE  (MICE / MOU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HAS TWO DIFFERENT PLURALS DEPENDING ON WHETHER IT REFERS TO THE ANIMAL OR THE COMPUTER EQUIP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OCESE OF ST. AUGUSTINE, THE OLDEST MISSION IN THE U.S., HAS A 204-FOOT TALL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0160" y="7621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ABOUT A CURSED VIDEOTAPE IS A REMAKE OF A 1998 JAPANESE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19120" y="762120"/>
            <a:ext cx="810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TIL THE GAME CLUE ADDED POISON IN 2008, WHAT WAS THE ONLY POSSIBLE WEAPON NOT MADE OF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ATER)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71400" y="762120"/>
            <a:ext cx="780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 SINCE 1974, WHAT WORD HAS BECOME A SUFFIX MEANING SCAN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3920" y="762120"/>
            <a:ext cx="86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-LETTER STOCK TICKER SYMBOL FOR THE COCA-COLA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6680" y="762120"/>
            <a:ext cx="88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APPEARS ON GERMAN AND SWISS PLAYING CARDS INSTEAD OF DIAM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6560" y="804960"/>
            <a:ext cx="8210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LDREN'S PIRATE MOVIE STARRED DUSTIN HOFFMAN, ROBIN WILLIAMS, AND JULIA ROB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PART OF MICHAEL JACKSON'S WARDROBE DID HE FIRST BORROW FROM A FILM EDITOR WHILE TOURING A PRODUCTION FACILITY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HAS TWO DIFFERENT PLURALS DEPENDING ON WHETHER IT REFERS TO THE ANIMAL OR THE COMPUTER EQUIP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5840" y="762120"/>
            <a:ext cx="7310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IOCESE OF ST. AUGUSTINE, THE OLDEST MISSION IN THE U.S., HAS A 204-FOOT TALL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ABOUT A CURSED VIDEOTAPE IS A REMAKE OF A 1998 JAPANESE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TIL THE GAME CLUE ADDED POISON IN 2008, WHAT WAS THE ONLY POSSIBLE WEAPON NOT MADE OF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R SINCE 1974, WHAT WORD HAS BECOME A SUFFIX MEANING SCAN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-LETTER STOCK TICKER SYMBOL FOR THE COCA-COLA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LDREN'S PIRATE MOVIE STARRED DUSTIN HOFFMAN, ROBIN WILLIAMS, AND JULIA ROB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9-17T12:31:51Z</dcterms:modified>
  <cp:revision>416</cp:revision>
  <dc:subject/>
  <dc:title>Slide 1</dc:title>
</cp:coreProperties>
</file>