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217D-42E9-47CC-9C53-313E7D88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6DB1-C7AC-4F37-B79F-C59E483BD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B04D-A287-4C30-A05E-4A72BBC48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1C86-4CF2-4622-88A5-C04405780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C78B-BFA8-49FC-81F5-1B31BA849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BC0B-4E6E-486F-9F1F-7412C8C39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30AA-1CC3-4062-B111-919F714CD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1683-2950-46D9-B23D-E6051352B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EEF5-DEA9-4C4B-A4D1-DA50CCB15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9458-F3BB-47FD-ABE1-5C4BA9C4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8108-5027-4ABC-B94E-6364EB7A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2C60-5E10-425A-9DCD-892023CF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0CCB-7171-4FEA-B586-12900E827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E16-6867-401D-91FD-C757BFADB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3DAE-BF9A-491F-B727-F4B6F0A0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D203-2CB8-4EE4-98C8-E281BCFDD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9F67-94C1-4144-90DD-DEFAF8D50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2412-7F97-48C0-A6C2-94DB1787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3585-4366-44DF-999E-58294D1E3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4ADE-63CC-4747-9361-EC089FD50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3717-DAAE-44B3-8253-2F2F12F98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B67B-BE81-4E2F-BC1E-7AE05005E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6780-24F8-4968-88FD-F1046B80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4760" y="761760"/>
            <a:ext cx="839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PART OF MICHAEL JACKSON'S WARDROBE DID  HE FIRST BORROW FROM A FILM EDITOR WHILE TOURING A PRODUCTION FACILITY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19240" y="762120"/>
            <a:ext cx="870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APPEARS ON GERMAN AND SWISS PLAYING CARDS INSTEAD OF DIAM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SE  (MICE / MOU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HAS TWO DIFFERENT PLURALS DEPENDING ON WHETHER IT REFERS TO THE ANIMAL OR THE COMPUTER EQUIP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00000" y="762120"/>
            <a:ext cx="734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OCESE OF ST. AUGUSTINE, THE OLDEST MISSION IN THE U.S., HAS A 204-FOOT TALL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00160" y="7621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UPERNATURAL HORROR FILM ABOUT A CURSED VIDEOTAPE IS A REMAKE OF A 1998 JAPANESE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19120" y="762120"/>
            <a:ext cx="810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TIL THE GAME CLUE ADDED POISON IN 2008, WHAT WAS THE ONLY POSSIBLE WEAPON NOT MADE OF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ATER)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71400" y="762120"/>
            <a:ext cx="780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 SINCE 1974, WHAT WORD HAS BECOME A SUFFIX MEANING SCAND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3920" y="762120"/>
            <a:ext cx="86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-LETTER STOCK TICKER SYMBOL FOR THE COCA-COLA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6680" y="762120"/>
            <a:ext cx="88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APPEARS ON GERMAN AND SWISS PLAYING CARDS INSTEAD OF DIAM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6560" y="804960"/>
            <a:ext cx="8210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HILDREN'S PIRATE MOVIE STARRED DUSTIN HOFFMAN, ROBIN WILLIAMS, AND JULIA ROBE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PART OF MICHAEL JACKSON'S WARDROBE DID HE FIRST BORROW FROM A FILM EDITOR WHILE TOURING A PRODUCTION FACILITY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ING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HAS TWO DIFFERENT PLURALS DEPENDING ON WHETHER IT REFERS TO THE ANIMAL OR THE COMPUTER EQUIP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5840" y="762120"/>
            <a:ext cx="7310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OCESE OF ST. AUGUSTINE, THE OLDEST MISSION IN THE U.S., HAS A 204-FOOT TALL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UPERNATURAL HORROR FILM ABOUT A CURSED VIDEOTAPE IS A REMAKE OF A 1998 JAPANESE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TIL THE GAME CLUE ADDED POISON IN 2008, WHAT WAS THE ONLY POSSIBLE WEAPON NOT MADE OF ME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 SINCE 1974, WHAT WORD HAS BECOME A SUFFIX MEANING SCAND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-LETTER STOCK TICKER SYMBOL FOR THE COCA-COLA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HILDREN'S PIRATE MOVIE STARRED DUSTIN HOFFMAN, ROBIN WILLIAMS, AND JULIA ROBE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9-17T12:31:51Z</dcterms:modified>
  <cp:revision>416</cp:revision>
  <dc:subject/>
  <dc:title>Slide 1</dc:title>
</cp:coreProperties>
</file>