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06DF-42DE-4640-9169-DC0D57A99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123D-E940-4EAA-82FF-DE95F4BC6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11CD-1297-41B6-94C6-EAAD578DD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62A4-FA01-43A7-909A-09C009D06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388F-C3E7-405D-B6C7-0B3081C98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958C-290D-405B-A9C0-91C794FD3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C618-852A-442F-BBD6-8D4B4D6D5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A6BB-502D-4BAD-AAA9-1633BF123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066B-6A36-44A1-B4FA-D34B0140F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9AC4-B8C6-4245-904F-071CC6ED4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DF05-2FA5-425C-B22B-A6119E3F4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D4FA-01A1-4AAB-8607-634825E64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A6A6-2111-4032-9951-D2312CCA0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267F-C71B-4C4F-B35B-AD1D9BD59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1914-ED12-4C61-B043-90384CD5A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0D20-1BB3-4120-BE92-83AB7F276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42DB-588F-472F-93C8-B220F0C67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08A2-25F3-48DE-A963-270447EFA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96AB-70C5-452C-AA05-C43CF9207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D0B5-79E7-4F83-A997-F7F18DDA1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D47C-B56C-45D7-B977-76A4EEB3B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1D81-E427-4491-A68E-2C18230A5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AE27-E40F-4C87-A075-626430306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SHINING" AND "CHINAT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BOTH "MUHAMMAD ALI" AND "THE PURSUIT OF HAPPY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DE  N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RAGING BULL" AND "CAPE FE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  CHANEY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OLF MAN, FRANKENSTEIN'S MONSTER, THE MUMMY, AND LENNY IN "OF MICE AND M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CO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GRACED ACTOR'S PH.D. THESIS DISCUSSED THE USE OF "FAT ALBERT" AS A TEACHING T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CRYS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ANALYZE THIS" AND "CITY SLICKER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F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PRODUCED, AND STARRED IN THE LANDMARK COUNTER-CULTURE FILM "EASY RIDER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GOLDB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ALL THE "JURASSIC PARK" AND "INDEPENDENCE DAY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BOTH "MUHAMMAD ALI" AND "THE PURSUIT OF HAPPYN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95280" y="4876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COLM  MCD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747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ENTRAL CHARACTER IN "A CLOCKWORK ORAN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NICHO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SHINING" AND "CHINAT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3880" y="4343400"/>
            <a:ext cx="6096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HAVE  PLAYED  THE  DEVIL  ON  SC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RAGING BULL" AND "CAPE FE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OLF MAN, FRANKENSTEIN'S MONSTER, THE MUMMY, AND LENNY IN "OF MICE AND M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GRACED ACTOR'S PH.D. THESIS DISCUSSED THE USE OF "FAT ALBERT" AS A TEACHING T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ANALYZE THIS" AND "CITY SLICKER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PRODUCED, AND STARRED IN THE LANDMARK COUNTER-CULTURE FILM "EASY RIDER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ALL THE "JURASSIC PARK" AND "INDEPENDENCE DAY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ENTRAL CHARACTER IN "A CLOCKWORK ORANG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2T14:16:05Z</dcterms:created>
  <dc:creator>Jennifer Budzinski</dc:creator>
  <dc:description/>
  <dc:language>en-US</dc:language>
  <cp:lastModifiedBy>Erich Friedman</cp:lastModifiedBy>
  <dcterms:modified xsi:type="dcterms:W3CDTF">2020-08-25T14:02:13Z</dcterms:modified>
  <cp:revision>356</cp:revision>
  <dc:subject/>
  <dc:title>Slide 1</dc:title>
</cp:coreProperties>
</file>