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19E5-5049-4287-9D33-9D888E0FA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3F36-2659-47DB-83E5-689AF8200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313E-5295-4E76-86A4-09DD7ADD2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8D05B-F857-4003-BE65-98F16950A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5BDD-A80A-483A-B9CC-D790E479F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68ED-34DF-4071-8EFB-CC2027ECE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1227-14EA-4622-A923-028363F2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35EB-0FA8-42E3-8ADB-EFBF69BE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D03E-E3CD-4BC0-8787-3E0D1185A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5EBF7-C260-4659-BDE5-6CB906885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A313-9E2C-43B0-A6FF-6E1E059AA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2E16-DEAC-4DBA-9077-7A6234B42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26F21-7B17-433D-BE76-82C25F0C3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B5680-8A40-4C9B-A0A6-40A920ED8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4FB1-2E26-4249-8D02-7DB0048E1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CF21-73AC-4CAA-893D-37C58092B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1E5A-940A-49B4-9CD1-14714F390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9ED0-AF48-45F7-97D3-0F1A9997B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8DE7-66EC-4274-8F65-332FF0897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2C3F-61A0-418C-A13F-F7491719D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842A-0241-43FE-9CC9-1480CFE10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62C0-34C6-46C8-9F28-E353CF893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1298-2F58-4AEB-BB46-F6373BAB2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SHINING" AND "CHINAT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BOTH "MUHAMMAD ALI" AND "THE PURSUIT OF HAPPY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838080" y="48769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E  N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AGING BULL" AND "CAPE FE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  CHAN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OLF MAN, FRANKENSTEIN'S MONSTER, THE MUMMY, AND LENNY IN "OF MICE AN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28800" y="4876920"/>
            <a:ext cx="5638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GRACED ACTOR'S PH.D. THESIS DISCUSSED THE USE OF "FAT ALBERT" AS A TEACHING T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Y  CRYS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ANALYZE THIS" AND "CITY SLICKER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95360" y="762120"/>
            <a:ext cx="8153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, AND STARRED IN THE LANDMARK COUNTER-CULTURE FILM "EASY RIDER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981080" y="4876920"/>
            <a:ext cx="51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GOLDB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ALL THE "JURASSIC PARK" AND "INDEPENDENCE DAY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BOTH "MUHAMMAD ALI" AND "THE PURSUIT OF HAPPYN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95280" y="487692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MCDOW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747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ENTRAL CHARACTER IN "A CLOCKWORK ORAN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SHINING" AND "CHINAT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23880" y="4343400"/>
            <a:ext cx="6096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HAVE  PLAYED  THE  DEVIL  ON  SC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RAGING BULL" AND "CAPE FE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OLF MAN, FRANKENSTEIN'S MONSTER, THE MUMMY, AND LENNY IN "OF MICE AND M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GRACED ACTOR'S PH.D. THESIS DISCUSSED THE USE OF "FAT ALBERT" AS A TEACHING T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ANALYZE THIS" AND "CITY SLICKER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PRODUCED, AND STARRED IN THE LANDMARK COUNTER-CULTURE FILM "EASY RIDER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ALL THE "JURASSIC PARK" AND "INDEPENDENCE DAY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ENTRAL CHARACTER IN "A CLOCKWORK ORAN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2T14:16:05Z</dcterms:created>
  <dc:creator>Jennifer Budzinski</dc:creator>
  <dc:description/>
  <dc:language>en-US</dc:language>
  <cp:lastModifiedBy>Erich Friedman</cp:lastModifiedBy>
  <dcterms:modified xsi:type="dcterms:W3CDTF">2020-08-25T14:02:13Z</dcterms:modified>
  <cp:revision>356</cp:revision>
  <dc:subject/>
  <dc:title>Slide 1</dc:title>
</cp:coreProperties>
</file>