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A00-EA85-4397-8D2E-8FBCC82D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3A1-B1AB-4CED-A406-D0D77A05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8E6C-B9F1-4CD4-8B50-744E287C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35DF-432A-4CB3-A61E-D66877BD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0CA4-EAD6-4C9C-9E4A-A9066458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64E2-62E0-48E4-98A3-A7C417C7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B370-D94E-43FD-A369-3B96AE6D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5DB6-9BE1-403E-BF27-06A08E63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666-8408-44B8-B332-9B0B6DA4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840-ABFA-4A17-9C8C-12FB5C14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080B-8878-46B6-9337-E6D1C3FD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BD8F-AA95-4EC4-8434-F65C7B44F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7683-D6AC-4510-A3DE-3F4B62E8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BACA-873C-4A22-9E30-08BCD9EA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B375-C961-417A-BFDC-8E035BBC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F66-CA12-4D51-B2F1-3A4D8747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3096-6FDF-4BBF-831C-00DE8ABE2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E427-232C-4A20-8726-CA4D651A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1E4A-BFC7-46BB-A927-1028C26FF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9B0-C14B-4D03-9042-1BDFB4AC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E69D-0F0A-43F0-8BAF-A7271FF7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B19E-8000-482F-87BD-9F379F7F3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FDE3-9EFD-46D0-944D-BE0801F0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INING" AND "CHINA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BOTH "MUHAMMAD ALI" AND "THE PURSUIT OF HAPPY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E  N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AGING BULL" AND "CAPE F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  CHA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LF MAN, FRANKENSTEIN'S MONSTER, THE MUMMY, AND LENNY IN "OF MICE AN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GRACED ACTOR'S PH.D. THESIS DISCUSSED THE USE OF "FAT ALBERT" AS A TEACHING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ANALYZE THIS" AND "CITY SLICKER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AND STARRED IN THE LANDMARK COUNTER-CULTURE FILM "EASY RID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LL THE "JURASSIC PARK" AND "INDEPENDENCE DA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BOTH "MUHAMMAD ALI" AND "THE PURSUIT OF HAPPY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9528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747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INING" AND "CHINA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PLAYED  THE  DEVIL  ON  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AGING BULL" AND "CAPE FE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LF MAN, FRANKENSTEIN'S MONSTER, THE MUMMY, AND LENNY IN "OF MICE AN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GRACED ACTOR'S PH.D. THESIS DISCUSSED THE USE OF "FAT ALBERT" AS A TEACHING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ANALYZE THIS" AND "CITY SLICKER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AND STARRED IN THE LANDMARK COUNTER-CULTURE FILM "EASY RID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LL THE "JURASSIC PARK" AND "INDEPENDENCE DA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2T14:16:05Z</dcterms:created>
  <dc:creator>Jennifer Budzinski</dc:creator>
  <dc:description/>
  <dc:language>en-US</dc:language>
  <cp:lastModifiedBy>Erich Friedman</cp:lastModifiedBy>
  <dcterms:modified xsi:type="dcterms:W3CDTF">2020-08-25T14:02:13Z</dcterms:modified>
  <cp:revision>356</cp:revision>
  <dc:subject/>
  <dc:title>Slide 1</dc:title>
</cp:coreProperties>
</file>