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9E4-811A-4F61-AAC4-67928773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1E7-DDEC-4FDB-95AF-71F999C2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E9C-2A37-4BDD-B3BE-9A3DD1BC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C4F-1728-469E-9F77-876EC813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DB77-2BA4-4D7A-9774-2D4508F1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324-6AA7-4E0D-9CF1-3C141A73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D79-1B4F-44F4-98CE-DF30267F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F86B-1AF3-427A-83E5-8C486B8F6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A83A-CB7B-4ECE-99B1-BCBAC44A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BA5D-1CBC-42F2-B54A-2A5B88CB7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EDA1-4163-4421-80C9-D15596A9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28B6-95F1-402E-B76D-18ECABC9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7317-5CF8-498E-991E-99D414B5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49F-F3B4-4F03-B958-1201B67E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303-D96C-45A3-BD1D-4DE17780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FD4-C4B9-485E-96A2-5066D3E9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1683-7A0B-467E-9652-571BF6D0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ED9-9D93-4B80-B859-21C3AE70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0051-1E18-4BA9-81FF-0D391770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C4A-335B-467F-89A1-60317F04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FDD-A8F4-4FB4-AF00-BB2BE403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584-F9D2-4844-93CF-9240ADCCB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DD9-B716-4528-B9D1-5D338FD8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ROBERT REDFORD BASEBALL FILM WAS THE FIRST MOVIE PRODUCED     BY TRISTAR PI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25480" y="2057400"/>
            <a:ext cx="56930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FLORIDA KEY TO BE REACHED FROM THE OVERSEAS HIGH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BARELY OUTRANKS A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7720" y="782640"/>
            <a:ext cx="76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SERIES WAS VOTED BY "TV GUIDE" IN 2013 TO BE THE BEST TV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IRCRAFT CAN ROTATE ON 3 AXES, WHICH ARE CALLED YAW, ROLL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PENGUIN IN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00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LL)  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CREATED, WROTE, AND STARRED IN "THE 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25480" y="2057400"/>
            <a:ext cx="5693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RATIO", "RIGID PLATE", OR "A MEASURING DE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ROBERT REDFORD BASEBALL FILM WAS THE FIRST MOVIE PRODUCED     BY TRISTAR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00600"/>
            <a:ext cx="763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IC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FLORIDA KEY TO BE REACHED FROM THE OVERSEAS HIGH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BARELY OUTRANKS A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SERIES WAS VOTED BY "TV GUIDE" IN 2013 TO BE THE BEST TV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IRCRAFT CAN ROTATE ON 3 AXES, WHICH ARE CALLED YAW, ROLL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PENGUIN IN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CREATED, WROTE, AND STARRED IN "THE 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7880" y="76212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RATIO", "RIGID PLATE", OR "A MEASURING DE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9-20T18:09:08Z</dcterms:modified>
  <cp:revision>449</cp:revision>
  <dc:subject/>
  <dc:title>Slide 1</dc:title>
</cp:coreProperties>
</file>