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0EAC3-4CFA-4282-9933-324FF4C162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F5100-2841-48B4-8206-2671F64AD7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EF679-EEAC-46E9-B097-5F3F1577F1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24924-B274-4AC9-8537-2A026069B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527D5-D0E3-4D34-BB68-0EEA8AB907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A51CE-6068-4F09-BB26-22B9B2616D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12EF9-90BD-4D63-AE3C-EDB321D6CE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89DBF-57E7-474A-84E6-1609B65E43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5C0F4-CA80-419A-A5B4-1B9A186372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B6B77-D45D-44D0-803E-2AEF5BEF96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CA4A4-8B67-46ED-B30A-F540F4DD95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04598-3A5A-4009-AC33-B4ADA8226A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9FE15-4AB0-422C-A1BB-334D4A3033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082FC-39B0-4BF9-BE37-135D15F047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420CB-2138-45D3-8219-7769FA5429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DACDE-7DA4-4998-B2E7-990F37BBB8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C0B2A-27EC-4AA2-9E4C-5FBD0002F1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E8AC4-6C49-4CD5-B35F-003D8382C6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20F67-5619-4083-8780-18E42B51E9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B25C0-2B1B-4496-A821-EBBE1E329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8D475-31D4-41FB-867C-B2FB0329E1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2D03C-6D76-4F50-B61C-520132E947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5B78A-3AB6-41F2-8373-47C2677A8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523880" y="1523880"/>
            <a:ext cx="6096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15520" y="762120"/>
            <a:ext cx="81104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4 ROBERT REDFORD BASEBALL FILM WAS THE FIRST MOVIE PRODUCED     BY TRISTAR PICTUR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666720" y="762120"/>
            <a:ext cx="7810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FISH IS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1725480" y="2057400"/>
            <a:ext cx="569304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15238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R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795240" y="762120"/>
            <a:ext cx="7553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FLORIDA KEY TO BE REACHED FROM THE OVERSEAS HIGHW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J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03320" y="762120"/>
            <a:ext cx="86868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MY RANK BARELY OUTRANKS A CAPTA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343080" y="489744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SOPRAN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747720" y="782640"/>
            <a:ext cx="7648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RIME SERIES WAS VOTED BY "TV GUIDE" IN 2013 TO BE THE BEST TV SERIES OF ALL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143000" y="4876920"/>
            <a:ext cx="6858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62040" y="762120"/>
            <a:ext cx="7819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 AIRCRAFT CAN ROTATE ON 3 AXES, WHICH ARE CALLED YAW, ROLL, AN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P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369720" y="762120"/>
            <a:ext cx="840456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PENGUIN IN "BLOOM COUNT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333440" y="4800600"/>
            <a:ext cx="6477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WILL)  FOR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509760" y="762120"/>
            <a:ext cx="81244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CTOR WHO CREATED, WROTE, AND STARRED IN "THE LAST MAN ON EART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836640" y="762120"/>
            <a:ext cx="7469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FISH IS TH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1725480" y="2057400"/>
            <a:ext cx="569304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571680" y="4800600"/>
            <a:ext cx="8001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C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743040" y="762120"/>
            <a:ext cx="76579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CAN MEAN "RATIO", "RIGID PLATE", OR "A MEASURING DEVIC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380880" y="4800600"/>
            <a:ext cx="8382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NATU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600120" y="762120"/>
            <a:ext cx="7943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4 ROBERT REDFORD BASEBALL FILM WAS THE FIRST MOVIE PRODUCED     BY TRISTAR PICTUR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752400" y="4800600"/>
            <a:ext cx="7639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USIC  TER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533520" y="80028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766800" y="761760"/>
            <a:ext cx="7610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FLORIDA KEY TO BE REACHED FROM THE OVERSEAS HIGHWA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228600" y="762120"/>
            <a:ext cx="8686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MY RANK BARELY OUTRANKS A CAPTA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90560" y="762120"/>
            <a:ext cx="7562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RIME SERIES WAS VOTED BY "TV GUIDE" IN 2013 TO BE THE BEST TV SERIES OF ALL 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71600" y="762120"/>
            <a:ext cx="82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 AIRCRAFT CAN ROTATE ON 3 AXES, WHICH ARE CALLED YAW, ROLL, AND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52440" y="761760"/>
            <a:ext cx="8439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PENGUIN IN "BLOOM COUNT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66560" y="762120"/>
            <a:ext cx="8210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CTOR WHO CREATED, WROTE, AND STARRED IN "THE LAST MAN ON EARTH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77880" y="762120"/>
            <a:ext cx="77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CAN MEAN "RATIO", "RIGID PLATE", OR "A MEASURING DEVIC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13:38:10Z</dcterms:created>
  <dc:creator>Jennifer Budzinski</dc:creator>
  <dc:description/>
  <dc:language>en-US</dc:language>
  <cp:lastModifiedBy>Erich Friedman</cp:lastModifiedBy>
  <dcterms:modified xsi:type="dcterms:W3CDTF">2022-09-20T18:09:08Z</dcterms:modified>
  <cp:revision>449</cp:revision>
  <dc:subject/>
  <dc:title>Slide 1</dc:title>
</cp:coreProperties>
</file>