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EFBE-DA9F-4E99-BBC8-3DE9C6DEF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DB1B-A39F-4859-A1F2-9CB4FDD6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5E7D-5A96-4278-B5E5-2F0BA566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9DD-6558-4743-AB88-33E3E1A5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3654-94FB-4210-B7F8-E96A4D6A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D839-DFFF-4CB0-AC61-33958B58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2650-C6E3-4B01-B4D1-9EB9B8E0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EB68-21C8-4322-A503-7EE33EFD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47A-BD10-46A7-A36D-853E9FD3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27A5-D638-415D-AFE3-322EC92A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48CD-6048-446C-99A3-0DDD4E839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1059-D352-4582-9ADC-49A057F5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C8CA-6AA3-42B9-9A5B-D7D08866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FE5A-C781-4558-8532-0C41C4AE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512-0D7F-4704-BD8E-41C84B53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8EE-EC7E-4449-AB15-3D495E97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77E-33D1-4102-91C6-CFFEDEAD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1842-22C8-4EDF-B2D8-2BFC822A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081F-FE93-43A2-9A10-52520B443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0C8-A907-4679-BBA0-7B3E0F60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FCF8-4326-44AF-B3B4-451AB99A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59A5-A3D7-4A6E-A5B5-E3B4D5A0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2B8-8673-4DC1-85BB-8BC3C32F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2320" y="761760"/>
            <a:ext cx="729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THE CATCH PHRASE FOR WENDY'S WAS "WHERE'S THE ____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24080" y="4876920"/>
            <a:ext cx="64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4080" y="762120"/>
            <a:ext cx="649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79440" y="762120"/>
            <a:ext cx="838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BYLONIANS USED 2 QUOTE MARKS ( ' ' ) TO REPRESENT WHAT MATH ID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IRR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3360" y="776160"/>
            <a:ext cx="84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ADING CAUSE OF POWER OUTAGES ARE STORMS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 THE 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90440" y="774720"/>
            <a:ext cx="69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SURVEYING EQUIPMENT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8680" y="762120"/>
            <a:ext cx="848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20 ANIMATED DISNEY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FEATURE A GAY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0480" y="762120"/>
            <a:ext cx="776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TTOM LEFT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(WAR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0440" y="762120"/>
            <a:ext cx="822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OF HARRY POTTER'S BOARDING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3360" y="762120"/>
            <a:ext cx="667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69800" y="4876920"/>
            <a:ext cx="820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1480" y="762120"/>
            <a:ext cx="761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       OF U.S. UNIVERSITIES, BESIDES "UNIVER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THE CATCH PHRASE FOR WENDY'S WAS "WHERE'S THE ____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47800" y="4876920"/>
            <a:ext cx="7448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ROU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1840" y="76176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BYLONIANS USED 2 QUOTE MARKS ( ' ' ) TO REPRESENT WHAT MATH ID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2200" y="762120"/>
            <a:ext cx="849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ADING CAUSE OF POWER OUTAGES ARE STORMS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 THE 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34560" y="762120"/>
            <a:ext cx="7272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SURVEYING EQUIPMENT IS A PALINDR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20 ANIMATED DISNEY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FEATURE A GAY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TTOM LEFT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440" y="761760"/>
            <a:ext cx="825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OF HARRY POTTER'S BOARDING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8880" y="762120"/>
            <a:ext cx="7626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       OF U.S. UNIVERSITIES, BESIDES "UNIVER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14T18:42:27Z</dcterms:modified>
  <cp:revision>522</cp:revision>
  <dc:subject/>
  <dc:title>Slide 1</dc:title>
</cp:coreProperties>
</file>