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B6841-CCB8-44D7-8D9C-809320DB2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9A5D-2624-4EB9-B2C6-0B2912987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8089-BA03-4C02-B025-4A0116049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3020-A73F-4E02-A218-F0F731BEA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D3EA-2D5B-49C3-8F7F-8670D081A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3FFD-E6B0-4C53-B109-7FA59676C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509C-C90C-43FF-81F0-9A5529BB9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AFAC-576B-4A98-979D-90364A93B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9120-0AF9-44BB-ADA7-6368F2B4A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CED18-BD8E-4AA1-AF43-70EFD0E4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340A-4044-47B7-9EE9-1E614F5AA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18B0-D8DC-4710-911B-276A29054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4F7F-018D-46D6-A902-D377837A8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2DA8-F9DF-4B60-848E-541AF5A1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ECF5-637F-43EC-B642-13F4B0FEB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D58A-2311-4254-89F6-DF173F0CB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A01F-3948-41D7-8C2E-BA1296DD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9257-FDAB-480E-919B-1EEDC6224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943E-2351-424A-A3DC-4BFCED8D9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4A71-50C9-4033-851E-1F8E7C9A0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8924-B452-4E76-9D06-66FB5F9FF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66F-E5F4-4769-B5E4-EA8859EFD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BE2B-5776-4AA8-A68F-C9706CD61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571320" y="15238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ON THREA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922320" y="761760"/>
            <a:ext cx="7299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THE CATCH PHRASE FOR WENDY'S WAS "WHERE'S THE ____?"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324080" y="4876920"/>
            <a:ext cx="64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24080" y="762120"/>
            <a:ext cx="6495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OUND IN THE UNIVER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571680" y="4876920"/>
            <a:ext cx="8001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ZE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79440" y="762120"/>
            <a:ext cx="83851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BYLONIANS USED 2 QUOTE MARKS ( ' ' ) TO REPRESENT WHAT MATH IDE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QUIRR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3360" y="776160"/>
            <a:ext cx="847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ADING CAUSE OF POWER OUTAGES ARE STORMS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 THE 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1028880" y="4889520"/>
            <a:ext cx="70866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1090440" y="774720"/>
            <a:ext cx="69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SURVEYING EQUIPMENT IS A PALINDRO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1685880" y="4876920"/>
            <a:ext cx="5772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28680" y="762120"/>
            <a:ext cx="8486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20 ANIMATED DISNEY FILM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FEATURE A GAY MAIN CHARAC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14480" y="4876920"/>
            <a:ext cx="891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90480" y="762120"/>
            <a:ext cx="7763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OTTOM LEFT KEY ON MOST KEYBOAR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210960" y="4876920"/>
            <a:ext cx="8722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OG(WART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60440" y="762120"/>
            <a:ext cx="82231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OF HARRY POTTER'S BOARDING SCHO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3360" y="762120"/>
            <a:ext cx="6677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COMPOUND IN THE UNIVER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69800" y="4876920"/>
            <a:ext cx="820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71480" y="762120"/>
            <a:ext cx="7610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       OF U.S. UNIVERSITIES, BESIDES "UNIVERSIT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190440" y="4876920"/>
            <a:ext cx="8763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941400" y="762120"/>
            <a:ext cx="725976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 1984, THE CATCH PHRASE FOR WENDY'S WAS "WHERE'S THE ____?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847800" y="4876920"/>
            <a:ext cx="7448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N  FOLLOW  "GROUND"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3520" y="762120"/>
            <a:ext cx="8076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 ALL THESE ANSWERS HAVE IN COMMON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21840" y="761760"/>
            <a:ext cx="8497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BABYLONIANS USED 2 QUOTE MARKS ( ' ' ) TO REPRESENT WHAT MATH IDE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22200" y="762120"/>
            <a:ext cx="849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EADING CAUSE OF POWER OUTAGES ARE STORMS.  WHAT I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ON THE L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34560" y="762120"/>
            <a:ext cx="7272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IECE OF SURVEYING EQUIPMENT IS A PALINDRO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31920" y="762120"/>
            <a:ext cx="847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2020 ANIMATED DISNEY FILM WAS THE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TO FEATURE A GAY MAIN CHARACT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11280" y="761760"/>
            <a:ext cx="7921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BOTTOM LEFT KEY ON MOST KEYBOAR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2440" y="761760"/>
            <a:ext cx="8256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FIRST 3 LETTERS OF HARRY POTTER'S BOARDING SCHOO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58880" y="762120"/>
            <a:ext cx="76262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OST COMMON WORD IN THE NAMES        OF U.S. UNIVERSITIES, BESIDES "UNIVERSIT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16:34:55Z</dcterms:created>
  <dc:creator>Jennifer Budzinski</dc:creator>
  <dc:description/>
  <dc:language>en-US</dc:language>
  <cp:lastModifiedBy>Erich Friedman</cp:lastModifiedBy>
  <dcterms:modified xsi:type="dcterms:W3CDTF">2022-10-14T18:42:27Z</dcterms:modified>
  <cp:revision>522</cp:revision>
  <dc:subject/>
  <dc:title>Slide 1</dc:title>
</cp:coreProperties>
</file>