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ACB7-14D1-438C-9CEE-50AB99874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FB9B-76C6-43A3-85CF-D9CBDF9F1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B8EB-859C-4044-8D39-476A9D196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09AD-1831-472A-9F88-2C060B892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3B21-080A-4486-A68E-2E03767BE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5DA0-1521-4B3D-831A-761DA8E29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F040-D057-422E-A977-B9464ABD6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8217-C885-4DD2-8335-A08055CEC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468C-3C28-491A-8C06-040ADEE0E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4873-8B00-45AB-845E-E197A72A8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9E95-B33E-4E85-8761-6641110C3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8C91-DFC0-4143-8685-1A22A3476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237E-2A7E-44FB-8D79-6F71AB35F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03E3-A882-4131-A75E-6CE262C27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FAB2-1096-420B-9911-9FD3CA3DE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D8A2-036E-4BA5-8489-C788D2DC6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8068-5497-4768-908C-5BEE5070C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5EB2-B4FD-487D-A0A3-486D37268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57D7-37D5-47E9-82EE-0D14FC176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A94E-8C77-4480-8959-99E3F7304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D302-E5A1-4F56-AA57-D60C76A31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75F9-A7EE-4BF8-B18E-789187B04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7607-2922-4E92-AB80-BFA76699D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19280" y="762120"/>
            <a:ext cx="7704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ACCOMPANIED "LET THE SUNSHINE IN" IN A MEDLEY IN A 1967 MUSIC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EN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47840" y="762120"/>
            <a:ext cx="8248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 CAPITAL WAS THE SETTING FOR THE TV SHOWS "ALICE" AND "MEDIU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N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062000" y="762120"/>
            <a:ext cx="7020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CKMINSTER FULLER WA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WHAT ORGANIZATION, FOR PEOPLE IN THE TOP 2% OF IQ TES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80880" y="762120"/>
            <a:ext cx="83822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TIONAL RIVER OF PAKISTAN, WHICH LENT ITS NAME TO A RIVAL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647720" y="782640"/>
            <a:ext cx="5848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SEASE DO ONCOLOGISTS TREAT AND STU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UMB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07880" y="762120"/>
            <a:ext cx="8328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SELECTIVE IVY LEAGUE UNIVERSITY, AFTER HARV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YN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41400" y="762120"/>
            <a:ext cx="72612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US SERVICE IN ORLANDO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333440" y="487692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U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12800" y="762120"/>
            <a:ext cx="7718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ROCK CLIMBING, WHAT IS THE MOST DIFFICULT PART OF A ROUTE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4840" y="762120"/>
            <a:ext cx="8192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 CAPITAL WAS THE SETTING FOR THE TV SHOWS "ALICE" AND "MEDIU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KARMA)  CHAMELE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IN THE NAME OF CULTURE CLUB'S BIGGEST HI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QUARI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41240" y="762120"/>
            <a:ext cx="766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ACCOMPANIED "LET THE SUNSHINE IN" IN A MEDLEY IN A 1967 MUSIC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752400" y="4876920"/>
            <a:ext cx="763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CONSTEL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53640" y="761760"/>
            <a:ext cx="7234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CKMINSTER FULLER WA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WHAT ORGANIZATION, FOR PEOPLE IN THE TOP 2% OF IQ TES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TIONAL RIVER OF PAKISTAN, WHICH LENT ITS NAME TO A RIVAL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676520" y="762120"/>
            <a:ext cx="5790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SEASE DO ONCOLOGISTS TREAT AND STU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762120"/>
            <a:ext cx="8496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SELECTIVE IVY LEAGUE UNIVERSITY, AFTER HARV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09640" y="761760"/>
            <a:ext cx="7524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US SERVICE IN ORLANDO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6560" y="762120"/>
            <a:ext cx="8210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ROCK CLIMBING, WHAT IS THE MOST DIFFICULT PART OF A ROUTE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19120" y="762120"/>
            <a:ext cx="8105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IN THE NAME OF CULTURE CLUB'S BIGGEST HIT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2-10-14T18:47:17Z</dcterms:modified>
  <cp:revision>450</cp:revision>
  <dc:subject/>
  <dc:title>Slide 1</dc:title>
</cp:coreProperties>
</file>