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8DFD-9214-4132-ADAF-430CBF2F0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F0E7-BC3A-4C2B-B0B8-0956C4B26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F370-E2B2-4BA6-AC44-5A97876E7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2FC9-E53C-4764-9F1C-9194969ED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D034-0179-4325-ABA1-E915F1CA9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FFFF-36C1-4AAB-841A-C303818CC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B8ED-A0ED-4E0C-9A48-637BA3D84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3AE7-4195-4FDF-A640-14F4E9447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6564-5E91-43D4-B13F-BA63EC8D6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2B9C-B974-4454-8B5E-803EDB2E2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8EC5-233E-48C4-90D7-1B9103633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F506-DC19-4CDD-9C45-F2741B6BF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4396-4FFD-4AD2-A854-33B130023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EBEB-7730-4A01-88F9-27A084CDB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9D35-0FDB-4E8C-B868-F65701D1E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D1EB-3A5F-4AB7-BFA0-E2C61702A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0D17-3521-4C13-9A65-B2A678D55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36EE-4EB3-46AF-80A2-7E9CB10AA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2C1D-7E36-4714-8509-5728209C0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35C8-F91E-4671-A3E3-C8F730D4E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FE8A-4D7A-4B88-96BD-99821CB7C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9643-B1CD-48EA-9CA9-25AD8553B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132B-10A4-42FF-B31A-2CE1EBEE0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19280" y="762120"/>
            <a:ext cx="770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ACCOMPANIED "LET THE SUNSHINE IN" IN A MEDLEY IN A 1967 MUSIC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EN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47840" y="762120"/>
            <a:ext cx="8248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CAPITAL WAS THE SETTING FOR THE TV SHOWS "ALICE" AND "MEDIU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N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62000" y="762120"/>
            <a:ext cx="7020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CKMINSTER FULLER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WHAT ORGANIZATION, FOR PEOPLE IN THE TOP 2% OF IQ TES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80880" y="762120"/>
            <a:ext cx="8382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TIONAL RIVER OF PAKISTAN, WHICH LENT ITS NAME TO A RIVAL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647720" y="782640"/>
            <a:ext cx="5848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EASE DO ONCOLOGISTS TREAT AND STU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UM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07880" y="762120"/>
            <a:ext cx="8328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SELECTIVE IVY LEAGUE UNIVERSITY, AFTER HARV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YN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41400" y="762120"/>
            <a:ext cx="72612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US SERVICE IN ORLANDO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333440" y="48769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12800" y="762120"/>
            <a:ext cx="7718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ROCK CLIMBING, WHAT IS THE MOST DIFFICULT PART OF A ROUT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4840" y="762120"/>
            <a:ext cx="8192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CAPITAL WAS THE SETTING FOR THE TV SHOWS "ALICE" AND "MEDIU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KARMA)  CHAMEL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IN THE NAME OF CULTURE CLUB'S BIGGEST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QUARI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41240" y="762120"/>
            <a:ext cx="766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ACCOMPANIED "LET THE SUNSHINE IN" IN A MEDLEY IN A 1967 MUSIC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52400" y="4876920"/>
            <a:ext cx="763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CONSTEL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53640" y="761760"/>
            <a:ext cx="7234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CKMINSTER FULLER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WHAT ORGANIZATION, FOR PEOPLE IN THE TOP 2% OF IQ TES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TIONAL RIVER OF PAKISTAN, WHICH LENT ITS NAME TO A RIVAL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676520" y="762120"/>
            <a:ext cx="5790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EASE DO ONCOLOGISTS TREAT AND STU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SELECTIVE IVY LEAGUE UNIVERSITY, AFTER HARV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09640" y="761760"/>
            <a:ext cx="7524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US SERVICE IN ORLANDO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6560" y="762120"/>
            <a:ext cx="8210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ROCK CLIMBING, WHAT IS THE MOST DIFFICULT PART OF A ROUT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19120" y="762120"/>
            <a:ext cx="8105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IN THE NAME OF CULTURE CLUB'S BIGGEST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2-10-14T18:47:17Z</dcterms:modified>
  <cp:revision>450</cp:revision>
  <dc:subject/>
  <dc:title>Slide 1</dc:title>
</cp:coreProperties>
</file>