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E848-E2CA-4ACD-B823-658215DB3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8944-7775-424A-847A-23FB8607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0129-7227-4876-962B-79F9C41DB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A597-9E89-4CEF-A5D6-C8E47891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27D1-339D-43E0-B4A4-07B59E1C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69B5-21C0-4EA1-8786-57519E7A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0B14-7FB9-40F3-8C25-8BEFADE9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9C7B-C1CE-467A-A68F-DED5340B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95DF-3E68-4CAD-8842-A780A881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57C0-A5CB-4E95-822C-2F5C6FC1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1E73-D82B-4B4A-95A7-E80E44D8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D6CA-6358-48F9-8966-AAC4BB4C2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DEAF-61B9-49D9-8D71-C90FC1B95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588E-F876-483B-9E14-9D02A2BE6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FFBE-CDA5-4165-96E9-8D74D629D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D593-B864-4C0B-B3FB-55D4EC6ED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C067-9E28-4A8F-B757-549D578D4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453C-D836-4E32-A6A9-0BB8DCE42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A0C0-AD50-42DC-90F6-F96F80C6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F561-95EA-4A83-8040-E7FE096BD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67B7-D59F-4D20-92D7-5C888F1C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106A-CECD-4DFC-A183-9C05C86A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2412-A3D4-4D7C-B5E1-0B2CFD29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HE WAS LOSING HIS VISION, JAMES JOYCE WROTE MOST OF HIS NOVEL "FINNEGANS WAKE" USING WHAT WRITING IMP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M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19280" y="762120"/>
            <a:ext cx="7705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TOMMY DORSEY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58760" y="762120"/>
            <a:ext cx="702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EIRD AL YANKOVIC'S PARODY OF MICHAEL JACKSON'S SONG "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TRIBUTARY OF THE RHINE RIVER, RUNNING THROUGH FRANKFURT AND WÜRZBU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81200" y="77148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ILY ACTION, DONE BY MORE THAN 10% OF AMERICANS, LOWERS THEIR LIFE EXPECTANCY BY MORE THAN 1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0520" y="762120"/>
            <a:ext cx="802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ITE OF COMPUTER PROGRAMS DID MICROSOFT FIRST SELL IN 19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19320" y="4343400"/>
            <a:ext cx="6705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UPREME)  COURT  (OF  THE  UNITED  STAT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SCOT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0160" y="762120"/>
            <a:ext cx="748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S ARE SUFFICIENT TO COLOR   ANY FLAT MAP SO THAT NEIGHBORING REGIONS HAVE DIFFERENT COL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55720" y="762120"/>
            <a:ext cx="743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TOMMY DORSEY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70000" y="762120"/>
            <a:ext cx="680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COLBERT, DRUDGE, OR MU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HE WAS LOSING HIS VISION, JAMES JOYCE WROTE MOST OF HIS NOVEL "FINNEGANS WAKE" USING WHAT WRITING IMP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7000" y="4267080"/>
            <a:ext cx="9117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WORDS  THAT  MEAN  SOMETHING  DIFFERENT  IN  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38240" y="761760"/>
            <a:ext cx="706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EIRD AL YANKOVIC'S PARODY OF MICHAEL JACKSON'S SONG "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22280" y="762120"/>
            <a:ext cx="829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TRIBUTARY OF THE RHINE RIVER, RUNNING THROUGH FRANKFURT AND WÜRZBU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ILY ACTION, DONE BY MORE THAN 10% OF AMERICANS, LOWERS THEIR LIFE EXPECTANCY BY MORE THAN 1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3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ITE OF COMPUTER PROGRAMS DID MICROSOFT FIRST SELL IN 19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SCOT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S ARE SUFFICIENT TO COLOR   ANY FLAT MAP SO THAT NEIGHBORING REGIONS HAVE DIFFERENT COL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COLBERT, DRUDGE, OR MUL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32:18Z</dcterms:modified>
  <cp:revision>435</cp:revision>
  <dc:subject/>
  <dc:title>Slide 1</dc:title>
</cp:coreProperties>
</file>