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15B5-E8E7-42EA-8285-81119594B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0E3C-9154-437F-9C08-449B4090A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7973-EA07-49F2-8361-4951FEC2C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2849-1BA1-4E26-95A4-52A702290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29DB-4AFF-4A30-9D02-B9A76DE5D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06CF-0C67-4382-956E-32CFC3277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AA3F-063D-4B27-92D5-CE1E1CCE8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5032-4A60-4A75-81EC-1B0919383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5E93-91CD-4AB0-ABCA-B51FB07B4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68B1-6856-4099-851F-0FD633238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B1B6-EDB0-4FCD-BAE7-710A536DA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CF90-F936-4775-8078-C7C07F485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A9A5-74F2-4B9D-8F7F-A1610BAA2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A3CB-803C-4BD2-83EE-D36537C98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9907-A45F-4540-819A-413A17DE7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B892-846C-4360-8C05-B85F5E292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4264-44B7-49F5-93E6-91279C517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3F5B-4D3A-4593-B3AF-0A6646BB5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2680-9AE7-47B6-8ED5-A42C2FA6E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2784-C633-447C-B335-51A15FA23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4BCAA-AB26-40E3-B8C2-54EA153A5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A3D1-1329-4F88-820E-A2BA8C6CB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B094-99CD-404B-A419-E0405D4FA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 HE WAS LOSING HIS VISION, JAMES JOYCE WROTE MOST OF HIS NOVEL "FINNEGANS WAKE" USING WHAT WRITING IMPLE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OMB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19280" y="762120"/>
            <a:ext cx="7705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TRUMENT DID TOMMY DORSEY PL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058760" y="762120"/>
            <a:ext cx="7026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WEIRD AL YANKOVIC'S PARODY OF MICHAEL JACKSON'S SONG "BA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NGEST TRIBUTARY OF THE RHINE RIVER, RUNNING THROUGH FRANKFURT AND WÜRZBUR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MO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81200" y="771480"/>
            <a:ext cx="7581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ILY ACTION, DONE BY MORE THAN 10% OF AMERICANS, LOWERS THEIR LIFE EXPECTANCY BY MORE THAN 10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F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60520" y="762120"/>
            <a:ext cx="8022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ITE OF COMPUTER PROGRAMS DID MICROSOFT FIRST SELL IN 198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219320" y="4343400"/>
            <a:ext cx="6705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UPREME)  COURT  (OF  THE  UNITED  STAT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C" STAND FOR IN "SCOTU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30160" y="762120"/>
            <a:ext cx="7483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OLORS ARE SUFFICIENT TO COLOR   ANY FLAT MAP SO THAT NEIGHBORING REGIONS HAVE DIFFERENT COL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55720" y="762120"/>
            <a:ext cx="7431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TRUMENT DID TOMMY DORSEY PL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170000" y="762120"/>
            <a:ext cx="6802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FOLLOW COLBERT, DRUDGE, OR MULL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Y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 HE WAS LOSING HIS VISION, JAMES JOYCE WROTE MOST OF HIS NOVEL "FINNEGANS WAKE" USING WHAT WRITING IMPLE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7000" y="4267080"/>
            <a:ext cx="91170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GLISH  WORDS  THAT  MEAN  SOMETHING  DIFFERENT  IN  FRE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38240" y="761760"/>
            <a:ext cx="7067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WEIRD AL YANKOVIC'S PARODY OF MICHAEL JACKSON'S SONG "BA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22280" y="762120"/>
            <a:ext cx="829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NGEST TRIBUTARY OF THE RHINE RIVER, RUNNING THROUGH FRANKFURT AND WÜRZBUR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23760" y="762120"/>
            <a:ext cx="7296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ILY ACTION, DONE BY MORE THAN 10% OF AMERICANS, LOWERS THEIR LIFE EXPECTANCY BY MORE THAN 10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30200" y="762120"/>
            <a:ext cx="8283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ITE OF COMPUTER PROGRAMS DID MICROSOFT FIRST SELL IN 198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65280" y="761760"/>
            <a:ext cx="7813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C" STAND FOR IN "SCOTU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43040" y="761760"/>
            <a:ext cx="7657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OLORS ARE SUFFICIENT TO COLOR   ANY FLAT MAP SO THAT NEIGHBORING REGIONS HAVE DIFFERENT COLO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FOLLOW COLBERT, DRUDGE, OR MULL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9-23T13:32:18Z</dcterms:modified>
  <cp:revision>435</cp:revision>
  <dc:subject/>
  <dc:title>Slide 1</dc:title>
</cp:coreProperties>
</file>