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19B2-865B-4CBF-AB9B-278D93DA8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2443-0755-4A1A-9A66-4AD7FADB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60A7-E656-41B4-ADEE-370BDB0E8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37E6-944A-4386-8CF9-3B59E3BE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3F3E-BFBF-4ED3-A0A5-92603BA8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1C59-84D6-431A-A3A6-FAAC22CE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5279-6D3B-4595-844A-7AFF8BE6C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95C1-6327-471F-8182-707431DC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F959-AD61-4BAA-803E-1DCB2249A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7C8C-2208-4807-814B-185EB618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06C3-AE46-401E-8E29-3C7C05635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156-EA28-4F24-B6BE-A4BD584E9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D525-DF1D-4F41-BEF9-094E7132F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F9C9-F8B8-4452-B3FE-442901101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34E4-BEC8-4ED6-8CF9-5F68E2F8C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DD77-29C1-472A-AE3D-C3D150504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BD96-D127-4373-A29F-828120B40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7278-9550-405F-BE97-8499DE191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4652-6F24-43E8-99E4-9C6C6E650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028-C95E-4513-8460-13D5E043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A5A0-1B52-4C69-B877-34AF8118E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47D6-4E21-453A-AEB5-B80CFE5FC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363-D59E-47A4-A4DD-9849A06B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63 FILM ARE A BUNCH OF STRANGERS RACING TO FIND $350,000 THAT IS BURIED UNDER A GIANT "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AR  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68580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7 FILM DOES JIM CARREY HAVE TO TELL THE TRUTH BECAUSE OF A BIRTHDAY WISH BY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  SAY  NEVER 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6858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ID SEAN CONNERY PLAY JAMES BOND FOR THE SEVENTH AND FINA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RINA, COR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IS WHOOPI GOLDBERG HIRED TO CARE FOR RAY LIOTTA'S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NDA  AND  MELI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6858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WOODY ALLEN FILM ARE TWO STORIES TOLD ABOUT THE SAME PERSON, ONE COMIC AND ONE TRAG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, WILD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685800"/>
            <a:ext cx="7924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WESTERN FILM STARRED WILL SMITH, KEVIN KLINE, KENNETH BRANAGH, AND SALMA HAY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19112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USSIANS  ARE  COMING,  THE  RUSSIANS  ARE  CO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66 FILM DOES A SOVIET SUBMARINE RUN AGROUND NEAR A MASSACHUSETTS T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TTY,  CHITTY,  BANG,  B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6858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IS NAMED FOR THE UNUSUAL SOUND THAT THE MAGIC CAR IN IT M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7 FILM DOES JIM CARREY HAVE TO TELL THE TRUTH BECAUSE OF A BIRTHDAY WISH BY HIS 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04840" y="483228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MER  VS.  KR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491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9 FILM ARE DUSTIN HOFFMAN AND MERYL STREEP'S CHARACTERS DIVOR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00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A  MAD, MAD, MAD, MAD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685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63 FILM ARE A BUNCH OF STRANGERS RACING TO FIND $350,000 THAT IS BURIED UNDER A GIANT "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52480" y="4267080"/>
            <a:ext cx="5715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REPEATED 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ID SEAN CONNERY PLAY JAMES BOND FOR THE SEVENTH AND FINA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838080"/>
            <a:ext cx="8534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IS WHOOPI GOLDBERG HIRED TO CARE FOR RAY LIOTTA'S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WOODY ALLEN FILM ARE TWO STORIES TOLD ABOUT THE SAME PERSON, ONE COMIC AND ONE TRAG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WESTERN FILM STARRED WILL SMITH, KEVIN KLINE, KENNETH BRANAGH, AND SALMA HAY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66 FILM DOES A SOVIET SUBMARINE RUN AGROUND NEAR A MASSACHUSETTS T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IS NAMED FOR THE UNUSUAL SOUND THAT THE MAGIC CAR IN IT M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9 FILM ARE DUSTIN HOFFMAN AND MERYL STREEP'S CHARACTERS DIVOR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23:26:21Z</dcterms:created>
  <dc:creator>Jennifer Budzinski</dc:creator>
  <dc:description/>
  <dc:language>en-US</dc:language>
  <cp:lastModifiedBy>Erich Friedman</cp:lastModifiedBy>
  <dcterms:modified xsi:type="dcterms:W3CDTF">2022-09-23T13:40:21Z</dcterms:modified>
  <cp:revision>447</cp:revision>
  <dc:subject/>
  <dc:title>Slide 1</dc:title>
</cp:coreProperties>
</file>