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2DA2-5DFA-4556-A5D0-55C07600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9ED1-CAD4-45FA-8DC5-DB75CF789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F47-3053-4510-8F40-561CC0D8D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3354D-5C05-43A8-9BEF-3F5FF8CBE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2C6C-A994-4A11-A34C-4DE8DB38F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E0B1-1BF6-49BC-A239-95DBB6E4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BE92-182D-4ADB-AB61-CA2952148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8B2A-DD63-413E-AD66-0F24728D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5CD4-0B53-42C0-9E6B-47D4B8D91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6753-21E6-4054-AB3B-48EBCD198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4129-A5DC-49D6-8300-E41994DA8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0701-BF49-4CF6-B46D-107F3196B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2B34-A7C7-42A3-9CB7-2F709554A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34C4-1F7D-46FD-A884-FCE2F77BF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0862-3091-4A2F-91C4-C6E4241A4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B57C-6FB2-4CFB-B12F-3A5169A00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3058-B41B-400F-A59F-19D7FBF2D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FEB4-3297-4C65-8E65-1E533F779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7C24-1638-400D-B9A3-358515DA1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90B-74FD-49AF-8C9F-60654667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26C-641D-46CE-9D72-1EEA9360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C17E-4096-47B5-9344-193DBCB49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69D0-A64B-4EB7-8934-FA2CBAFF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3 FILM ARE A BUNCH OF STRANGERS RACING TO FIND $350,000 THAT IS BURIED UNDER A GIANT "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AR  LI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09480" y="68580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JIM CARREY HAVE TO TELL THE TRUTH BECAUSE OF A BIRTHDAY WISH BY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SAY  NEVER  AG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5800" y="68580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ID SEAN CONNERY PLAY JAMES BOND FOR THE SEVENTH AND FINA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RINA, CORR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0492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IS WHOOPI GOLDBERG HIRED TO CARE FOR RAY LIOTTA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INDA  AND  MELI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57200" y="68580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WOODY ALLEN FILM ARE TWO STORIES TOLD ABOUT THE SAME PERSON, ONE COMIC AND ONE TRAG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, WILD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685800"/>
            <a:ext cx="7924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WESTERN FILM STARRED WILL SMITH, KEVIN KLINE, KENNETH BRANAGH, AND SALMA HAY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95360" y="419112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USSIANS  ARE  COMING,  THE  RUSSIANS  ARE  COM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848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6 FILM DOES A SOVIET SUBMARINE RUN AGROUND NEAR A MASSACHUSETTS T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914400" y="480060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TTY,  CHITTY,  BANG,  BA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80880" y="68580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IS NAMED FOR THE UNUSUAL SOUND THAT THE MAGIC CAR IN IT M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7617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7 FILM DOES JIM CARREY HAVE TO TELL THE TRUTH BECAUSE OF A BIRTHDAY WISH BY HIS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832280"/>
            <a:ext cx="693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MER  VS.  KRA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4916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9 FILM ARE DUSTIN HOFFMAN AND MERYL STREEP'S CHARACTERS DIVOR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006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'S  A  MAD, MAD, MAD, MAD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685800"/>
            <a:ext cx="8458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3 FILM ARE A BUNCH OF STRANGERS RACING TO FIND $350,000 THAT IS BURIED UNDER A GIANT "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52480" y="4267080"/>
            <a:ext cx="5715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REPEATED 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6094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83 FILM DID SEAN CONNERY PLAY JAMES BOND FOR THE SEVENTH AND FINA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838080"/>
            <a:ext cx="85341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4 FILM IS WHOOPI GOLDBERG HIRED TO CARE FOR RAY LIOTTA'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04 WOODY ALLEN FILM ARE TWO STORIES TOLD ABOUT THE SAME PERSON, ONE COMIC AND ONE TRAG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STEAMPUNK WESTERN FILM STARRED WILL SMITH, KEVIN KLINE, KENNETH BRANAGH, AND SALMA HAY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9250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66 FILM DOES A SOVIET SUBMARINE RUN AGROUND NEAR A MASSACHUSETTS T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FILM IS NAMED FOR THE UNUSUAL SOUND THAT THE MAGIC CAR IN IT M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79 FILM ARE DUSTIN HOFFMAN AND MERYL STREEP'S CHARACTERS DIVOR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6T23:26:21Z</dcterms:created>
  <dc:creator>Jennifer Budzinski</dc:creator>
  <dc:description/>
  <dc:language>en-US</dc:language>
  <cp:lastModifiedBy>Erich Friedman</cp:lastModifiedBy>
  <dcterms:modified xsi:type="dcterms:W3CDTF">2022-09-23T13:40:21Z</dcterms:modified>
  <cp:revision>447</cp:revision>
  <dc:subject/>
  <dc:title>Slide 1</dc:title>
</cp:coreProperties>
</file>