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9380-719A-456A-9516-20A387E7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631D-DF94-4C7F-862E-42766AD2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DB39-E34C-4CAA-A47A-CBFE9716C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1BFF-ACC3-493D-A85F-2978ED3C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F6BE-13FA-41C1-A5D6-AE7D9E22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17BB-E8A5-46BD-BFB4-FFC2DB8E4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9CE5-9560-49C3-9BBE-FE7E3FDE4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E36D-7485-4D92-9637-E6E73F8E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1B91-C2CD-4F25-98A0-2C8B2BF3C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70CE-BBE8-496A-B395-3EF07B09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B27E-1441-423A-841E-60B87A8FC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59BE-D451-4288-8867-332C9A5A0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8E27-98B5-498E-90BA-238AF5D13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6449-5522-4A0C-80EA-82ACC5682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839E-4CC1-411A-B80F-5852B0A5A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E898-0089-4844-B217-3EE26053F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023-2CE4-4DBC-8E17-C308DC021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0E37-E11D-42D1-A739-EE8336AFA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123B-1E2A-4477-BF7F-A8E60DB4C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C903-4703-4B97-B064-127C798B6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C098-C8FA-4CA1-BCB0-3A885B4B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909A-0D5E-4E81-8F70-A4930CF7B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7D05-DC67-4111-8504-F0573EE8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37960" y="761760"/>
            <a:ext cx="866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A 2008 FILM STARRING JACK BLACK, BEN STILLER, AND ROBERT DOWNEY JR. ABOUT THE FILMING OF A WAR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19280" y="762120"/>
            <a:ext cx="7705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WAS ALSO RELEASED IN THE U.K. BUT WITH ITS TITLE PRECEDED BY THE WORDS "LET ME LIGHT Y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  (SWALLOW)  (OW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68160" y="762120"/>
            <a:ext cx="7807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SE BI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510160" y="259092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805040" y="2857680"/>
            <a:ext cx="275436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OLLO)  TROP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28600" y="876240"/>
            <a:ext cx="579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TREE IS A "T" IN THE LOGO FOR A RESTAURANT.  IN WHAT WORD DOES IT REPLACE THE "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477120" y="1828800"/>
            <a:ext cx="227016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33520" y="48862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(LIGHT  ORCHEST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71440" y="771480"/>
            <a:ext cx="680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THE MUSICAL GROUP "EL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HARA" IS THE ARABIC WORD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SHEERAN HAS HAD TWO #1 SONGS: "THE SHAPE OF YOU" AND WHAT OTHER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92000" y="762120"/>
            <a:ext cx="7560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 DID "ABBY NORMAL" CONTRIBUTE TO THE BUILDING OF "YOUNG FRANKENSTE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1360" y="762120"/>
            <a:ext cx="8078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WAS ALSO RELEASED IN THE U.K. BUT WITH ITS TITLE PRECEDED BY THE WORDS "LET ME LIGHT YOU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HOEBE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69840" y="762120"/>
            <a:ext cx="720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OMAN WHO SANG "POETR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ROPIC)  TH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82600" y="762120"/>
            <a:ext cx="857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A 2008 FILM STARRING JACK BLACK, BEN STILLER, AND ROBERT DOWNEY JR. ABOUT THE FILMING OF A WAR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347840" y="4343400"/>
            <a:ext cx="64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STORM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SE BI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510160" y="259092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805040" y="2857680"/>
            <a:ext cx="27543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52280" y="838080"/>
            <a:ext cx="579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TREE IS A "T" IN THE LOGO FOR A RESTAURANT.  IN WHAT WORD DOES IT REPLACE THE "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701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47600" y="762120"/>
            <a:ext cx="704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THE MUSICAL GROUP "EL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6800" y="762120"/>
            <a:ext cx="815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HARA" IS THE ARABIC WORD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3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SHEERAN HAS HAD TWO #1 SONGS: "THE SHAPE OF YOU" AND WHAT OTHER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 DID "ABBY NORMAL" CONTRIBUTE TO THE BUILDING OF "YOUNG FRANKENSTE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OMAN WHO SANG "POETR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23T13:47:39Z</dcterms:modified>
  <cp:revision>433</cp:revision>
  <dc:subject/>
  <dc:title>Slide 1</dc:title>
</cp:coreProperties>
</file>