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C9D0-DD29-4A8A-B43E-FF0F97040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78E2-EA2E-4DD9-B5B1-35D3292A1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AD92-1E99-490A-90CC-E1C7563F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1DC0-E2B2-4A21-82EA-90AB601B3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0917-B04A-4297-B397-5B2F7A154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8FCD-D2F5-45EA-B1B2-19523D52F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3ADA-71F7-449C-A3C2-8B07854DE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C794-954D-44BB-9B45-EE5347AF4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3100-81F5-4C66-BE55-5D25AE02E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497F-E9D2-4DFC-927D-E946E9308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6673-E6C6-44D9-AF2B-C2C90FB7C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0489-F52E-4ECD-B3DE-63996619D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4E7D-29AA-49F0-885E-551D08E4D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E75B-1904-4222-AF23-39E4AB71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0480-5142-4E47-889E-9CF1396DD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9D84-CB7E-46BD-BC57-176E17DD8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D351-D76B-4F68-B850-E109295BA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32D4-956F-404D-847F-59692729F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36A6-5666-4E13-ACE7-4C0A994AD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4D2C-A0C1-4D16-A642-F6EE87D9C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CEC2-E7C0-4149-8750-23CB9EED9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BE83-E4E4-4EF2-917F-ECA38FFEE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3B04-D67C-4E08-9CD0-246A2918D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37960" y="761760"/>
            <a:ext cx="866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A 2008 FILM STARRING JACK BLACK, BEN STILLER, AND ROBERT DOWNEY JR. ABOUT THE FILMING OF A WAR MOV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719280" y="762120"/>
            <a:ext cx="7705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WAS ALSO RELEASED IN THE U.K. BUT WITH ITS TITLE PRECEDED BY THE WORDS "LET ME LIGHT Y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  (SWALLOW)  (OW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68160" y="762120"/>
            <a:ext cx="7807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SE BI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510160" y="259092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1805040" y="2857680"/>
            <a:ext cx="275436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OLLO)  TROP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28600" y="876240"/>
            <a:ext cx="579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TREE IS A "T" IN THE LOGO FOR A RESTAURANT.  IN WHAT WORD DOES IT REPLACE THE "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477120" y="1828800"/>
            <a:ext cx="227016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33520" y="4886280"/>
            <a:ext cx="8076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  (LIGHT  ORCHEST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71440" y="771480"/>
            <a:ext cx="680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THE MUSICAL GROUP "EL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HARA" IS THE ARABIC WORD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 SHEERAN HAS HAD TWO #1 SONGS: "THE SHAPE OF YOU" AND WHAT OTHER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92000" y="762120"/>
            <a:ext cx="7560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 DID "ABBY NORMAL" CONTRIBUTE TO THE BUILDING OF "YOUNG FRANKENSTE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1360" y="762120"/>
            <a:ext cx="8078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WAS ALSO RELEASED IN THE U.K. BUT WITH ITS TITLE PRECEDED BY THE WORDS "LET ME LIGHT YOU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HOEBE)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969840" y="762120"/>
            <a:ext cx="720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OMAN WHO SANG "POETRY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ROPIC)  TH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82600" y="762120"/>
            <a:ext cx="857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A 2008 FILM STARRING JACK BLACK, BEN STILLER, AND ROBERT DOWNEY JR. ABOUT THE FILMING OF A WAR MOV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347840" y="4343400"/>
            <a:ext cx="6448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STORM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SE BI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510160" y="259092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805040" y="2857680"/>
            <a:ext cx="27543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52280" y="838080"/>
            <a:ext cx="579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TREE IS A "T" IN THE LOGO FOR A RESTAURANT.  IN WHAT WORD DOES IT REPLACE THE "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2701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47600" y="762120"/>
            <a:ext cx="704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THE MUSICAL GROUP "EL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6800" y="762120"/>
            <a:ext cx="815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HARA" IS THE ARABIC WORD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3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 SHEERAN HAS HAD TWO #1 SONGS: "THE SHAPE OF YOU" AND WHAT OTHER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 DID "ABBY NORMAL" CONTRIBUTE TO THE BUILDING OF "YOUNG FRANKENSTE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76320" y="762120"/>
            <a:ext cx="718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OMAN WHO SANG "POETRY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23T13:47:39Z</dcterms:modified>
  <cp:revision>433</cp:revision>
  <dc:subject/>
  <dc:title>Slide 1</dc:title>
</cp:coreProperties>
</file>