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7F2-23FE-48FF-B730-CA6DA1D47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6CA5-9CFA-4302-A8C0-30EACA02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BF90-19FF-473D-8200-2FAEB63F3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4297-CD44-4577-B3B0-984F6BD05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29CB-84E5-4EB4-BDAC-C1279070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CE36-D18D-4F72-8CCD-2F3904818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190-A7E9-4DAC-B839-3E0B4562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BA9D-8829-43DA-8A2B-9EE8F3384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44AF-7DE5-4555-9A15-F29D9E73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EB8E-39F0-4592-906D-40CF6F91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3BA0-15A6-4CDD-B961-53719EDB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5280-EF3B-44FF-BCA6-BDC683AE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5E85-64FE-401F-80A6-BE350BCE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8CF-AE94-4E6A-BD20-7B6A7344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149A-3A71-4BEF-9048-CA54B4AB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2F74-3329-46E3-BE0F-376F97091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0BA6-1F09-4C65-A291-BC601BC2C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4E2-64EE-43AF-A205-4DC412F8B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704A-6F00-4BE4-A279-E77E6FCFF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06E5-0889-4D63-9DEF-89D4A073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A26F-A7E7-4498-9D17-57691B545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CF51-14F7-43DC-AE63-1798B6A3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CC6C-0216-4F1B-B570-771ED1DE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TALIAN POLYMATH CONCEPTUALLY INVENTED THE PARACHUTE, HELICOPTER, AND TA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ERONYMOUS  BO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4800" y="762120"/>
            <a:ext cx="793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FROM MICHAEL CONNELLY NOVELS HAS TITUS WELLIVER PLAYED SINCE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SHE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1560" y="762120"/>
            <a:ext cx="7940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COUNTRY SINGER WITH 27 #1 SONGS HAS BEEN A JUDGE OF "THE VOICE" FOR ALL 2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B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FOOT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EU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00240" y="771480"/>
            <a:ext cx="674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CHARACTER OF PEE-WEE HER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HAEL  NAD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71600" y="762120"/>
            <a:ext cx="82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PLAYER WON THE FRENCH OPEN 14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FISH IS THE MOST CAUGHT SPECIES OF FISH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0160" y="762120"/>
            <a:ext cx="748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NN, THE FIRST 24-HOUR CABLE NEWS CHANN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FROM MICHAEL CONNELLY NOVELS HAS TITUS WELLIVER PLAYED SINCE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MBRAND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1600" y="762120"/>
            <a:ext cx="82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I'LL BE THERE FOR YOU", THE THEME SONG FOR TV'S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TALIAN POLYMATH CONCEPTUALLY INVENTED THE PARACHUTE, HELICOPTER, AND TA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47840" y="4343400"/>
            <a:ext cx="6448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FAMOUS  AR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COUNTRY SINGER WITH 27 #1 SONGS HAS BEEN A JUDGE OF "THE VOICE" FOR ALL 22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11120" y="762120"/>
            <a:ext cx="6519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FOOT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90520" y="762120"/>
            <a:ext cx="6762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CHARACTER OF PEE-WEE H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9800" y="762120"/>
            <a:ext cx="820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PLAYER WON THE FRENCH OPEN 14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FISH IS THE MOST CAUGHT SPECIES OF FISH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NN, THE FIRST 24-HOUR CABLE NEWS CHANN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I'LL BE THERE FOR YOU", THE THEME SONG FOR TV'S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56:38Z</dcterms:modified>
  <cp:revision>434</cp:revision>
  <dc:subject/>
  <dc:title>Slide 1</dc:title>
</cp:coreProperties>
</file>