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C11A-6C60-4BBD-A721-27D6D0E9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A668-B07E-42EA-86EF-E9CF7A770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9E9C-9549-49A9-A000-D6C517CC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A2D-81D9-4480-B691-039A68D1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2941-41FD-4C0E-8FFC-FEDEB0EE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2D95-0F52-4008-966C-79072B4F8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6225-E8ED-498E-8A0B-7DF7BED6D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6AF4-4B89-4E73-9110-C6EFEB21C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023D-8C86-42C7-99EB-A279D70C3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24BC-0748-4275-91AF-241663154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3C9D-B5C7-4E00-9727-3EDE3220F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4160-3DDE-4EA7-8D9B-D207F2DD1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FE22-F821-4580-BD42-A25D2B31D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C457-D297-4F91-A9B2-1B85D09C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D20C-5881-4383-BFD6-8913A7D8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072B-C336-48E1-BC81-E41EDF82C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4668-B2C3-4EAE-B290-9290E6C7E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C2FC-2D85-4A06-8F22-6D1402D3D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7CB3-C15D-4264-8A7B-9A7AD7D2C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0B24-2E2E-4CB2-A744-ADBF7F6E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A7FD-1DA2-4F8C-BFDF-1B1F8ADC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6933-E86D-4A1C-A1C2-6E423C1F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6641-E568-43DB-A3D5-6690328BD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POLYMATH CONCEPTUALLY INVENTED THE PARACHUTE, HELICOPTER, AND TA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ERONYMOUS  BO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4800" y="762120"/>
            <a:ext cx="793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FROM MICHAEL CONNELLY NOVELS HAS TITUS WELLIVER PLAYED SINCE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SH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1560" y="762120"/>
            <a:ext cx="7940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COUNTRY SINGER WITH 27 #1 SONGS HAS BEEN A JUDGE OF "THE VOICE" FOR ALL 2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FOOT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00240" y="771480"/>
            <a:ext cx="674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OF PEE-WEE H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HAEL  NAD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71600" y="762120"/>
            <a:ext cx="82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PLAYER WON THE FRENCH OPEN 14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FISH IS THE MOST CAUGHT SPECIES OF FISH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0160" y="762120"/>
            <a:ext cx="748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NN, THE FIRST 24-HOUR CABLE NEWS CHANN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FROM MICHAEL CONNELLY NOVELS HAS TITUS WELLIVER PLAYED SINCE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MBRAND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1600" y="762120"/>
            <a:ext cx="82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'LL BE THERE FOR YOU", THE THEME SONG FOR TV'S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POLYMATH CONCEPTUALLY INVENTED THE PARACHUTE, HELICOPTER, AND TA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47840" y="4343400"/>
            <a:ext cx="6448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AMOUS  ART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5440" y="761760"/>
            <a:ext cx="795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COUNTRY SINGER WITH 27 #1 SONGS HAS BEEN A JUDGE OF "THE VOICE" FOR ALL 22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11120" y="762120"/>
            <a:ext cx="6519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FOOT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0520" y="762120"/>
            <a:ext cx="676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OF PEE-WEE H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9800" y="762120"/>
            <a:ext cx="820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PLAYER WON THE FRENCH OPEN 14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FISH IS THE MOST CAUGHT SPECIES OF FISH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NN, THE FIRST 24-HOUR CABLE NEWS CHANN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'LL BE THERE FOR YOU", THE THEME SONG FOR TV'S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56:38Z</dcterms:modified>
  <cp:revision>434</cp:revision>
  <dc:subject/>
  <dc:title>Slide 1</dc:title>
</cp:coreProperties>
</file>