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D32D-555A-4F2D-9562-77E1D4AE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BB6A-F16A-430B-8EF2-A09C01035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D5E5-3ED9-4AB0-B5F9-E2E21FDBE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AEF0-77B6-417A-B225-654D3F159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A835-4C18-4F24-BCB9-86B57E7F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60ED-A505-4248-8511-2CA5B5C1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94AE-EFCB-4FCA-958A-97D0893BB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FD38-49B0-49E7-8364-88784DA22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66E5-BB01-481B-98D3-7987CE05C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A3EA-FF51-4AB5-80EB-8961BD6A4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D0C-251F-48D6-BB9F-B5EF9821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57BE-F747-4BBE-9E5A-4264D2AFE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44CC-424B-4FF1-8C8B-8B570A037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0BCD-520E-49AB-B68E-C3DBEA82A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60F3-5293-4E70-AB53-194E1CE25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70DD-0B37-4B93-AE4D-82949C94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E292-C050-4E8D-A8CA-35C71A958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DAF9-AC32-4767-A299-01AD0A99C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4C63-875C-4A05-A89C-54AE98F9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FC2D-769B-492C-BBF6-242779579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96CB-395F-40E3-AE50-4A67BF77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24FD-0443-49A1-820B-12793FC5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BDA-C912-4865-9A64-42CFDE86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2800" y="761760"/>
            <a:ext cx="825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WAS EATEN BY BRITISH SAILORS TO PREVENT SCURVY, LEADING TO A NICKNAME FOR SAIL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OOD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3920" y="762120"/>
            <a:ext cx="8696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RED MELON IS WATERMELON, ORANGE MELON IS HONEYDEW, AND GREEN MELON I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76200" y="762120"/>
            <a:ext cx="839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ESSERT COMES FROM A TREE WHOSE SCIENTIFIC NAME IS GREEK FOR "FOOD OF THE GODS", AND WHOSE COMMON NAME COMES FROM THE AZTEC WORD FOR "BITTER WA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ROP IS GROWN ON MORE LAND AREA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7796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SEAFOOD SOUP, AFTER CHOW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KE IS A RICE WINE, BUT WHEN REFERRING TO SUSHI, SAKE IS WHAT TYPE OF 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AISIN IS A DRIED GRAPE.  A PRUNE IS A DRI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0680" y="762120"/>
            <a:ext cx="816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ES OF WHAT PLANT APPEAR ON THE STATE FLAGS OF MICHIGAN, MISSOURI, NORTH DAKOTA, OKLAHOMA, AND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RED MELON IS WATERMELON, ORANGE MELON IS HONEYDEW, AND GREEN MELON I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SUPREME COURT DECLARE A VEGETABLE IN 1887, DESPITE IT BEING BOTANICALLY A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WAS EATEN BY BRITISH SAILORS TO PREVENT SCURVY, LEADING TO A NICKNAME FOR SAIL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SO  NAMES  OF  HTML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OO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ESSERT COMES FROM A TREE WHOSE SCIENTIFIC NAME IS GREEK FOR "FOOD OF THE GODS", AND WHOSE COMMON NAME COMES FROM THE AZTEC WORD FOR "BITTER WA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50920" y="762120"/>
            <a:ext cx="684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CROP IS GROWN ON MORE LAND AREA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5960" y="762120"/>
            <a:ext cx="7372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SEAFOOD SOUP, AFTER CHOW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3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KE IS A RICE WINE, BUT WHEN REFERRING TO SUSHI, SAKE IS WHAT TYPE OF 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AISIN IS A DRIED GRAPE.  A PRUNE IS A DRI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ANCHES OF WHAT PLANT APPEAR ON THE STATE FLAGS OF MICHIGAN, MISSOURI, NORTH DAKOTA, OKLAHOMA, AND PENNSYLV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0520" y="762120"/>
            <a:ext cx="8562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SUPREME COURT DECLARE A VEGETABLE IN 1887, DESPITE IT BEING BOTANICALLY A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8T00:05:39Z</dcterms:modified>
  <cp:revision>440</cp:revision>
  <dc:subject/>
  <dc:title>Slide 1</dc:title>
</cp:coreProperties>
</file>