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284FA-39B9-4331-AD7B-F195061F1A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ABF7A-73CD-4B1B-A7AE-A1EAC47489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06BB0-C910-4651-A074-9807806F2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5F7CD-A0DC-4360-AE88-10FF874F9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117F2-9D2D-4A53-8CB9-F31C6A4CA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4A160-822C-4515-A442-93C1A60D6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0DA3D-70F6-490B-A459-B6CB13FF8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35591-D743-4DDF-8B2E-F00513277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8479F-10DA-453D-AC10-E0A1BA6CA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56CBE-6B4C-49EA-9B73-6CBB9A7C1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C8B7B-E0AD-47DC-ACD5-386C176B0D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35307-FF6A-4CD2-974A-499C20609B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25497-65CE-4746-8F05-36FB074B1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23D9F-6291-4864-A44E-8EC5BDB13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2BE57-9160-499F-B425-A0A5A43240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535C4-DD3D-4075-B087-338AB5D03E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D09A0-93DC-4A2C-8A2E-62B55465A7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00450-A06C-40BC-8EA2-4F6139C9D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0FDDF-09F9-460A-9299-AA1F578E0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881F6-9DAE-4604-A506-AF7B0D065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29E75-FD1A-4551-8ADE-52BEFA943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A50E4-32A6-4562-958D-D317D51A7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7DD6A-C7B1-48BC-A8BE-6B0798A0B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914400" y="1523880"/>
            <a:ext cx="7315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OD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42800" y="761760"/>
            <a:ext cx="8258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UIT WAS EATEN BY BRITISH SAILORS TO PREVENT SCURVY, LEADING TO A NICKNAME FOR SAILO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FOOD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NEYD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223920" y="762120"/>
            <a:ext cx="8696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OST COMMON RED MELON IS WATERMELON, ORANGE MELON IS HONEYDEW, AND GREEN MELON IS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OCOL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376200" y="762120"/>
            <a:ext cx="8391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DESSERT COMES FROM A TREE WHOSE SCIENTIFIC NAME IS GREEK FOR "FOOD OF THE GODS", AND WHOSE COMMON NAME COMES FROM THE AZTEC WORD FOR "BITTER WATER"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OD CROP IS GROWN ON MORE LAND AREA THAN ANY OTH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523880" y="4886280"/>
            <a:ext cx="6096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SQ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933480" y="777960"/>
            <a:ext cx="7277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ECOND MOST POPULAR SEAFOOD SOUP, AFTER CHOWD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LM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60520" y="762120"/>
            <a:ext cx="8022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AKE IS A RICE WINE, BUT WHEN REFERRING TO SUSHI, SAKE IS WHAT TYPE OF FIS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L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00280" y="762120"/>
            <a:ext cx="7543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RAISIN IS A DRIED GRAPE.  A PRUNE IS A DRIE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238400" y="4876920"/>
            <a:ext cx="6667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L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490680" y="762120"/>
            <a:ext cx="8161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RANCHES OF WHAT PLANT APPEAR ON THE STATE FLAGS OF MICHIGAN, MISSOURI, NORTH DAKOTA, OKLAHOMA, AND PENNSYLVAN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46240" y="762120"/>
            <a:ext cx="8650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OST COMMON RED MELON IS WATERMELON, ORANGE MELON IS HONEYDEW, AND GREEN MELON IS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A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380880" y="762120"/>
            <a:ext cx="8382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THE SUPREME COURT DECLARE A VEGETABLE IN 1887, DESPITE IT BEING BOTANICALLY A FRU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438120" y="762120"/>
            <a:ext cx="8267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UIT WAS EATEN BY BRITISH SAILORS TO PREVENT SCURVY, LEADING TO A NICKNAME FOR SAILO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79280" y="4876920"/>
            <a:ext cx="878544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SO  NAMES  OF  HTML  COL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FOOD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33240" y="761760"/>
            <a:ext cx="7877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DESSERT COMES FROM A TREE WHOSE SCIENTIFIC NAME IS GREEK FOR "FOOD OF THE GODS", AND WHOSE COMMON NAME COMES FROM THE AZTEC WORD FOR "BITTER WATER"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150920" y="762120"/>
            <a:ext cx="6842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OD CROP IS GROWN ON MORE LAND AREA THAN ANY OTH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885960" y="762120"/>
            <a:ext cx="7372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ECOND MOST POPULAR SEAFOOD SOUP, AFTER CHOWD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30200" y="762120"/>
            <a:ext cx="8283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AKE IS A RICE WINE, BUT WHEN REFERRING TO SUSHI, SAKE IS WHAT TYPE OF FIS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65280" y="761760"/>
            <a:ext cx="7813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RAISIN IS A DRIED GRAPE.  A PRUNE IS A DRIE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RANCHES OF WHAT PLANT APPEAR ON THE STATE FLAGS OF MICHIGAN, MISSOURI, NORTH DAKOTA, OKLAHOMA, AND PENNSYLVAN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90520" y="762120"/>
            <a:ext cx="8562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THE SUPREME COURT DECLARE A VEGETABLE IN 1887, DESPITE IT BEING BOTANICALLY A FRUI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2-10-08T00:05:39Z</dcterms:modified>
  <cp:revision>440</cp:revision>
  <dc:subject/>
  <dc:title>Slide 1</dc:title>
</cp:coreProperties>
</file>