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CD5-5D7C-4664-8B7D-73B295AC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640-D0BE-4D68-AA43-56DB4BEB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084A-EE0C-4E56-972C-3D9C20E1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8E6-6CF5-4253-A1BB-C55CE127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3AF-A5FE-4B7A-B156-371D3871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C99-504B-4391-B15F-36903384D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C1E-0BA0-49D1-AD91-57261DC6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8CE-86F3-43CA-A5C9-3278BAC6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63C-3C2D-4E0D-8A9A-2A1562D2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9067-BE1D-446B-85E5-191C8BA7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8A1-11E9-4F43-BEE5-62606694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01B4-3DFC-4B61-889E-08C5ADC0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2FB2-E978-4E4B-9FFB-88A3A596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A17-DB41-422B-ACBB-2D75D4F3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C36-46AA-4857-BDDE-019C36C4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BF7F-6EFF-47F7-9719-23A358C7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D022-AB22-4AC6-AB60-3731B42C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AAE-F556-4C20-AF6E-05529B24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9B8-1BE6-49EA-AF6E-88543E5F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002-2EC2-4AA9-937C-20955C01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287-A27C-4344-8FEA-74943A8E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EF0C-5A4C-4F88-BAB1-823EA3CA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7FB-EF89-410B-A990-6B75140B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37960" y="761760"/>
            <a:ext cx="866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ST-KNOWN ALBERT CAMUS NOVEL IS KNOWN IN THE U.K. AS "THE OUTSIDER".  IN THE U.S., IT IS KNOWN INSTEAD AS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97000" y="762120"/>
            <a:ext cx="855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EATHER-CONTROLLING MUTANT PORTRAYED BY HALLE BERRY IN 4 X-ME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(OF  THR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HBO'S MOST POPULAR SERIES EVER, WHICH WON A RECORD 58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3520" y="48862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600" y="880920"/>
            <a:ext cx="481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TATIONS OF AN AIRCRAFT ARE CALLED YAW, ROLL,  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029200" y="1338120"/>
            <a:ext cx="38671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)  SQUARE  (GARD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MSG", THE VENUE WHERE THE NY KNICKS AND NY RANGER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TEE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7560" y="762120"/>
            <a:ext cx="804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10 TV SERIES FEATURED A MATHEMATICIAN HELPING HIS BROTHER IN THE FBI TO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ST-KNOWN ALBERT CAMUS NOVEL IS KNOWN IN THE U.K. AS "THE OUTSIDER".  IN THE U.S., IT IS KNOWN INSTEAD AS "THE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0960" y="762120"/>
            <a:ext cx="764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YMBOL ∩ MEANS INTERSECTION, AND THE SYMBOL ∪ MEAN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2600" y="762120"/>
            <a:ext cx="857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347840" y="4876920"/>
            <a:ext cx="64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PERFEC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EATHER-CONTROLLING MUTANT PORTRAYED BY HALLE BERRY IN 4 X-ME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HBO'S MOST POPULAR SERIES EVER, WHICH WON A RECORD 58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12960" y="918720"/>
            <a:ext cx="4895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TATIONS OF AN AIRCRAFT ARE CALLED YAW, ROLL,  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29200" y="1338120"/>
            <a:ext cx="3867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MSG", THE VENUE WHERE THE NY KNICKS AND NY RANGER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3880" y="761760"/>
            <a:ext cx="7356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TEE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10 TV SERIES FEATURED A MATHEMATICIAN HELPING HIS BROTHER IN THE FBI TO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6120" y="762120"/>
            <a:ext cx="751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YMBOL ∩ MEANS INTERSECTION, AND THE SYMBOL ∪ MEAN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7T23:56:35Z</dcterms:modified>
  <cp:revision>438</cp:revision>
  <dc:subject/>
  <dc:title>Slide 1</dc:title>
</cp:coreProperties>
</file>