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48EA-BDD1-422C-B175-F0A501A50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811C-96E3-4C22-973A-7B24A2F50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C0A4-64D0-4F46-BAF6-23251AE11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1430-936E-41F5-AED3-0043234C1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AF7E-C5CD-4115-B617-5A901C2E2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D63C-44EC-46A1-BA80-91EE403ED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5012-EAC6-4881-9EDA-A462A1231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5750-B18D-4C75-A6E9-724548C29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B12C-B5E8-40C1-8A9E-98C445BF7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9D6F-4859-438C-B6DC-8EC14B4F0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F879-1333-4537-8035-F51AAC988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654C-EB93-4916-977A-1D0308F5E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9D78-DF4A-4901-8CD0-332DF3498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8C06-4702-4836-BA1D-9B63713F6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6A97-5906-43F7-9A28-75186AB95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4744-CC70-425F-A15C-27CAAB068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36A3-1C2B-4011-B2AE-CA7386594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1D34-A482-415F-8F0A-04BDF0BE9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E90B-CFC5-467B-B15C-EF01A01BE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C5B3-0104-47F4-9389-C97C874FE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69F6-B8ED-4865-9CC4-EAE5C84D7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C165-4AFB-4FF9-843B-F90548041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0A79-B2B4-42CD-BDD3-89CB4442C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37960" y="761760"/>
            <a:ext cx="8668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MOST POPULAR DATING SITES, "PLENTY OF FISH" AND "TINDER", ARE OWNED BY WHAT SITE THAT RECENTLY DROPPED ".COM" FROM IT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7168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ST-KNOWN ALBERT CAMUS NOVEL IS KNOWN IN THE U.K. AS "THE OUTSIDER".  IN THE U.S., IT IS KNOWN INSTEAD AS "THE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97000" y="762120"/>
            <a:ext cx="8550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WEATHER-CONTROLLING MUTANT PORTRAYED BY HALLE BERRY IN 4 X-MEN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ME  (OF  THR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HBO'S MOST POPULAR SERIES EVER, WHICH WON A RECORD 58 PRIMETIME E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33520" y="48862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2600" y="880920"/>
            <a:ext cx="4813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OTATIONS OF AN AIRCRAFT ARE CALLED YAW, ROLL,  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5029200" y="1338120"/>
            <a:ext cx="38671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DISON)  SQUARE  (GARDE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71560" y="762120"/>
            <a:ext cx="7400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MSG", THE VENUE WHERE THE NY KNICKS AND NY RANGERS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ANAGRAM OF "TEE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47560" y="762120"/>
            <a:ext cx="8047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-2010 TV SERIES FEATURED A MATHEMATICIAN HELPING HIS BROTHER IN THE FBI TO SOLVE CR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1360" y="762120"/>
            <a:ext cx="8078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ST-KNOWN ALBERT CAMUS NOVEL IS KNOWN IN THE U.K. AS "THE OUTSIDER".  IN THE U.S., IT IS KNOWN INSTEAD AS "THE"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50960" y="762120"/>
            <a:ext cx="764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THE SYMBOL ∩ MEANS INTERSECTION, AND THE SYMBOL ∪ MEAN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82600" y="762120"/>
            <a:ext cx="857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MOST POPULAR DATING SITES, "PLENTY OF FISH" AND "TINDER", ARE OWNED BY WHAT SITE THAT RECENTLY DROPPED ".COM" FROM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347840" y="4876920"/>
            <a:ext cx="6448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PERFEC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14200" y="761760"/>
            <a:ext cx="8715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WEATHER-CONTROLLING MUTANT PORTRAYED BY HALLE BERRY IN 4 X-MEN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HBO'S MOST POPULAR SERIES EVER, WHICH WON A RECORD 58 PRIMETIME E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12960" y="918720"/>
            <a:ext cx="4895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OTATIONS OF AN AIRCRAFT ARE CALLED YAW, ROLL,  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029200" y="1338120"/>
            <a:ext cx="38671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20800" y="762120"/>
            <a:ext cx="750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MSG", THE VENUE WHERE THE NY KNICKS AND NY RANGERS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93880" y="761760"/>
            <a:ext cx="7356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ANAGRAM OF "TEE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-2010 TV SERIES FEATURED A MATHEMATICIAN HELPING HIS BROTHER IN THE FBI TO SOLVE CR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16120" y="762120"/>
            <a:ext cx="7511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THE SYMBOL ∩ MEANS INTERSECTION, AND THE SYMBOL ∪ MEAN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07T23:56:35Z</dcterms:modified>
  <cp:revision>438</cp:revision>
  <dc:subject/>
  <dc:title>Slide 1</dc:title>
</cp:coreProperties>
</file>