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607C-F564-4F85-9F18-4BD9837F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EFB6-9623-4EFC-A24E-357DC32ED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8EF-CFDC-4D8D-9B41-B13CC4E8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2231-3189-4960-92CD-2151AC55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8535-707B-4C44-869A-422536FFF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1EF-B784-4D0D-9612-9AFC89C3A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CA06-6B7D-433D-8614-9EC9BD312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7561-481E-496B-96E5-4C848529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DD5F-3AE3-4739-84CA-EAD2140DE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C8C7-4339-411B-AE04-AB42DA2A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4B3-1192-4E6F-B91B-3EF5214C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4D89-A588-43E3-820A-CDCF45CB2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C64B-26FF-423B-8B37-7EFC09F5D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C603-2DC2-4ADF-8F1E-00C938BC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6078-7F34-468F-B00D-54A8846F4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8D5C-5D11-432B-82F3-E959A06AA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1C81-F6C8-4A00-878E-CCE12FDE4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D223-151F-4939-9220-CA74D4722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8C71-6BE0-4346-846B-4665749D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B972-CDF6-421E-9C2A-A6B0874A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0298-115F-4002-8BE4-321D140DC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F363-0C3F-496B-82A2-312CBE5C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D016-CFB2-47A2-8842-34F139DFD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THE SUN MICROSYSTEMS OPERATING SYSTEM THAT IS NOW OWNED BY ORA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AN WAS CONDEMNED TO HOLD THE WORLD ON HIS SHOULDERS, LEADING TO HIS NAME BEING USED FOR A COLLECTION OF MA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M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762120"/>
            <a:ext cx="704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OF TAIWAN CALLED FROM ITS DISCOVERY UNTIL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M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KTAIL IS MADE FROM CHAMPAGNE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OCEAN LINER WAS SUNK BY THE GERMANS IN 1915, LEADING INDIRECTLY TO AMERICA'S ENTRY INTO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S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ANTAGONISTS OF ROCKY AND BULLWINKLE ARE BORIS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  &amp;  POLL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   THE TWIN HALF-BROTHERS IN GREEK AND ROMAN MYTHOLOGY, ONE OF THEM MORTAL AND ONE DIV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THY'S DOG IN THE COMIC STRIP "CATH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1280" y="762120"/>
            <a:ext cx="846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AN WAS CONDEMNED TO HOLD THE WORLD ON HIS SHOULDERS, LEADING TO HIS NAME BEING USED FOR A COLLECTION OF MA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70000" y="762120"/>
            <a:ext cx="680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ELLITE RADIO COMPANY MERGED WITH XM RADIO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THE SUN MICROSYSTEMS OPERATING SYSTEM THAT IS NOW OWNED BY ORA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8240" y="761760"/>
            <a:ext cx="706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OF TAIWAN CALLED FROM ITS DISCOVERY UNTIL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11120" y="762120"/>
            <a:ext cx="6519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KTAIL IS MADE FROM CHAMPAGNE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OCEAN LINER WAS SUNK BY THE GERMANS IN 1915, LEADING INDIRECTLY TO AMERICA'S ENTRY INTO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IN ANTAGONISTS OF ROCKY AND BULLWINKLE ARE BORIS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   THE TWIN HALF-BROTHERS IN GREEK AND ROMAN MYTHOLOGY, ONE OF THEM MORTAL AND ONE DIV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ATHY'S DOG IN THE COMIC STRIP "CATH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ELLITE RADIO COMPANY MERGED WITH XM RADIO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08T00:00:28Z</dcterms:modified>
  <cp:revision>431</cp:revision>
  <dc:subject/>
  <dc:title>Slide 1</dc:title>
</cp:coreProperties>
</file>