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9C8A-D59A-40E4-A48E-9390DCED5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6D51-A50C-46EF-9137-F61002F66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02D0-45BA-4632-AAF7-2DBFB5454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D2B5-286B-42F4-ABE0-437B4AA70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1104-437A-4E42-8805-2B2304747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21FC-AD48-4253-BCCA-564DF7F8F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A25F-22DD-4A73-B704-EFB55CFB5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7173-5955-49EB-909B-CB6F9FA70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C552-6F01-4697-ADEE-9718BA55B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BC21-6662-4322-968B-B06614776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66B3-3FEA-41E3-B939-40C9959EE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012E-E5BD-490A-A457-5254B815D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9A00-E1C1-4671-B22B-9C40E52FD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B4B3-49AB-442F-92C1-E0670B448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4DD8-33CF-4553-B1C9-1DE2630A7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009F-C7FA-4FDB-A6DA-4F4DD4EFC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D603-9224-4A42-A649-FDE78931E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CF9D-3649-4562-A5B0-01CE1D24D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ACC8-7451-4215-8CF9-BC5564D46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28D7-EA8B-46C7-B254-90A192581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95CC-9A89-4537-B05E-63BEEF8BD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4DC4-C407-440E-93A3-46662F2B0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D649-CF9B-4BAA-A2C7-EBBD28753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 THE SUN MICROSYSTEMS OPERATING SYSTEM THAT IS NOW OWNED BY ORA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AN WAS CONDEMNED TO HOLD THE WORLD ON HIS SHOULDERS, LEADING TO HIS NAME BEING USED FOR A COLLECTION OF MA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M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49400" y="762120"/>
            <a:ext cx="704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ISLAND OF TAIWAN CALLED FROM ITS DISCOVERY UNTIL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M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CKTAIL IS MADE FROM CHAMPAGNE AND ORANGE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SIT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714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OCEAN LINER WAS SUNK BY THE GERMANS IN 1915, LEADING INDIRECTLY TO AMERICA'S ENTRY INTO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AS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76160" y="762120"/>
            <a:ext cx="759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IN ANTAGONISTS OF ROCKY AND BULLWINKLE ARE BORIS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TOR  &amp;  POLL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AMES OF    THE TWIN HALF-BROTHERS IN GREEK AND ROMAN MYTHOLOGY, ONE OF THEM MORTAL AND ONE DIV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0160" y="762120"/>
            <a:ext cx="748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ATHY'S DOG IN THE COMIC STRIP "CATH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41280" y="762120"/>
            <a:ext cx="8460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AN WAS CONDEMNED TO HOLD THE WORLD ON HIS SHOULDERS, LEADING TO HIS NAME BEING USED FOR A COLLECTION OF MA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R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70000" y="762120"/>
            <a:ext cx="680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TELLITE RADIO COMPANY MERGED WITH XM RADIO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 THE SUN MICROSYSTEMS OPERATING SYSTEM THAT IS NOW OWNED BY ORA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76920"/>
            <a:ext cx="8785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38240" y="761760"/>
            <a:ext cx="7067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ISLAND OF TAIWAN CALLED FROM ITS DISCOVERY UNTIL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311120" y="762120"/>
            <a:ext cx="6519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CKTAIL IS MADE FROM CHAMPAGNE AND ORANGE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OCEAN LINER WAS SUNK BY THE GERMANS IN 1915, LEADING INDIRECTLY TO AMERICA'S ENTRY INTO W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47720" y="762120"/>
            <a:ext cx="764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IN ANTAGONISTS OF ROCKY AND BULLWINKLE ARE BORIS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AMES OF    THE TWIN HALF-BROTHERS IN GREEK AND ROMAN MYTHOLOGY, ONE OF THEM MORTAL AND ONE DIV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ATHY'S DOG IN THE COMIC STRIP "CATH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TELLITE RADIO COMPANY MERGED WITH XM RADIO IN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08T00:00:28Z</dcterms:modified>
  <cp:revision>431</cp:revision>
  <dc:subject/>
  <dc:title>Slide 1</dc:title>
</cp:coreProperties>
</file>