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72693-73FE-4A09-95E2-541F55ECC9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A72E5-F971-43C3-9432-3B1648B74A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7F38E-1BA4-440F-8786-104D0186C8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A2253-B6CF-443F-8D57-138BA03882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E7F7F-B6E2-46A0-AF65-B40E1E0F06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559A3-6322-4D3C-9E34-098250B965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06AC3-23AE-490A-8FDC-44364C6C3A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85A37-0BC6-462D-A5BE-88B6E35215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97AA5-883A-484D-9CFB-B904DEE6E9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308C7-8DAE-4D8C-9500-4AC9F8D7E2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79610-18ED-4D35-9D47-C0D110A2DA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210BF-6783-44F2-ABB8-9AFD6A8B96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A6591-0D56-47C5-8578-ED37457244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432DA-925D-42D0-98E3-2103D57D7B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B4A0A-9B39-4F3A-9247-F7B8A8AB7E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E2454-AECF-407B-A95C-5F8DD95635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8E371-E0DB-419D-B21F-EB2D93738D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15885-3873-4060-8AD7-B62C0852C0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7067A-C42F-4872-90D8-9F0287EFE6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50634-369E-4B3E-9A19-4F259E9CAE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721A1-432C-4947-AD16-5F3EC5B4A0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6BC68-B462-4B4A-ABD4-02478AE591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99CC9-7DB9-47CD-9F3A-D3464CF741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-214920" y="166680"/>
            <a:ext cx="338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600200" y="1523880"/>
            <a:ext cx="5943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609480" y="761760"/>
            <a:ext cx="79250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AME IS PLAYED ON AN 8x8 GRID USING DISKS THAT ARE BLACK ON ONE SIDE AND WHITE ON THE OTH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EAD  ZO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304920" y="762120"/>
            <a:ext cx="85341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A LOW-OXYGEN AREA OF OCEAN INCOMPATIBLE WITH MOST MARINE LIFE CALL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6900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RISTINE  BARANS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343080" y="762120"/>
            <a:ext cx="84582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LAWYER DIANE LOCKHART ON "THE GOOD WIFE" AND "THE GOOD FIGH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LONG  WAL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723960" y="762120"/>
            <a:ext cx="7696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AME IS GIVEN TO THE 1864 DEPORTATION OF NAVAJOS FROM ARIZONA 300 MILES TO NEW MEXIC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80880" y="4876920"/>
            <a:ext cx="8458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HINING  ST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647640" y="762120"/>
            <a:ext cx="784872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EARTH, WIND &amp; FIRE'S FIRST HIT SONG, ABOUT THE NIGHTTIME SK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NSOMN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723960" y="762120"/>
            <a:ext cx="76960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EDICAL TERM FOR AN INABILITY TO FALL ASLEEP OR STAY ASLEEP  AS LONG AS DESIR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ERCE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533520" y="762120"/>
            <a:ext cx="807696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OFFSHOOT OF DAIMLER CARS WAS NAMED AFTER THE DAUGHTER OF THE FOUNDER'S FRIEN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11/22/6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571680" y="762120"/>
            <a:ext cx="80010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WOULD THE DATE THAT JFK WAS ASSASSINATED BE WRITTEN IN 6-DIGIT FORM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266760" y="762120"/>
            <a:ext cx="86104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A LOW-OXYGEN AREA OF OCEAN INCOMPATIBLE WITH MOST MARINE LIFE CALL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380880" y="4876920"/>
            <a:ext cx="83822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RRIE  FISH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762120" y="762120"/>
            <a:ext cx="761976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PRINCESS LEIA IN THE "STAR WARS" FILM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609480" y="762120"/>
            <a:ext cx="79250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HIRD PERSON PRONOUN BECOMES A FIRST PERSON PRONOUN IF ITS LAST LETTER IS REMOV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838080" y="4343400"/>
            <a:ext cx="74678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5000"/>
          </a:bodyPr>
          <a:p>
            <a:pPr marL="188640" indent="-1886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Y  START  WITH  NAMES  OF  STEPHEN  KING  NOVE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8640" indent="-1886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8640" indent="-188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495360" y="723960"/>
            <a:ext cx="81532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380880" y="76176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LAWYER DIANE LOCKHART ON "THE GOOD WIFE" AND "THE GOOD FIGHT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723960" y="762120"/>
            <a:ext cx="7696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AME IS GIVEN TO   THE 1864 DEPORTATION OF NAVAJOS FROM ARIZONA 300 MILES TO NEW MEXIC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609480" y="762120"/>
            <a:ext cx="79250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EARTH, WIND &amp; FIRE'S FIRST HIT SONG, ABOUT THE NIGHTTIME SK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762120" y="762120"/>
            <a:ext cx="76197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EDICAL TERM FOR AN INABILITY TO FALL ASLEEP OR STAY ASLEEP AS LONG AS DESIR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723960" y="761760"/>
            <a:ext cx="76960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OFFSHOOT OF DAIMLER CARS WAS NAMED AFTER THE DAUGHTER OF THE FOUNDER'S FRIEN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95360" y="761760"/>
            <a:ext cx="81532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WOULD THE DATE THAT JFK WAS ASSASSINATED BE WRITTEN IN 6-DIGIT FORMA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533520" y="762120"/>
            <a:ext cx="807696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PRINCESS LEIA IN THE "STAR WARS" FILM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08T22:50:16Z</dcterms:created>
  <dc:creator>Jennifer Budzinski</dc:creator>
  <dc:description/>
  <dc:language>en-US</dc:language>
  <cp:lastModifiedBy>Erich Friedman</cp:lastModifiedBy>
  <dcterms:modified xsi:type="dcterms:W3CDTF">2020-08-25T14:04:38Z</dcterms:modified>
  <cp:revision>391</cp:revision>
  <dc:subject/>
  <dc:title>Slide 1</dc:title>
</cp:coreProperties>
</file>