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6B29-5433-4B30-8DC2-9E74F9FD9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F46E-A702-4433-BC9A-C5E01F2D4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E1A2-4BD8-4BB1-A28A-E2D849473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7CBA-EAAA-4967-9170-C16CC0BB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E259-7B9C-4C73-BAED-0E7C9DFE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82A6-544A-4BB6-8395-671A8F75E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6D3E-6304-488E-9DA5-5DDE9224B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3291-48D7-4D26-811A-3B6AB3D5B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CD7D-E731-4FED-8095-175013C73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8854-A7A2-4E30-94D7-CC04DDF1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3079-611F-420A-98AB-7DB26F9B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3B4E-DAC6-4FDF-BA14-8ADA4F95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FCE6-20A2-487E-AE87-4B1644F2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6152-CCBA-47FD-B09B-B50E090A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892D-9253-41BA-881D-1E6A18153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539-2F8C-48BB-BE30-E048E25EB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5115-E23C-4F71-8074-C9C9F46D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64F3-0E6B-4861-96C7-392C2355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7AD-958A-4ED6-B714-2FD3826B0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BE47-401E-4009-B125-C9B0D6A7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9BB0-76A1-4975-A040-B5FB264A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FF7-26B5-47E2-A8AE-F50EADF5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B9DE-0C75-4697-A04D-F3431D06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OW-OXYGEN AREA OF OCEAN INCOMPATIBLE WITH MOST MARINE LIF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E  BARA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WYER DIANE LOCKHART ON "THE GOOD WIFE" AND "THE GOOD F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NG 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1864 DEPORTATION OF NAVAJOS FROM ARIZONA 300 MILES TO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ING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ARTH, WIND &amp; FIRE'S FIRST HIT SONG, ABOUT THE NIGHTTIM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OM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AN INABILITY TO FALL ASLEEP OR STAY ASLEEP  AS LONG AS DES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FSHOOT OF DAIMLER CARS WAS NAMED AFTER THE DAUGHTER OF THE FOUNDER'S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/22/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THE DATE THAT JFK WAS ASSASSINATED BE WRITTEN IN 6-DIGIT FORM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OW-OXYGEN AREA OF OCEAN INCOMPATIBLE WITH MOST MARINE LIF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IRD PERSON PRONOUN BECOMES A FIRST PERSON PRONOUN IF ITS LAST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TART  WITH  NAMES  OF  STEPHEN  KING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2396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WYER DIANE LOCKHART ON "THE GOOD WIFE" AND "THE GOOD F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  THE 1864 DEPORTATION OF NAVAJOS FROM ARIZONA 300 MILES TO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ARTH, WIND &amp; FIRE'S FIRST HIT SONG, ABOUT THE NIGHTTIM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AN INABILITY TO FALL ASLEEP OR STAY ASLEEP AS LONG AS DESI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FSHOOT OF DAIMLER CARS WAS NAMED AFTER THE DAUGHTER OF THE FOUNDER'S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THE DATE THAT JFK WAS ASSASSINATED BE WRITTEN IN 6-DIGIT FORM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2:50:16Z</dcterms:created>
  <dc:creator>Jennifer Budzinski</dc:creator>
  <dc:description/>
  <dc:language>en-US</dc:language>
  <cp:lastModifiedBy>Erich Friedman</cp:lastModifiedBy>
  <dcterms:modified xsi:type="dcterms:W3CDTF">2020-08-25T14:04:38Z</dcterms:modified>
  <cp:revision>391</cp:revision>
  <dc:subject/>
  <dc:title>Slide 1</dc:title>
</cp:coreProperties>
</file>