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1F39-514C-413E-A79E-419C2D11B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E289-DC42-4002-A436-67C9B73F5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856F-9A90-4796-BC92-0DC13F242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036B-0843-4459-8900-579A7CCE0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2EBC-550A-4BB7-8D62-A4734B7B5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90B1-F17A-4F5C-B1DC-05FF00BB7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1CAF-F491-4FE4-94E9-9F780D577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1E7E-FF14-44F7-A8F3-A92F0D349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496A-F99F-4984-ACE2-FBAC3BF02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469A-2E83-4306-ABE0-0A0E4593C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73C3-A8B6-41AD-9A81-C536C1FF9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5516-D84C-4708-840A-A2F01987C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7BE4-45E3-4CD4-8937-C2F9ACECF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3E71-13EF-4940-9A6E-49981CDDF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4C4A-33F4-40FF-8ACB-D9DAB6D32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3C55-EFFE-49CD-8705-D08D693AD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A713-17BA-4DBE-865D-3C29CC309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9DB3-8E37-4C49-A218-F07047816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196D-A980-4BFF-B727-D379FC9D5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7B77-4B44-432A-8686-6A46D1A2F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2638-5869-4983-8FAD-FAC394AD0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4BA8-BEDC-407D-92A4-FE65F89A2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AC4D-5FFB-4579-9F3C-EACB9D95B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IS PLAYED ON AN 8x8 GRID USING DISKS THAT ARE BLACK ON ONE SIDE AND WHITE ON THE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D  Z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04920" y="762120"/>
            <a:ext cx="853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LOW-OXYGEN AREA OF OCEAN INCOMPATIBLE WITH MOST MARINE LIF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6900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NE  BARANS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AWYER DIANE LOCKHART ON "THE GOOD WIFE" AND "THE GOOD F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ONG  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1864 DEPORTATION OF NAVAJOS FROM ARIZONA 300 MILES TO NEW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NING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EARTH, WIND &amp; FIRE'S FIRST HIT SONG, ABOUT THE NIGHTTIME SK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SOM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DICAL TERM FOR AN INABILITY TO FALL ASLEEP OR STAY ASLEEP  AS LONG AS DESI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FSHOOT OF DAIMLER CARS WAS NAMED AFTER THE DAUGHTER OF THE FOUNDER'S FRI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1/22/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WOULD THE DATE THAT JFK WAS ASSASSINATED BE WRITTEN IN 6-DIGIT FORM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LOW-OXYGEN AREA OF OCEAN INCOMPATIBLE WITH MOST MARINE LIF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IE  FIS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RINCESS LEIA IN THE "STAR WAR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IRD PERSON PRONOUN BECOMES A FIRST PERSON PRONOUN IF ITS LAST LETTER IS REMO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34340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START  WITH  NAMES  OF  STEPHEN  KING  NOV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2396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AWYER DIANE LOCKHART ON "THE GOOD WIFE" AND "THE GOOD F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  THE 1864 DEPORTATION OF NAVAJOS FROM ARIZONA 300 MILES TO NEW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EARTH, WIND &amp; FIRE'S FIRST HIT SONG, ABOUT THE NIGHTTIME SK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DICAL TERM FOR AN INABILITY TO FALL ASLEEP OR STAY ASLEEP AS LONG AS DESI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FSHOOT OF DAIMLER CARS WAS NAMED AFTER THE DAUGHTER OF THE FOUNDER'S FRI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WOULD THE DATE THAT JFK WAS ASSASSINATED BE WRITTEN IN 6-DIGIT FORM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RINCESS LEIA IN THE "STAR WAR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22:50:16Z</dcterms:created>
  <dc:creator>Jennifer Budzinski</dc:creator>
  <dc:description/>
  <dc:language>en-US</dc:language>
  <cp:lastModifiedBy>Erich Friedman</cp:lastModifiedBy>
  <dcterms:modified xsi:type="dcterms:W3CDTF">2020-08-25T14:04:38Z</dcterms:modified>
  <cp:revision>391</cp:revision>
  <dc:subject/>
  <dc:title>Slide 1</dc:title>
</cp:coreProperties>
</file>