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BB17-21B1-4403-9643-9374A1258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8B5F-5D97-4A04-8577-0BD3F02EC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E950-9025-4E92-A6CB-FA52DA3ED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EAAB-9C86-4663-9211-57FD28246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BE9A-6363-4E69-9146-A1562240A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AFE5-F434-49A1-ABD8-619C7AC67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72DA-BE05-4FA7-AD37-DC35CB396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A517-3664-4C22-90FB-91AAB2E06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B999-90A6-4104-99C5-4C4FF4621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F7A7-C760-4A84-8394-ADE6AF798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AD81-42BD-4D15-8E39-AD44844B6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34EE-43FC-4852-A5DC-7BAE20BB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70FC-5A8B-461C-B2E2-3B0F900DF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4A7-5477-42E3-ACDF-A59BBA5FA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0982-EEE2-489B-BE3D-A823D1866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EB85-31E5-4418-B6AA-5F7B51CFF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9215-E093-4CB6-9CBF-0D5E4A399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BFB4-0763-478D-878D-5CCDDAB7C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62DF-EB26-4428-AFC2-3327C9E30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BDCB-9362-4C4F-96DB-D0578D7F6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12F4-A5A9-4F14-BF26-D329EC8AE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687C-AFC3-488B-BD0F-E096ED4C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95B71-BA73-4791-98AD-98D3F08AD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, NEXT TO THE ONE CONTAINING THE STATUE OF LIBERTY, IS WHERE IMMIGRANTS TO NYC USED TO BE PROCES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8760" y="762120"/>
            <a:ext cx="6486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TO BE BORN IN A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73240" y="762120"/>
            <a:ext cx="6797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U.S. ATTORNEY GENERAL UNDER PRESIDENTS BUSH AND TRUM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  ME  RH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EACH BOYS SONG BEGINS "WELL SINCE SHE PUT ME DOWN I'VE BEEN OUT DOIN' IN MY H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181160" y="4886280"/>
            <a:ext cx="6781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DRIC  THE  ENTERTAI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85760" y="771480"/>
            <a:ext cx="697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ORIGINAL KINGS OF COMEDY" WERE STEVE HARVEY, BERNIE MAC, D.L. HUGHEY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B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233360" y="762120"/>
            <a:ext cx="6677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ICHAEL JACKSON'S PET CHIMPANZ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TER  HO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SOLO ANCHOR THE WEEKDAY EVENING NEWS ON A MAJOR NET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RV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2520" y="762120"/>
            <a:ext cx="8237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MAGIC" JOHNSON'S REAL FIRST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66840" y="762120"/>
            <a:ext cx="661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TO BE BORN IN A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52480" y="762120"/>
            <a:ext cx="7439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EAUTY COMPANY IN THE WORLD, AND THE LARGEST THAT IS A DIRECT-SELLING ENTERPR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S  IS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LAND, NEXT TO THE ONE CONTAINING THE STATUE OF LIBERTY, IS WHERE IMMIGRANTS TO NYC USED TO BE PROCES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76160" y="4343400"/>
            <a:ext cx="75916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FIRST  NAMES  OF CHARACTERS  ON  "THE  W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8600" y="761760"/>
            <a:ext cx="68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THE U.S. ATTORNEY GENERAL UNDER PRESIDENTS BUSH AND TRUM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BEACH BOYS SONG BEGINS "WELL SINCE SHE PUT ME DOWN I'VE BEEN OUT DOIN' IN MY H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ORIGINAL KINGS OF COMEDY" WERE STEVE HARVEY, BERNIE MAC, D.L. HUGHEY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2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MICHAEL JACKSON'S PET CHIMPANZE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9360" y="761760"/>
            <a:ext cx="8402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FRICAN-AMERICAN TO SOLO ANCHOR THE WEEKDAY EVENING NEWS ON A MAJOR NETWO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"MAGIC" JOHNSON'S REAL FIRST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81200" y="762120"/>
            <a:ext cx="7581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BEAUTY COMPANY IN THE WORLD, AND THE LARGEST THAT IS A DIRECT-SELLING ENTERPR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15T21:11:53Z</dcterms:modified>
  <cp:revision>436</cp:revision>
  <dc:subject/>
  <dc:title>Slide 1</dc:title>
</cp:coreProperties>
</file>