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5C99-C87F-428C-8728-47607938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F34-1E55-488C-B4E2-15D28A57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E42-1B7F-44B8-A44A-44434086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736-478C-4B82-83B1-444C5CDCF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2E7-341E-4B13-B004-10648362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E4E-6BE1-493B-9A10-CD3AFDAA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4F2-1129-4B4D-81C5-AB202D2A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F502-CA0A-4276-AB80-E4BB42D0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B29-2EBC-445C-AF15-5BAD8FEB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F4B-2F0A-470D-A687-2112E40E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B57-76C7-4841-979C-237E1082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DFC0-B7F0-4C11-9A86-E46223849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79EA-DA7F-45D6-9731-E089315E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535-F0A2-4B47-9CA2-88E1BD0A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A91-0EF4-4FD2-A432-6BFDD6DD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C44-307B-455A-A410-964F234B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AD68-D4C9-4C19-BF0B-590DA654E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C52D-A308-4817-946D-801F3A38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FFC-5D84-4230-A62F-295463CE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BB7-2453-4910-ABB3-9EC1FCF0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066-EA30-4DE5-9628-705E5BE3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9A27-4835-4FA4-A2DD-C60C88BB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94D-BA9A-48D8-A65A-15C2307F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, NEXT TO THE ONE CONTAINING THE STATUE OF LIBERTY, IS WHERE IMMIGRANTS TO NYC USED TO BE PROCES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8760" y="762120"/>
            <a:ext cx="6486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TO BE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73240" y="762120"/>
            <a:ext cx="679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U.S. ATTORNEY GENERAL UNDER PRESIDENTS BUSH AND TR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  ME  RH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EACH BOYS SONG BEGINS "WELL SINCE SHE PUT ME DOWN I'VE BEEN OUT DOIN' IN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81160" y="488628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DRIC  THE  ENTERTA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85760" y="77148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ORIGINAL KINGS OF COMEDY" WERE STEVE HARVEY, BERNIE MAC, D.L. HUGHE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B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33360" y="762120"/>
            <a:ext cx="6677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ICHAEL JACKSON'S PET CHIMPANZ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TER  H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SOLO ANCHOR THE WEEKDAY EVENING NEWS ON A MAJOR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2520" y="762120"/>
            <a:ext cx="823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MAGIC" JOHNSON'S REAL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TO BE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2480" y="762120"/>
            <a:ext cx="7439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EAUTY COMPANY IN THE WORLD, AND THE LARGEST THAT IS A DIRECT-SELLING ENTERPR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, NEXT TO THE ONE CONTAINING THE STATUE OF LIBERTY, IS WHERE IMMIGRANTS TO NYC USED TO BE PROCES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76160" y="4343400"/>
            <a:ext cx="759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CHARACTERS  ON  "THE  W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8600" y="761760"/>
            <a:ext cx="68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U.S. ATTORNEY GENERAL UNDER PRESIDENTS BUSH AND TR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EACH BOYS SONG BEGINS "WELL SINCE SHE PUT ME DOWN I'VE BEEN OUT DOIN' IN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ORIGINAL KINGS OF COMEDY" WERE STEVE HARVEY, BERNIE MAC, D.L. HUGHEY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ICHAEL JACKSON'S PET CHIMPANZ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9360" y="761760"/>
            <a:ext cx="840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SOLO ANCHOR THE WEEKDAY EVENING NEWS ON A MAJOR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MAGIC" JOHNSON'S REAL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EAUTY COMPANY IN THE WORLD, AND THE LARGEST THAT IS A DIRECT-SELLING ENTERPR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15T21:11:53Z</dcterms:modified>
  <cp:revision>436</cp:revision>
  <dc:subject/>
  <dc:title>Slide 1</dc:title>
</cp:coreProperties>
</file>