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ED62-AB2D-42D6-9D78-5E2382A77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A3A3-7D25-4132-BCE0-17BA1835A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2CB0-F3B9-495F-AA83-C81CFF877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FBAE-E9A4-48CF-A601-48CC6071E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5864-C287-4C76-AD33-01D9B1CB8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5959-4DC6-457C-9EE9-E7334DF8A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F0F0-3F0F-4E9A-8622-BA3CE15F6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515C-7059-4D2B-9E7D-3156FFBDD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27CC-CDBE-4617-A4B6-87043205D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C98F-C30E-4415-9034-CAACC0829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C99C-87E0-480B-99A3-2F5B7E8AC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EACC-CDAA-4DDE-9309-5F859FD4F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00424-BE79-40BB-8DAC-68BBC103B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B0B6-F8C7-4014-8EE4-125A82A2B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5743-0522-4E7D-B22B-978326EEB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0B81-D133-4B6A-A0D2-AA0B50301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70DF-A1C0-4CEC-BC3E-CA4B91737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9187-3EE7-4B4A-8460-9F649CCCC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67A0-E13B-40EE-9B7B-30F81A2DA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D818-61D8-418C-9FF9-04174AC55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42BC-A577-4AFC-975B-804A83D69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AF41-628A-4C4C-8965-86986B251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2A5E-4BFC-4EB6-8A87-F7F14F927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9E12-8431-49ED-905D-4A63FAD55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ARACK OBAMA PRESIDENTIAL LIBRARY WILL BE BUILT IN WHAT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2-LETTER POSTAL ABBREVIATION IS THE LAST 2 LETTERS OF ITS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ESS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52400" y="762120"/>
            <a:ext cx="7639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IS MORE THAN 3 TIMES AS WIDE EAST-WEST AS IT IS NORTH-SOU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DID PRESIDENT GEORGE WASHINGTON TAKE HIS OATH OF OFFICE ON APRIL 30, 17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NECTIC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ALE UNIVERSITY IS LOCATED IN WHAT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RM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009800" y="774720"/>
            <a:ext cx="7124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CAPITAL HAS A POPULATION LESS THAN 10,000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VER HALF THE BATTLES OF THE U.S. CIVIL WAR WERE FOUGHT IN WHAT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53352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NSYLV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14280" y="762120"/>
            <a:ext cx="8515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WAS THE ONLY ONE OF THE ORIGINAL 13 COLONIES THAT DOES NOT BORDER THE ATLANTIC OC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66760" y="762120"/>
            <a:ext cx="8610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OFFICIAL MOTTO IS "CROSSROADS OF AMERICA", AND INDEED CONTAINS MORE INTERSTATE HIGHWAY PER AREA THAN ANY OTHER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LLIN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76280" y="758880"/>
            <a:ext cx="8191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ARACK OBAMA PRESIDENTIAL LIBRARY WILL BE BUILT IN WHAT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TUC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2-LETTER POSTAL ABBREVIATION IS THE LAST 2 LETTERS OF IT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171440" y="4343400"/>
            <a:ext cx="6801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AVENUES  IN  THE  GAME  OF  MONOPO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TAT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THAT IS MORE THAN 3 TIMES AS WIDE EAST-WEST AS IT IS NORTH-SOU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DID PRESIDENT GEORGE WASHINGTON TAKE HIS OATH OF OFFICE ON APRIL 30, 178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4304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ALE UNIVERSITY IS LOCATED IN WHAT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CAPITAL HAS A POPULATION LESS THAN 10,000 PEO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VER HALF THE BATTLES OF THE U.S. CIVIL WAR WERE FOUGHT IN WHAT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09520" y="762120"/>
            <a:ext cx="8724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WAS THE ONLY ONE OF THE ORIGINAL 13 COLONIES THAT DOES NOT BORDER THE ATLANTIC OC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47680" y="761760"/>
            <a:ext cx="8648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OFFICIAL MOTTO IS "CROSSROADS OF AMERICA", AND INDEED CONTAINS MORE INTERSTATE HIGHWAY PER AREA THAN ANY OTHER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6T23:26:21Z</dcterms:created>
  <dc:creator>Jennifer Budzinski</dc:creator>
  <dc:description/>
  <dc:language>en-US</dc:language>
  <cp:lastModifiedBy>Erich Friedman</cp:lastModifiedBy>
  <dcterms:modified xsi:type="dcterms:W3CDTF">2022-10-31T14:09:44Z</dcterms:modified>
  <cp:revision>454</cp:revision>
  <dc:subject/>
  <dc:title>Slide 1</dc:title>
</cp:coreProperties>
</file>