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835E-1A1C-4BD4-BAA3-F06A73A06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F13-E7D2-43FE-AC83-AFE62C10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74C2-35B5-4572-A27C-70F70FE4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DAAA-6D03-4FCF-82C0-2778F00E0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4DAF-FF47-4955-97CB-031FDA73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D5CA-B683-4A72-BD2F-E30E3D5DD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ACF-183F-4952-8D96-1F5DEFD5F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2377-8A53-47D8-A416-2C4743AD0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200E-3FEC-496C-89D8-37609F31A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9F88-F4C3-46B2-B070-8397F953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8697-2CE8-4246-9E34-7E4ACDB0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8751-3EA0-44B9-A661-804D6689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C0E2-CA36-4510-95BA-6BF780FEF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67F9-6CFC-4572-B3A1-6602C805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D1B1-A413-42CD-8EA4-FF13DAFE4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2D9-A896-4065-91FD-BBEF60F3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B1C0-4856-456C-AF2F-0555AC05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8F5-8C9D-410B-9E05-3B75559E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197-6DDC-4BE5-942F-AE8ADBE80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3A48-866C-4A78-B1EB-9D47B782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F138-AB20-49B8-9E2C-0A059D43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DC24-D3B5-4A88-9372-E1B872C1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EF14-D47C-4DAA-ADDC-F5AF5F73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98F-ABAD-4EBA-A46C-819951D62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RACK OBAMA PRESIDENTIAL LIBRARY WILL BE BUILT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2-LETTER POSTAL ABBREVIATION IS THE LAST 2 LETTERS OF IT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52400" y="762120"/>
            <a:ext cx="763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IS MORE THAN 3 TIMES AS WIDE EAST-WEST AS IT IS NORTH-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ID PRESIDENT GEORGE WASHINGTON TAKE HIS OATH OF OFFICE ON APRIL 30, 17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NECTI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ALE UNIVERSITY IS LOCAT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009800" y="7747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CAPITAL HAS A POPULATION LESS THAN 10,000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 HALF THE BATTLES OF THE U.S. CIVIL WAR WERE FOUGHT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SYLV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14280" y="762120"/>
            <a:ext cx="8515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WAS THE ONLY ONE OF THE ORIGINAL 13 COLONIES THAT DOES NOT BORDER THE ATLANT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MOTTO IS "CROSSROADS OF AMERICA", AND INDEED CONTAINS MORE INTERSTATE HIGHWAY PER AREA THAN ANY OTH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76280" y="75888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RACK OBAMA PRESIDENTIAL LIBRARY WILL BE BUILT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2-LETTER POSTAL ABBREVIATION IS THE LAST 2 LETTERS OF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171440" y="4343400"/>
            <a:ext cx="680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VENUES  IN  THE  GAME  OF  MONOPO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TA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IS MORE THAN 3 TIMES AS WIDE EAST-WEST AS IT IS NORTH-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ID PRESIDENT GEORGE WASHINGTON TAKE HIS OATH OF OFFICE ON APRIL 30, 17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ALE UNIVERSITY IS LOCAT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CAPITAL HAS A POPULATION LESS THAN 10,000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 HALF THE BATTLES OF THE U.S. CIVIL WAR WERE FOUGHT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WAS THE ONLY ONE OF THE ORIGINAL 13 COLONIES THAT DOES NOT BORDER THE ATLANT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7680" y="761760"/>
            <a:ext cx="8648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MOTTO IS "CROSSROADS OF AMERICA", AND INDEED CONTAINS MORE INTERSTATE HIGHWAY PER AREA THAN ANY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23:26:21Z</dcterms:created>
  <dc:creator>Jennifer Budzinski</dc:creator>
  <dc:description/>
  <dc:language>en-US</dc:language>
  <cp:lastModifiedBy>Erich Friedman</cp:lastModifiedBy>
  <dcterms:modified xsi:type="dcterms:W3CDTF">2022-10-31T14:09:44Z</dcterms:modified>
  <cp:revision>454</cp:revision>
  <dc:subject/>
  <dc:title>Slide 1</dc:title>
</cp:coreProperties>
</file>