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1137-4296-41CE-8DC9-A96B1077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A5B-14FB-46CD-A5E6-791F72EB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B7BA-0034-43AE-B2FA-173E8D2C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789A-7C9B-404D-AB9D-F587DBB7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A4A-1ED0-4F38-87C3-454C94D6D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682A-727C-42A4-8EA9-71E46A15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5DDE-C7CA-4CA7-BB45-BE236F7D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845-54F6-4A7F-9E97-2CF5733F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883-6631-48A8-9D6F-714AE464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F1DC-0252-4161-9962-924E0B6F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D46-9746-412D-940D-76274516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F03D-563C-4000-9FB6-5EC375EB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44D-44B7-45CA-8F2D-0F2B3332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6F08-000A-4FEB-8648-44B8F2BC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AE94-7D8F-47B1-B190-EE4B9F36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AB8-6D20-4C08-80C9-D6C885F1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331C-424B-4832-828C-3D9F16D3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150-9683-42CD-B9B7-BF478188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2D9-79FD-425F-822E-986F504F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3873-AF41-4A7D-8786-B1398FEC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4AD-75EE-4C1D-AFA6-A90F2999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5BB-1989-428D-AC71-F7DE931F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023B-41CE-4377-A6CB-C8EB3561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SQUEEZE BOX" BY THE WHO HAS LOTS OF DOUBLE ENTENDRES, BUT IS ACTUALLY ABOUT WHAT MUSICAL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HOMER'S 2 EPIC POEMS TAKES PLACE AFTER THE TROJAN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ERTA  DEL 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BLIC SQUARE AT THE EXACT CENTER OF MADRID, WHOSE NAME TRANSLATES AS "GATE OF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ENGLISH PALINDROMIC WORD FORMED ENTIRELY OF ROMAN NUMERALS     (I, V, X, L, C, 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LUDE  TO  A  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S MEG RYAN WHO SWITCHES BODIES WITH AN OLD MAN AT HER WEDDING WITH ALEC BALD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FTH 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BRUCE WILLIS SAVE THE WORLD IN THE YEAR 2263 WITH THE HELP OF 4 STONES AND A WOMAN NAMED LEEL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T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UFACTURER OF ACTIVITY MONITORS AND SMARTWATCHES WAS KNOWN AS "HEALTHY METRICS RESEARCH INC." BEFORE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IOR EXPLORATION USING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SMIC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VESTIGATIONS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ODESY AND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NSPORT" ROBOT ON MARS  IS KNOWN BY WHAT ACRON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HOMER'S 2 EPIC POEMS TAKES PLACE AFTER THE TROJAN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 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USE OF 75% OF PLANE CRA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27000" y="762120"/>
            <a:ext cx="729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SQUEEZE BOX" BY THE WHO HAS LOTS OF DOUBLE ENTENDRES, BUT IS ACTUALLY ABOUT WHAT MUSICAL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17680" y="4343400"/>
            <a:ext cx="630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HONDA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BLIC SQUARE AT THE EXACT CENTER OF MADRID, WHOSE NAME TRANSLATES AS "GATE OF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2040" y="762120"/>
            <a:ext cx="727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ENGLISH PALINDROMIC WORD FORMED ENTIRELY OF ROMAN NUMERALS     (I, V, X, L, C, 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S MEG RYAN WHO SWITCHES BODIES WITH AN OLD MAN AT HER WEDDING WITH ALEC BALD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BRUCE WILLIS SAVE THE WORLD IN THE YEAR 2263 WITH THE  HELP OF 4 STONES AND A WOMAN NAMED LEELO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UFACTURER OF ACTIVITY MONITORS AND SMARTWATCHES WAS KNOWN AS "HEALTHY METRICS RESEARCH INC." BEFORE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INTERIOR EXPLORATION USING SEISMIC INVESTIGATIONS, GEODESY AND HEAT TRANSPORT" ROBOT ON MARS  IS KNOWN BY WHAT ACRON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USE OF 75% OF PLANE CRAS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3-01-13T13:25:25Z</dcterms:modified>
  <cp:revision>436</cp:revision>
  <dc:subject/>
  <dc:title>Slide 1</dc:title>
</cp:coreProperties>
</file>