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E76-91F7-4919-98C0-69A3DFF9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BA9-45CC-45DD-A9E6-26169399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02B4-E5BC-4968-87FC-7B266FCE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449B-9058-43F5-B7EC-E22B0013D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D94F-0C1F-413E-9FC4-ED804531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21730-2BAA-44F5-A736-71C5F27F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F9D3-AFCE-4E90-96C9-D9FDD631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4817-022D-40E1-93DF-8C9CB0249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10AC-1539-465B-99D8-507EFB1B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62FE-E2A5-421F-B2C8-2F8190F0E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258A-B708-4863-A8BA-399F18DC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9F4F-7EF9-40EA-8C37-6BDDC69D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21FD-1117-4390-9FC6-14AF80D0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8511-30EF-4099-B252-A97D4B15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D6B-BFC2-401C-9CEE-5FEAD90B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E98A-28F5-410A-9850-41AE33B59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93F3-06D7-4ED0-8E76-9FDAB0CA5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3E39-2822-49DF-98F5-38965BE21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A4CA-7067-466A-9CDE-7F87F6D72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85E4-62E2-44BA-9CDA-AE1615D9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F630-B414-4520-A6A1-C72A4CE13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AF56-0A81-4475-AACD-24E374A6A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E867-0EC2-42C8-8ADB-CB2BBC3E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SQUEEZE BOX" BY THE WHO HAS LOTS OF DOUBLE ENTENDRES, BUT IS ACTUALLY ABOUT WHAT MUSICAL INSTRU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DY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4800" y="762120"/>
            <a:ext cx="7394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HOMER'S 2 EPIC POEMS TAKES PLACE AFTER THE TROJAN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ERTA  DEL  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2200" y="762120"/>
            <a:ext cx="795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BLIC SQUARE AT THE EXACT CENTER OF MADRID, WHOSE NAME TRANSLATES AS "GATE OF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ENGLISH PALINDROMIC WORD FORMED ENTIRELY OF ROMAN NUMERALS     (I, V, X, L, C, 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LUDE  TO  A  KI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S MEG RYAN WHO SWITCHES BODIES WITH AN OLD MAN AT HER WEDDING WITH ALEC BALD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FTH  E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BRUCE WILLIS SAVE THE WORLD IN THE YEAR 2263 WITH THE HELP OF 4 STONES AND A WOMAN NAMED LEELO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T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UFACTURER OF ACTIVITY MONITORS AND SMARTWATCHES WAS KNOWN AS "HEALTHY METRICS RESEARCH INC." BEFORE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2680" y="762120"/>
            <a:ext cx="891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RIOR EXPLORATION USING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ISMIC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VESTIGATIONS,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ODESY AND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T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NSPORT" ROBOT ON MARS  IS KNOWN BY WHAT ACRONY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HOMER'S 2 EPIC POEMS TAKES PLACE AFTER THE TROJAN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LOT 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2040" y="762120"/>
            <a:ext cx="727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USE OF 75% OF PLANE CRAS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CORD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27000" y="762120"/>
            <a:ext cx="729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G "SQUEEZE BOX" BY THE WHO HAS LOTS OF DOUBLE ENTENDRES, BUT IS ACTUALLY ABOUT WHAT MUSICAL INSTRU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17680" y="4343400"/>
            <a:ext cx="6308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HONDA 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BLIC SQUARE AT THE EXACT CENTER OF MADRID, WHOSE NAME TRANSLATES AS "GATE OF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32040" y="762120"/>
            <a:ext cx="727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ENGLISH PALINDROMIC WORD FORMED ENTIRELY OF ROMAN NUMERALS     (I, V, X, L, C, 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S MEG RYAN WHO SWITCHES BODIES WITH AN OLD MAN AT HER WEDDING WITH ALEC BALD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BRUCE WILLIS SAVE THE WORLD IN THE YEAR 2263 WITH THE  HELP OF 4 STONES AND A WOMAN NAMED LEELO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2160" y="761760"/>
            <a:ext cx="8975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UFACTURER OF ACTIVITY MONITORS AND SMARTWATCHES WAS KNOWN AS "HEALTHY METRICS RESEARCH INC." BEFORE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7520" y="761760"/>
            <a:ext cx="9048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INTERIOR EXPLORATION USING SEISMIC INVESTIGATIONS, GEODESY AND HEAT TRANSPORT" ROBOT ON MARS  IS KNOWN BY WHAT ACRONY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USE OF 75% OF PLANE CRAS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3-01-13T13:25:25Z</dcterms:modified>
  <cp:revision>436</cp:revision>
  <dc:subject/>
  <dc:title>Slide 1</dc:title>
</cp:coreProperties>
</file>