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6521-E44B-496A-8769-5E2029997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3507-8AA6-427E-B03C-D2F2DDD24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3D55-EA11-433A-80D3-771BEA6B4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5C08-F26D-4A3A-8B4A-8E93149CE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3896-C821-4760-9489-0775E7962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9A5A-4622-4A5F-AD89-CBEDC8C66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5962-D029-403E-AE40-3E1235CC7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0CD6-5E2B-436D-9B12-068070F3C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B138-FBD4-4251-B9E1-2C8FB3592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3DF4-4775-4383-834E-FB7A9D60E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A2FF-9D0D-4F9F-B8E3-715DDC31F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1A03-EC98-4942-8801-80A12539E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18CB-869B-465E-8211-B9E853906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C1FE-4F42-4C40-9C3C-3A70CE5FB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0DD2-4943-4A1F-A02F-EF4D2692A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4EEC-0A0C-4494-82D8-F88171F85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643F-1048-4F19-8F77-96523A807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A3DC-973B-401C-BFCA-E31B403AB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5829-78E0-48EC-8FF8-E4F352543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BA05-3633-46DC-9B32-51AD7BEC7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25E1-3AAA-4C0C-803C-DD0C428AF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7E79-839C-48FE-9448-2B7ECD2FC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61FD-F0CC-403B-9D01-DF38619E3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LOGIC PERIOD COVERS THE TIME BETWEEN 200 MILLION YEARS AGO TO 150 MILLION YEARS 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US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24080" y="762120"/>
            <a:ext cx="6495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I" STAND FOR IN "DJ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US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90440" y="7621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L IN THIS GANDHI QUOTE: "PRAYER IS NOT AN OLD WOMAN'S IDLE ____.  PROPERLY UNDERSTOOD AND APPLIED, IT IS THE MOST POTENT INSTRUMENT OF ACTION.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ALL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LECTRICAL CIRCUITRY, WHAT IS THE OPPOSITE OF "SER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04880" y="762120"/>
            <a:ext cx="7734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DOES ONE NEED TO TRAVEL TO GO FROM VENICE TO R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NT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276200" y="762120"/>
            <a:ext cx="6591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ME ZONE IN THE CONTINENTAL U.S. CONTAINS MORE AREA THAN ANY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9536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95160" y="762120"/>
            <a:ext cx="7753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MISTRY, WHAT COMPOUND IS KNOWN AS "THE UNIVERSAL SOLV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ULD YOU ORDER AT WENDY'S IF YOU WANTED A HAMBURGER WITH 2 BEEF PAT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I" STAND FOR IN "DJI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04840" y="762120"/>
            <a:ext cx="697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AGRAM OF "TASTE" ONLY REQUIRES MOVING ONE LE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RAS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LOGIC PERIOD COVERS THE TIME BETWEEN 200 MILLION YEARS AGO TO 150 MILLION YEARS 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81200" y="4876920"/>
            <a:ext cx="758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PAR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L IN THIS GANDHI QUOTE: "PRAYER IS NOT AN OLD WOMAN'S IDLE ____.  PROPERLY UNDERSTOOD AND APPLIED, IT IS THE MOST POTENT INSTRUMENT OF ACTION.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LECTRICAL CIRCUITRY, WHAT IS THE OPPOSITE OF "SER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DOES ONE NEED TO TRAVEL TO GO FROM VENICE TO RO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66840" y="762120"/>
            <a:ext cx="66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ME ZONE IN THE CONTINENTAL U.S. CONTAINS MORE AREA THAN ANY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MISTRY, WHAT COMPOUND IS KNOWN AS "THE UNIVERSAL SOLV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ULD YOU ORDER AT WENDY'S IF YOU WANTED A HAMBURGER WITH 2 BEEF PATT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AGRAM OF "TASTE" ONLY REQUIRES MOVING ONE LET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6T23:26:21Z</dcterms:created>
  <dc:creator>Jennifer Budzinski</dc:creator>
  <dc:description/>
  <dc:language>en-US</dc:language>
  <cp:lastModifiedBy>Erich Friedman</cp:lastModifiedBy>
  <dcterms:modified xsi:type="dcterms:W3CDTF">2022-10-31T14:17:52Z</dcterms:modified>
  <cp:revision>454</cp:revision>
  <dc:subject/>
  <dc:title>Slide 1</dc:title>
</cp:coreProperties>
</file>