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0F56-DB0E-47B7-88AF-9B45E4E07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E7A1-6AD8-440B-AA76-756DB92B4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4CFD-A4FE-4535-A334-2AABFFC72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A688-C3DA-4126-BEAE-17BD69A3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13C5-DED9-4275-8107-A1CF44E7D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5B7C-5E28-4A98-84FB-F8F60FB76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5EEB-B06E-42EB-B7D3-F9BDFFA25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5D0-1DB4-41FC-B98B-573610489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7A26-7FBC-472D-A960-814ED72FA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3E15-8F46-4D47-954E-A0626223E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E9E9-4D5A-4732-811A-C7DFBF5EE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9756-FF30-4125-9F90-7B534FFA8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DEB7-FF8B-4393-8853-579878E04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0A23-B524-4CBD-870D-94E7DF4B1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24CD-16C5-4C46-BCC3-A806CA295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2E67-E267-495C-8ECE-FF9FA14E0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9471-1389-4C09-9DEB-1D08D44D9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A72B-3ABE-410B-A395-13EEA911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57FC-FF20-4592-9972-482C4DDDA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9ED0-7A0C-47BE-97B6-2FAC9BA7D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1DB8-66F4-4C8E-A7B0-E26800879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2E7A-706C-44D1-A2AF-4078E5CE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818A-A3DD-46F2-AD92-AED67CC11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LOGIC PERIOD COVERS THE TIME BETWEEN 200 MILLION YEARS AGO TO 150 MILLION YEARS 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24080" y="762120"/>
            <a:ext cx="649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I" STAND FOR IN "DJ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US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62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IN THIS GANDHI QUOTE: "PRAYER IS NOT AN OLD WOMAN'S IDLE ____.  PROPERLY UNDERSTOOD AND APPLIED, IT IS THE MOST POTENT INSTRUMENT OF ACTION.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LECTRICAL CIRCUITRY, WHAT IS THE OPPOSITE OF "SER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04880" y="762120"/>
            <a:ext cx="7734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OES ONE NEED TO TRAVEL TO GO FROM VENICE TO R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76200" y="762120"/>
            <a:ext cx="659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ME ZONE IN THE CONTINENTAL U.S. CONTAINS MORE AREA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95160" y="762120"/>
            <a:ext cx="7753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COMPOUND IS KNOWN AS "THE UNIVERSAL SOLV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ULD YOU ORDER AT WENDY'S IF YOU WANTED A HAMBURGER WITH 2 BEEF PAT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I" STAND FOR IN "DJ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0484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TASTE" ONLY REQUIRES MOVING ONE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RAS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LOGIC PERIOD COVERS THE TIME BETWEEN 200 MILLION YEARS AGO TO 150 MILLION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81200" y="4876920"/>
            <a:ext cx="758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PAR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LL IN THIS GANDHI QUOTE: "PRAYER IS NOT AN OLD WOMAN'S IDLE ____.  PROPERLY UNDERSTOOD AND APPLIED, IT IS THE MOST POTENT INSTRUMENT OF ACTION.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LECTRICAL CIRCUITRY, WHAT IS THE OPPOSITE OF "SER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DOES ONE NEED TO TRAVEL TO GO FROM VENICE TO R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66840" y="762120"/>
            <a:ext cx="66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ME ZONE IN THE CONTINENTAL U.S. CONTAINS MORE AREA THAN ANY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COMPOUND IS KNOWN AS "THE UNIVERSAL SOLV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ULD YOU ORDER AT WENDY'S IF YOU WANTED A HAMBURGER WITH 2 BEEF PAT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TASTE" ONLY REQUIRES MOVING ONE LET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23:26:21Z</dcterms:created>
  <dc:creator>Jennifer Budzinski</dc:creator>
  <dc:description/>
  <dc:language>en-US</dc:language>
  <cp:lastModifiedBy>Erich Friedman</cp:lastModifiedBy>
  <dcterms:modified xsi:type="dcterms:W3CDTF">2022-10-31T14:17:52Z</dcterms:modified>
  <cp:revision>454</cp:revision>
  <dc:subject/>
  <dc:title>Slide 1</dc:title>
</cp:coreProperties>
</file>