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FDB1-A675-4C24-AAD8-1EF72F7D9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AEDE-21DC-4961-9738-FA0E13475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DFB5-42FD-45D7-AF58-CB20B216A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1C81-890D-4F36-9BB5-5E5228403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6E7A-4C25-4700-B018-756110008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2608-CC73-4446-8964-3D96BDFEA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F458-1E3A-49BF-B660-A73D4DD08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4792-15E0-41C8-8F17-BB1A64DD5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DF17-D349-4045-8D8C-4727CBAD4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7DCF-53B9-4841-B869-319268771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1A4A-D039-4436-AD69-C5654E8A8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239A-7D0F-428F-8927-5F340F19E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621E-2219-4ED9-81C1-579FBED0A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7C98-D9D5-4C1C-879E-0D38745F0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2F06-C634-4836-A6AE-97974FCBB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C641-F2C8-41A3-9596-6CB15BF68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63D7-40B7-4779-A652-42EA74B0B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D025-15B2-458F-87B7-0B06A7474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07A9-BA74-4D21-BC71-F44C96AA4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B1A8-CA52-49D8-90D9-BC04EEF72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63A7-895D-4202-AFB9-39BBC69BF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D40F-7299-4F6B-B594-A7FC9215A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A629-AB10-49B8-9B13-B0F104D3F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47600" y="1523880"/>
            <a:ext cx="7048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G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04640" y="761760"/>
            <a:ext cx="8334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B MARLEY SONG  ONLY BECAME A #1 HIT WHEN COVERED BY ERIC CLAPT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PIRATE  LOOKS  AT  FO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41240" y="762120"/>
            <a:ext cx="7659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IMMY BUFFETT SONG BEGINS WITH THE LYRICS "MOTHER, MOTHER OCEAN, I HAVE HEARD YOU CA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KER  STR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GERRY RAFFERTY'S FIRST TOP-10 HIT, NAMED AFTER A ROAD IN LOND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OX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33200" y="762120"/>
            <a:ext cx="8877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MON &amp; GARFUNKEL SONG HAS REFRAIN "LIE-LA-LI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143000" y="486720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N  OF  A  PREACHER 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52520" y="752400"/>
            <a:ext cx="8238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USTY SPRINGFIELD SONG HAS LYRICS "LEARNIN' FROM EACH OTHER'S KNOWIN', LOOKIN' TO SEE HOW MUCH WE'VE GROW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CRET  AGENT 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38200" y="762120"/>
            <a:ext cx="8067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10 JOHNNY RIVERS SONG WAS THE THEME SONG FOR THE BRITISH TV SHOW "DANGER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EARS  OF  A  CL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0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HIT SONG OF SMOKEY ROBINSON AND THE MIRAC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000080" y="4876920"/>
            <a:ext cx="7143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PER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57280" y="762120"/>
            <a:ext cx="8029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BY JIM CROCE IS SUBTITLED "THAT'S NOT THE WAY IT FEEL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03440" y="762120"/>
            <a:ext cx="7735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IMMY BUFFETT SONG BEGINS WITH THE LYRICS "MOTHER, MOTHER OCEAN, I HAVE HEARD YOU CAL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VATE  DAN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77920" y="762120"/>
            <a:ext cx="8588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INA TURNER HIT SONG WAS WRITTEN BY DIRE STRAITS, BUT NOT RECORDED BY THEM BECAUSE THEY DIDN'T HAVE A FEMALE SING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SHOT  THE  SHERI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25520" y="762120"/>
            <a:ext cx="8292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B MARLEY SONG  ONLY BECAME A #1 HIT WHEN COVERED BY ERIC CLAP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90440" y="480060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PROF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7360" y="761760"/>
            <a:ext cx="8186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GERRY RAFFERTY'S FIRST TOP-10 HIT, NAMED AFTER A ROAD IN LOND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6200" y="762120"/>
            <a:ext cx="8931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MON &amp; GARFUNKEL SONG HAS REFRAIN "LIE-LA-LI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66640" y="762120"/>
            <a:ext cx="8010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USTY SPRINGFIELD SONG HAS LYRICS "LEARNIN' FROM EACH OTHER'S KNOWIN', LOOKIN' TO SEE HOW MUCH WE'VE GROW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19120" y="762120"/>
            <a:ext cx="8104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10 JOHNNY RIVERS SONG WAS THE THEME SONG FOR THE BRITISH TV SHOW "DANGER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03280" y="761760"/>
            <a:ext cx="8137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HIT SONG OF SMOKEY ROBINSON AND THE MIRAC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80960" y="761760"/>
            <a:ext cx="8182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BY JIM CROCE IS SUBTITLED "THAT'S NOT THE WAY IT FEEL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09520" y="762120"/>
            <a:ext cx="8724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INA TURNER HIT SONG WAS WRITTEN BY DIRE STRAITS, BUT NOT RECORDED BY THEM BECAUSE THEY DIDN'T HAVE A FEMALE SING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10-31T14:19:11Z</dcterms:modified>
  <cp:revision>442</cp:revision>
  <dc:subject/>
  <dc:title>Slide 1</dc:title>
</cp:coreProperties>
</file>