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A865-9639-4386-AAC2-7554B79F3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F47C-0185-450B-A323-9F1520C2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D6BA-9D97-478C-B8D0-DEE1E08E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0E2-FFDA-425A-BED4-306BF246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4CF-FCC1-45F3-8C78-44BA1080B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A41A-C07B-4068-AB5A-DDD75ADEB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F65E-3C7B-4C97-AC48-680B8074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2AD-279C-4FE9-ABE3-3A98DAF2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4968-8ED3-4AAC-AD62-DA11C8E0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953-EBC1-421A-A279-EFE7B504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D27F-BB26-4B48-B2B2-11DE36239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2F9-B9F1-4B26-93FA-3EF4315C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7B45-4B98-4460-B717-84DE5678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7AD-38F0-4A18-9FEC-D37E10F9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5AB2-F9EA-42F4-A911-3E1054DF2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D0E0-7828-4DA0-8484-7DA5EC84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6DA-3E0C-4CCE-B442-0CD917C9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323E-1598-41C6-9177-608147D9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6715-E8D8-464C-BFC6-017B4813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66F-6384-474B-AF1C-FEBE26BE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68B9-9A93-4443-90A5-799ECBE9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9F58-EF4E-4499-ACAE-D80DE11A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413D-4CA6-4909-9546-37C3BDF2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7600" y="1523880"/>
            <a:ext cx="704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04640" y="761760"/>
            <a:ext cx="833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SONG  ONLY BECAME A #1 HIT WHEN COVERED BY ERIC CLAP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PIRATE  LOOKS  AT  F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1240" y="762120"/>
            <a:ext cx="7659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LYRICS "MOTHER, MOTHER OCEAN, I HAVE HEARD YOU C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KER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ERRY RAFFERTY'S FIRST TOP-10 HIT, NAMED AFTER A ROAD IN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X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3200" y="762120"/>
            <a:ext cx="887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HAS REFRAIN "LIE-LA-L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43000" y="48672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  OF  A  PREACHE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2520" y="752400"/>
            <a:ext cx="82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STY SPRINGFIELD SONG HAS LYRICS "LEARNIN' FROM EACH OTHER'S KNOWIN', LOOKIN' TO SEE HOW MUCH WE'VE G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  AGENT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JOHNNY RIVERS SONG WAS THE THEME SONG FOR THE BRITISH TV SHOW "DANGE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ARS  OF  A 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OF SMOKEY ROBINSON AND THE MIRA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7280" y="762120"/>
            <a:ext cx="802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JIM CROCE IS SUBTITLED "THAT'S NOT THE WAY IT FEE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LYRICS "MOTHER, MOTHER OCEAN, I HAVE HEARD YOU C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  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77920" y="762120"/>
            <a:ext cx="858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NA TURNER HIT SONG WAS WRITTEN BY DIRE STRAITS, BUT NOT RECORDED BY THEM BECAUSE THEY DIDN'T HAVE A FEMALE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SHOT  THE  SHER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5520" y="762120"/>
            <a:ext cx="82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SONG  ONLY BECAME A #1 HIT WHEN COVERED BY ERIC CLAP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00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ROF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7360" y="761760"/>
            <a:ext cx="8186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ERRY RAFFERTY'S FIRST TOP-10 HIT, NAMED AFTER A ROAD IN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200" y="762120"/>
            <a:ext cx="893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HAS REFRAIN "LIE-LA-L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STY SPRINGFIELD SONG HAS LYRICS "LEARNIN' FROM EACH OTHER'S KNOWIN', LOOKIN' TO SEE HOW MUCH WE'VE G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JOHNNY RIVERS SONG WAS THE THEME SONG FOR THE BRITISH TV SHOW "DANGE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OF SMOKEY ROBINSON AND THE MIRA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JIM CROCE IS SUBTITLED "THAT'S NOT THE WAY IT FEE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NA TURNER HIT SONG WAS WRITTEN BY DIRE STRAITS, BUT NOT RECORDED BY THEM BECAUSE THEY DIDN'T HAVE A FEMALE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4:19:11Z</dcterms:modified>
  <cp:revision>442</cp:revision>
  <dc:subject/>
  <dc:title>Slide 1</dc:title>
</cp:coreProperties>
</file>