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FAB3-A004-42EB-ACB7-A6368D530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A672-BFB8-48B3-9954-14B11C322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324A-19EB-4C8A-94F2-E406DA96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15AE-EF61-4D91-9EC5-3C9C654D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AA0-70A2-4CBF-A51A-25C0086CE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F8D8-F911-4D33-93FE-EBC8C82A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82E4-CB8A-4BAE-9811-3D374AC74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78E6-B78F-45B1-B96E-ED6380BBC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1AEF-88B2-4163-BBFB-403C7D49D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0CC7-7346-443E-AF24-35C51C8ED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1010-CB33-42FC-9D9D-F71A870E0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CE9-6A20-442B-ADF6-B52930CDE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9539-45CA-492B-AA51-7E7646339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4FEF-2738-4682-BA00-B6E2D8E99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D79C9-93EE-4267-BBF9-85F8AA4C4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D0A8-F219-4C6B-BADD-4A206FAB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ABA3-B337-443C-8434-B5C1784ED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F495-1F66-42BD-8591-8574DA1C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981D-AE93-4AF4-B27F-15226EF2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A477-F697-4689-A51F-81ACD3B2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0140-DF62-4C5C-BD54-A2E0750E9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117-2D08-406B-97C0-DBB548AE4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1074-8269-4212-A2E9-8B602DD8F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HAS WON 22 GRAMMY AWARDS, MORE THAN ANY OTHER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2960" y="762120"/>
            <a:ext cx="7318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TEAK SAUCE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–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6840" y="762120"/>
            <a:ext cx="8410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UNITS ARE OFTEN BROUGHT IN TO SEARCH FOR DRUGS, WEAPONS, OR MISSING PER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VITAMIN NIACIN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19240" y="771480"/>
            <a:ext cx="8705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ORADE PRODUCT ADVERTISES "HALF THE SUGAR, ALL THE ELECTROLY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0320" y="762120"/>
            <a:ext cx="76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 FORM DO YOU FILL OUT TO CHANGE YOUR WITHHOLDING AM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95440" y="762120"/>
            <a:ext cx="795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AIR FORCE'S SO-CALLED "STEALTH BOMB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000080" y="4876920"/>
            <a:ext cx="7143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–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79440" y="762120"/>
            <a:ext cx="838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DABLE EXPLOSIVE DESIGNED IN 1956 IS SLIGHTLY STRONGER THAN DYNAM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6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TEAK SAUCE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93720" y="762120"/>
            <a:ext cx="7755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NATIONS COMPRISING 58% OF THE NET WORTH OF THE WORLD MEETS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3840" y="762120"/>
            <a:ext cx="8356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HAS WON 22 GRAMMY AWARDS, MORE THAN ANY OTHER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004760" y="4876920"/>
            <a:ext cx="713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TER  FOLLOWED  BY  DI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9600" y="761760"/>
            <a:ext cx="852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LICE UNITS ARE OFTEN BROUGHT IN TO SEARCH FOR DRUGS, WEAPONS, OR MISSING PER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19280" y="762120"/>
            <a:ext cx="7705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VITAMIN NIACIN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81080" y="762120"/>
            <a:ext cx="8781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ORADE PRODUCT ADVERTISES "HALF THE SUGAR, ALL THE ELECTROLY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2640" y="762120"/>
            <a:ext cx="757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AX FORM DO YOU FILL OUT TO CHANGE YOUR WITHHOLDING AMO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7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FFICIAL NAME OF THE AIR FORCE'S SO-CALLED "STEALTH BOMB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LDABLE EXPLOSIVE DESIGNED IN 1956 IS SLIGHTLY STRONGER THAN DYNAM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OF NATIONS COMPRISING 58% OF THE NET WORTH OF THE WORLD MEETS EVERY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31T15:47:01Z</dcterms:modified>
  <cp:revision>431</cp:revision>
  <dc:subject/>
  <dc:title>Slide 1</dc:title>
</cp:coreProperties>
</file>