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A19A-86CA-45B9-9BF6-A45EB914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30DA-9B07-4B28-860C-AFBA7F61B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93B8-4801-485F-BC0B-B41137C5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80AE-0E6D-403F-B99D-B2438AEB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F30-5500-49B5-A304-0203C5AF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021-9C71-4B2B-8A60-33875CD1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86C9-9EC6-4EE6-B3AE-977DD829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FC7F-8633-4B83-9774-82683CD8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28AD-575C-454C-A7AE-CCC5D65F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FFDA-6C3F-4936-A115-5BA84C20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81CA-7286-4C59-896C-DA7E59FD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1C48-2A99-4021-8340-06EEE400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6CB1-5ACF-44CC-B394-97475613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4C5E-99A1-4DE4-BAE3-5CE4E4BD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84F1-A48A-4862-8837-0F096827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778-9CB7-49C6-8731-86341B2F2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B428-1140-42B9-9E4D-5848B39DF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2EE-6AAB-4D73-88E7-F62ED51B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09C4-593F-43CE-B637-C0B9EB4E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A0B-1012-4D4C-A169-5B2D4AEDA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FB6-033B-4BD5-A6E5-BEFC8FAF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9B34-8A9D-4554-A98B-82013EB7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8F27-FC2F-4006-B4A4-EAD2D5D6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HAS WON 22 GRAMMY AWARDS, MORE THAN ANY OTHER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2960" y="762120"/>
            <a:ext cx="7318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TEAK SAUCE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–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6840" y="762120"/>
            <a:ext cx="841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UNITS ARE OFTEN BROUGHT IN TO SEARCH FOR DRUGS, WEAPONS, OR MISSING PE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VITAMIN NIACIN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ORADE PRODUCT ADVERTISES "HALF THE SUGAR, ALL THE ELECTROLY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0320" y="762120"/>
            <a:ext cx="76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 FORM DO YOU FILL OUT TO CHANGE YOUR WITHHOLDING AMO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5440" y="762120"/>
            <a:ext cx="795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AIR FORCE'S SO-CALLED "STEALTH BO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DABLE EXPLOSIVE DESIGNED IN 1956 IS SLIGHTLY STRONGER THAN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6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TEAK SAUCE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93720" y="762120"/>
            <a:ext cx="7755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NATIONS COMPRISING 58% OF THE NET WORTH OF THE WORLD MEETS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3840" y="762120"/>
            <a:ext cx="835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HAS WON 22 GRAMMY AWARDS, MORE THAN ANY OTHER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04760" y="4876920"/>
            <a:ext cx="713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TER  FOLLOWED  BY  DI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UNITS ARE OFTEN BROUGHT IN TO SEARCH FOR DRUGS, WEAPONS, OR MISSING PER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19280" y="762120"/>
            <a:ext cx="770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VITAMIN NIACIN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81080" y="762120"/>
            <a:ext cx="8781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ORADE PRODUCT ADVERTISES "HALF THE SUGAR, ALL THE ELECTROLY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2640" y="762120"/>
            <a:ext cx="757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 FORM DO YOU FILL OUT TO CHANGE YOUR WITHHOLDING AMO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AIR FORCE'S SO-CALLED "STEALTH BO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DABLE EXPLOSIVE DESIGNED IN 1956 IS SLIGHTLY STRONGER THAN DYNAM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NATIONS COMPRISING 58% OF THE NET WORTH OF THE WORLD MEETS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5:47:01Z</dcterms:modified>
  <cp:revision>431</cp:revision>
  <dc:subject/>
  <dc:title>Slide 1</dc:title>
</cp:coreProperties>
</file>