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F658-BE4E-40DE-80BF-95A0A9AE3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6230-5268-4DAD-9A6D-052C84778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3C5B-B2CA-43C2-B314-E614FCD8F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8801-1820-4C14-B75F-53EAAD29A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8841-CA90-4D58-AA83-EF9B2821A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5CFD-1A3A-4877-B044-1EE9E20F7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FABD-AEC6-4A34-A62D-4EF5683AC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D101-8D45-4773-B7A2-9501B27B5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6EE2-64B9-4D63-9BBA-FE78C9091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D0BA-4C72-461A-B25A-28B1BB669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DB4A-DD44-4B49-B980-64A3798B8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E8CD-C4B2-45FF-A121-5CE1D19F2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4B8C-4F9A-47E2-B175-2A6C79AC7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4334-3F5F-495F-98A1-C47B54C6B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D8AD-B719-41A0-A5C7-7EFCF658E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064F-A517-43E4-A783-F9B1526FE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1E85-A2A5-4813-A584-F276BB3F8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F72E-B223-46D1-8785-42BFDEF50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A623-AF3A-4A2A-B549-4E8EDB589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17D9-1A19-4DE6-9F04-6694DEDCF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75E3-A579-4423-A3DC-F064F49FB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7E96-4088-4D4B-B107-E7E56B6AD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4A15-5870-4375-99F3-0C38DC8C6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82640" y="761760"/>
            <a:ext cx="757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ND-UP COMIC WAS FAMOUS FOR SMASHING WATERMEL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143000" y="7621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W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ING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O ALL THESE PEOPLE HAVE IN COMMON?         (1 POINT EACH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H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57120" y="762120"/>
            <a:ext cx="8427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KISS OF THE SPIDER WOMAN", "CHILDREN OF A LESSER GOD", AND "BROADCAST NEW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361800" y="4876920"/>
            <a:ext cx="8420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A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04840" y="762120"/>
            <a:ext cx="87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ONNY CORLEONE IN THE FIRST TWO "THE GODFATHER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HELLE  NICH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41240" y="762120"/>
            <a:ext cx="766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UHURA ON THE ORIGINAL "STAR TRE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RETTA  LY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47720" y="774720"/>
            <a:ext cx="764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OST AWARDED FEMALE COUNTRY RECORDING ARTIST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LEE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71560" y="762120"/>
            <a:ext cx="7400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OLE LOTTA SHAKING GOIN' ON" AND "GREAT BALLS OF F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RIN  H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49200" y="762120"/>
            <a:ext cx="844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 FROM UTAH WAS THE LONGEST-SERVING REPUBLICAN SENATOR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31880" y="762120"/>
            <a:ext cx="767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INDEPENDENT COUNSEL AND AUTHOR OF THE REPORT THAT ULTIMATELY LED TO BILL CLINTON'S IMPEACH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2200" y="762120"/>
            <a:ext cx="849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KISS OF THE SPIDER WOMAN", "CHILDREN OF A LESSER GOD", AND "BROADCAST NEW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998720" y="4876920"/>
            <a:ext cx="514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LBERT  GOTTFR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92120" y="762120"/>
            <a:ext cx="8156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ND-UP COMEDIAN WITH A SHRILL VOICE SERVED AS THE VOICE OF THE AFLAC DUCK UNTIL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LA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92000" y="762120"/>
            <a:ext cx="7560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ND-UP COMIC WAS FAMOUS FOR SMASHING WATERMEL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57280" y="4343400"/>
            <a:ext cx="802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A  DOUBLE  LETTER  IN  THEIR  NAME  &amp;  DIED  IN  2022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295280" y="762120"/>
            <a:ext cx="6553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W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ING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O ALL THESE PEOPLE HAVE IN COMMON?         (1 POINT EAC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99880" y="761760"/>
            <a:ext cx="8544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ONNY CORLEONE IN THE FIRST TWO "THE GODFATHER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31880" y="762120"/>
            <a:ext cx="768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UHURA ON THE ORIGINAL "STAR TRE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6320" y="762120"/>
            <a:ext cx="7189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OST AWARDED FEMALE COUNTRY RECORDING ARTIST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14320" y="762120"/>
            <a:ext cx="7515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OLE LOTTA SHAKING GOIN' ON" AND "GREAT BALLS OF F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64960" y="761760"/>
            <a:ext cx="8614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 FROM UTAH WAS THE LONGEST-SERVING REPUBLICAN SENATOR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2160" y="761760"/>
            <a:ext cx="7699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INDEPENDENT COUNSEL AND AUTHOR OF THE REPORT THAT ULTIMATELY LED TO BILL CLINTON'S IMPEACH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33440" y="762120"/>
            <a:ext cx="8275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ND-UP COMEDIAN WITH A SHRILL VOICE SERVED AS THE VOICE OF THE AFLAC DUCK UNTIL 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26T23:22:48Z</dcterms:modified>
  <cp:revision>528</cp:revision>
  <dc:subject/>
  <dc:title>Slide 1</dc:title>
</cp:coreProperties>
</file>