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040A-9355-4E8D-A17A-7C1B75C48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6DD4-99A8-41EC-BF4E-B9D87E47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F501-90B7-49EF-9113-846D2309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94D-BB7C-44A7-827B-9FDAB16B6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FC2-097D-4DAF-803E-90BE6E68D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8A1-7C34-4EB4-9CBC-1061CAF3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4F77-107B-40C9-BF2B-0EBF32FC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6171-54CB-44D8-9C46-0F7B3D347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2B7B-817F-4B77-B57F-110034EC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D755-9A2F-4A17-9C37-8363CFBB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38E1-8CA6-4215-8C85-1C19F35F3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3C9B-F698-494E-B9C6-5FAE4FB91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7EC8-62E5-4757-90DD-FC4D6FA4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E33E-87E8-4636-8CBF-E470681E4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7286-11AD-4708-B32F-1CBD6CE04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57CA-AF61-4FA5-8563-7B9CE982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AEA-8EF4-4950-AEC8-BA43C264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F357-7959-445E-B344-FB42D30A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7A38-5436-4201-A5C0-6405E824D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8E2A-FAEC-4142-9AC2-A6883AE3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4A4-B2F9-4308-B2F7-4564E1B4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6E8F-D536-456A-8994-32FDF3A5B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4D2-CA3A-44B9-8E3F-54301902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IC WAS FAMOUS FOR SMASHING WATERME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PEOPLE HAVE IN COMMON?         (1 POINT EACH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7120" y="762120"/>
            <a:ext cx="8427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KISS OF THE SPIDER WOMAN", "CHILDREN OF A LESSER GOD", AND "BROADCAST NE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4840" y="762120"/>
            <a:ext cx="87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ONNY CORLEONE IN THE FIRST TWO "THE GODFATH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ELLE  NICH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41240" y="762120"/>
            <a:ext cx="766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UHURA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ETTA  LY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7720" y="774720"/>
            <a:ext cx="764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AWARDED FEMALE COUNTRY RECORDING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1560" y="762120"/>
            <a:ext cx="7400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OLE LOTTA SHAKING GOIN' ON" AND "GREAT BALLS OF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RIN  H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UTAH WAS THE LONGEST-SERVING REPUBLICAN SENATO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1880" y="762120"/>
            <a:ext cx="767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INDEPENDENT COUNSEL AND AUTHOR OF THE REPORT THAT ULTIMATELY LED TO BILL CLINTON'S IMPEACH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2200" y="762120"/>
            <a:ext cx="849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KISS OF THE SPIDER WOMAN", "CHILDREN OF A LESSER GOD", AND "BROADCAST NE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BERT  GOTT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2120" y="762120"/>
            <a:ext cx="8156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EDIAN WITH A SHRILL VOICE SERVED AS THE VOICE OF THE AFLAC DUCK UNTIL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A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92000" y="762120"/>
            <a:ext cx="756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IC WAS FAMOUS FOR SMASHING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7280" y="4343400"/>
            <a:ext cx="802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A  DOUBLE  LETTER  IN  THEIR  NAME  &amp;  DIED  IN  2022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PEOPLE HAVE IN COMMON?         (1 POINT EA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ONNY CORLEONE IN THE FIRST TWO "THE GODFATH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UHURA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AWARDED FEMALE COUNTRY RECORDING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OLE LOTTA SHAKING GOIN' ON" AND "GREAT BALLS OF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ATOR FROM UTAH WAS THE LONGEST-SERVING REPUBLICAN SENATO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761760"/>
            <a:ext cx="769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INDEPENDENT COUNSEL AND AUTHOR OF THE REPORT THAT ULTIMATELY LED TO BILL CLINTON'S IMPEACH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5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-UP COMEDIAN WITH A SHRILL VOICE SERVED AS THE VOICE OF THE AFLAC DUCK UNTIL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26T23:22:48Z</dcterms:modified>
  <cp:revision>528</cp:revision>
  <dc:subject/>
  <dc:title>Slide 1</dc:title>
</cp:coreProperties>
</file>