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D6F4-4B80-4243-98F2-8C97B206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8A52-B751-4243-BA7C-F029FD503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3D6-A914-4A8F-B88A-5B0B9E00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184F-2E1F-4898-B850-56D11AA8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1B3-5608-4B2B-8650-B9762B3FB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22C9-6F4B-4131-AD1B-8E87FA19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2587-FFC4-449D-AA3C-9728019B5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481A-F20D-44B0-884D-3AF8D0293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0166-F421-4F4B-99D3-6A11E689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F2B-B83D-48F0-86E1-AC1F1E06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9EA-AFF6-41DC-9813-C94200000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842-551B-4CA6-B9F3-B17B1ACC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81ED-52FC-4CF4-B290-CAF03666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9695-AEF1-428E-BC71-1131D6D8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F42-B6D8-4CAD-AF54-AF08DD78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5148-0E1F-4933-9B2A-869BCB464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31E8-8F84-4C1E-A4E3-B9ECC0CA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1D32-A733-43C0-B320-B46BDDC7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64C5-6958-4357-959C-AD5EF7EA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61CA-742F-4CB9-B740-778286578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4E9-7E66-4C48-8238-CF053046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0655-8539-4CFC-8A18-4166BCD0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14C5-F851-4909-A677-1647C951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5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FIRST SECULAR NURSING SCHOOL IN THE WORLD, NOW PART OF KINGS COLLEGE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.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69840" y="762120"/>
            <a:ext cx="720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TY MCFLY IN THE "BACK TO THE FUTUR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ONLY PERSON TO BE NAMED NBA ROOKIE OF THE YEAR, LEAGUE MVP, FINALS MVP, ALL-STAR MVP, COACH OF THE YEAR, AND EXECUTIVE OF THE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  S.  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LITERATURE IN 1932 FOR "THE GOOD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OR AND EXECUTIVE PRODUCER OF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3120" y="762120"/>
            <a:ext cx="79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 SKATEBOARDER IN THE WORLD IN THE 1990'S, AND THE FIRST TO LAND A 2 ½ REVOLUTION AERIAL S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ANTHA  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RESPONDENT FOR "THE DAILY SHOW" LEFT IN 2015 TO BECOME THE HOST OF HER OWN SHOW, "FULL FRON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F IT MAKES YOU HAPPY", "SOAK UP THE SUN", AND "MY FAVORITE MIST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6160" y="762120"/>
            <a:ext cx="705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TY MCFLY IN THE "BACK TO THE FUTURE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09840" y="762120"/>
            <a:ext cx="612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FIRST SECULAR NURSING SCHOOL IN THE WORLD, NOW PART OF KINGS COLLEGE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28600" y="4876920"/>
            <a:ext cx="68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AR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ONLY PERSON TO BE NAMED NBA ROOKIE OF THE YEAR, LEAGUE MVP, FINALS MVP, ALL-STAR MVP, COACH OF THE YEAR, AND EXECUTIVE OF THE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2800" y="762120"/>
            <a:ext cx="825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LITERATURE IN 1932 FOR "THE GOOD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OR AND EXECUTIVE PRODUCER OF THE "LAW &amp; ORDER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 SKATEBOARDER IN THE WORLD IN THE 1990'S, AND THE FIRST TO LAND A 2 ½ REVOLUTION AERIAL S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RRESPONDENT FOR "THE DAILY SHOW" LEFT IN 2015 TO BECOME THE HOST OF HER OWN SHOW, "FULL FRON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82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F IT MAKES YOU HAPPY", "SOAK UP THE SUN", AND "MY FAVORITE MIST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67000" y="762120"/>
            <a:ext cx="6210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HOGAN'S HER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51:14Z</dcterms:modified>
  <cp:revision>441</cp:revision>
  <dc:subject/>
  <dc:title>Slide 1</dc:title>
</cp:coreProperties>
</file>