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53F-F9BB-4C1C-97BA-AC3F8CEF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057-7E78-4C41-B9FA-224013FF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83E-4A59-4295-A741-17CDB7B2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A22C-0983-4C1B-9E67-3D6028A1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3A71-BCB8-485D-8C2F-91C54FE8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EDC5-A374-418E-B580-8A60274E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422-C16A-4EC1-8684-2F35C33A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B6D-A2D3-4707-A352-A6B18944B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D917-1AED-4258-AB5C-FA2E79ED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0B7B-D535-4427-89B2-64C4AC8B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EBF-1A88-4E4A-8A9C-820C023A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46E0-C530-41FD-A592-0A8AE028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4E4-03E0-4BD9-8954-416A5BB2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C9E-C6F8-473A-8BAB-E95B3CAE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3D1-3A79-431E-8040-15992DFD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C261-F563-4B76-AE09-283E8E03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573C-E85D-4B0C-BAC4-A2248824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08E-F55F-4B2D-B68F-0B152333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FA1-BFE4-4663-9757-13995719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817D-F50D-4F70-B1EF-9089ECC5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DB8-592A-4A97-8A17-F17D6C8E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C0B-8B96-47B1-AE36-87B212F2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6027-D37C-481C-B951-79991D02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FIRST SECULAR NURSING SCHOOL IN THE WORLD, NOW PART OF KINGS COLLEGE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.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69840" y="762120"/>
            <a:ext cx="720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TY MCFLY IN THE "BACK TO THE FUTUR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ONLY PERSON TO BE NAMED NBA ROOKIE OF THE YEAR, LEAGUE MVP, FINALS MVP, ALL-STAR MVP, COACH OF THE YEAR, AND EXECUTIVE OF THE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  S.  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LITERATURE IN 1932 FOR "THE GOOD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OR AND EXECUTIVE PRODUCER OF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3120" y="762120"/>
            <a:ext cx="79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 SKATEBOARDER IN THE WORLD IN THE 1990'S, AND THE FIRST TO LAND A 2 ½ REVOLUTION AERIAL S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ANTHA  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RESPONDENT FOR "THE DAILY SHOW" LEFT IN 2015 TO BECOME THE HOST OF HER OWN SHOW, "FULL FRON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F IT MAKES YOU HAPPY", "SOAK UP THE SUN", AND "MY FAVORITE MIST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6160" y="762120"/>
            <a:ext cx="705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TY MCFLY IN THE "BACK TO THE FUTURE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09840" y="762120"/>
            <a:ext cx="612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FIRST SECULAR NURSING SCHOOL IN THE WORLD, NOW PART OF KINGS COLLEGE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28600" y="4876920"/>
            <a:ext cx="68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AR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ONLY PERSON TO BE NAMED NBA ROOKIE OF THE YEAR, LEAGUE MVP, FINALS MVP, ALL-STAR MVP, COACH OF THE YEAR, AND EXECUTIVE OF THE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2800" y="762120"/>
            <a:ext cx="825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LITERATURE IN 1932 FOR "THE GOOD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OR AND EXECUTIVE PRODUCER OF THE "LAW &amp; ORDER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 SKATEBOARDER IN THE WORLD IN THE 1990'S, AND THE FIRST TO LAND A 2 ½ REVOLUTION AERIAL S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RESPONDENT FOR "THE DAILY SHOW" LEFT IN 2015 TO BECOME THE HOST OF HER OWN SHOW, "FULL FRON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82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F IT MAKES YOU HAPPY", "SOAK UP THE SUN", AND "MY FAVORITE MIST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7000" y="762120"/>
            <a:ext cx="6210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HOGAN'S HER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51:14Z</dcterms:modified>
  <cp:revision>441</cp:revision>
  <dc:subject/>
  <dc:title>Slide 1</dc:title>
</cp:coreProperties>
</file>