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DCB2-01D3-4048-87E7-A1D386094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F82D-6224-44F6-962E-892712387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3E19-81AA-4C01-A91F-2C4F7FBDA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94D8-879C-4FC5-9C9F-E04EA85F1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DDF9-8200-4385-9030-36A02B8EC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EEEC-13C2-47BD-8375-2ACE5221A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EFB6-3EB1-4E34-848D-DAB8555BD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40D9-50AA-4613-A340-82B4FC531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1ADA-1D15-40E2-A9B4-4E667EEEF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5AF9-F595-4D01-ABCB-2255CC6A7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D9F1-A75E-44B1-9F90-F9DF1DE9C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8506-14BC-4059-A316-EAC5FB6F2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0A56-E887-490A-8FA9-BEDADFCDF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4964-8258-4C7E-BD0A-EF0E298B5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FB5B-F236-405C-90D5-6C07EE827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3A60-C8D6-4712-A385-0746DF6C7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1960-B38B-420D-A27A-25D94BC95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7FC9-8B6D-414F-A604-E2D97B239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F7AE-6E60-4549-89B7-55488B145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342E-14A6-4966-9E88-09405E0E6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B012-D6FE-439F-9C2F-968AF560A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570A-8698-4BF1-B4AA-50E838D07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A95A-8830-4BFC-90B8-A5F23CB2A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04640" y="761760"/>
            <a:ext cx="833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S ARE IN THE NAME OF EVERY CALCULATOR MADE BY THE COMPANY THAT INVENTED THE HAND-HELD CALCULATOR IN 196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74800" y="762120"/>
            <a:ext cx="739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BIBLE, WHO WAS NOAH'S GREAT-GREAT-GREAT-GREAT-GREAT-GREAT-GREAT-GRANDM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  C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92200" y="762120"/>
            <a:ext cx="795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MONEY IS 4 BI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2574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CITY PARK IN THE U.S. IS CALLED THE "BOSTO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9240" y="771480"/>
            <a:ext cx="87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7 ORIGINAL LIBERAL ARTS WERE ASTRONOMY, MUSIC, MATH, GEOMETRY, RHETORIC, GRAMMA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8200" y="762120"/>
            <a:ext cx="806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RT OF FINANCIAL CONTRACT IS A GOOD SOLD NOW BUT TO BE DELIVERED AT SOME LATER 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–T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1360" y="762120"/>
            <a:ext cx="880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COTTON SWA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2680" y="762120"/>
            <a:ext cx="891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EMALE DUCK IS CALLED A HEN.  WHAT IS A MALE DUCK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4800" y="762120"/>
            <a:ext cx="7392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BIBLE, WHO WAS NOAH'S GREAT-GREAT-GREAT-GREAT-GREAT-GREAT-GREAT-GRANDM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  C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31880" y="762120"/>
            <a:ext cx="767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TRAYS WERE INVENTED BY PHYSICIAN JOHN GORRIE IN 1844 TO TRY TO KEEP HIS YELLOW FEVER PATIENTS C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25520" y="762120"/>
            <a:ext cx="8292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S ARE IN THE NAME OF EVERY CALCULATOR MADE BY THE COMPANY THAT INVENTED THE HAND-HELD CALCULATOR IN 19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417680" y="4800600"/>
            <a:ext cx="630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RA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MONEY IS 4 BI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65400" y="762120"/>
            <a:ext cx="6611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CITY PARK IN THE U.S. IS CALLED THE "BOSTO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19240" y="762120"/>
            <a:ext cx="870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7 ORIGINAL LIBERAL ARTS WERE ASTRONOMY, MUSIC, MATH, GEOMETRY, RHETORIC, GRAMMAR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4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RT OF FINANCIAL CONTRACT IS A GOOD SOLD NOW BUT TO BE DELIVERED AT SOME LATER D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2160" y="761760"/>
            <a:ext cx="897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COTTON SWA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520" y="761760"/>
            <a:ext cx="9048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EMALE DUCK IS CALLED A HEN.  WHAT IS A MALE DUCK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TRAYS WERE INVENTED BY PHYSICIAN JOHN GORRIE IN 1844 TO TRY TO KEEP HIS YELLOW FEVER PATIENTS C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31T15:53:26Z</dcterms:modified>
  <cp:revision>438</cp:revision>
  <dc:subject/>
  <dc:title>Slide 1</dc:title>
</cp:coreProperties>
</file>