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8068-C1DB-40A1-8EC1-252BF3132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2409-0906-4292-AF99-FDB73332D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D43F-1CFE-4FCF-8726-1285605C2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5F59-96DC-451D-BA5B-AE2D3FD02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EB0B-13B2-4F42-B0CE-BB905D646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F425-724A-4287-8206-0FDE10FC1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6C59-3D20-44A8-B753-8C8343742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01B9-1A2F-4AA7-9D09-53A279D14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F1FD-76D5-42F4-AA9F-2A96B4C0E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05BB-4530-438B-A73E-C0D14749B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9097-5D7B-491F-9E90-B989B2DB9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0BD1-67C2-43E2-868E-7E68C1513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A8CC-46E5-4162-B565-10D60BCCC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6B82-C373-4921-99E9-7B759852C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48E1-6825-4CF5-BA05-0729DD6A0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3219-7120-4F22-8149-87C60340E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C6A5-BDFE-41E8-8A36-14082EBB6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3CCA-E5F4-4C8B-985F-8B3C1455D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46D3-9107-4510-A3AA-7DF83CA8D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BB2A-E521-46FD-B6F6-5E721CCE6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FA60-251C-46B6-BF76-E4CC398C2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71F4-810A-4DED-A727-1A4E2F54A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DE0B-14F7-455E-B186-36426B09E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04640" y="761760"/>
            <a:ext cx="833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S ARE IN THE NAME OF EVERY CALCULATOR MADE BY THE COMPANY THAT INVENTED THE HAND-HELD CALCULATOR IN 196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74800" y="762120"/>
            <a:ext cx="7394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BIBLE, WHO WAS NOAH'S GREAT-GREAT-GREAT-GREAT-GREAT-GREAT-GREAT-GRANDM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0  C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92200" y="762120"/>
            <a:ext cx="795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MONEY IS 4 BI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2574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CITY PARK IN THE U.S. IS CALLED THE "BOSTON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9240" y="771480"/>
            <a:ext cx="870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7 ORIGINAL LIBERAL ARTS WERE ASTRONOMY, MUSIC, MATH, GEOMETRY, RHETORIC, GRAMMAR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8200" y="762120"/>
            <a:ext cx="806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ORT OF FINANCIAL CONTRACT IS A GOOD SOLD NOW BUT TO BE DELIVERED AT SOME LATER 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–T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71360" y="762120"/>
            <a:ext cx="880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COTTON SWA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2680" y="762120"/>
            <a:ext cx="891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EMALE DUCK IS CALLED A HEN.  WHAT IS A MALE DUCK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4800" y="762120"/>
            <a:ext cx="7392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BIBLE, WHO WAS NOAH'S GREAT-GREAT-GREAT-GREAT-GREAT-GREAT-GREAT-GRANDM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  C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31880" y="762120"/>
            <a:ext cx="767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TRAYS WERE INVENTED BY PHYSICIAN JOHN GORRIE IN 1844 TO TRY TO KEEP HIS YELLOW FEVER PATIENTS C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25520" y="762120"/>
            <a:ext cx="8292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S ARE IN THE NAME OF EVERY CALCULATOR MADE BY THE COMPANY THAT INVENTED THE HAND-HELD CALCULATOR IN 196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417680" y="4800600"/>
            <a:ext cx="630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RAP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MONEY IS 4 BI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65400" y="762120"/>
            <a:ext cx="6611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CITY PARK IN THE U.S. IS CALLED THE "BOSTON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19240" y="762120"/>
            <a:ext cx="8705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7 ORIGINAL LIBERAL ARTS WERE ASTRONOMY, MUSIC, MATH, GEOMETRY, RHETORIC, GRAMMAR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4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ORT OF FINANCIAL CONTRACT IS A GOOD SOLD NOW BUT TO BE DELIVERED AT SOME LATER D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2160" y="761760"/>
            <a:ext cx="897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COTTON SWA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520" y="761760"/>
            <a:ext cx="9048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EMALE DUCK IS CALLED A HEN.  WHAT IS A MALE DUCK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TRAYS WERE INVENTED BY PHYSICIAN JOHN GORRIE IN 1844 TO TRY TO KEEP HIS YELLOW FEVER PATIENTS C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31T15:53:26Z</dcterms:modified>
  <cp:revision>438</cp:revision>
  <dc:subject/>
  <dc:title>Slide 1</dc:title>
</cp:coreProperties>
</file>