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A85F-B822-4CF2-8C11-AD4A32DDF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4BA4-6AB8-4049-A05F-F22D9B0AC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0CDE-25FC-4CDC-82D9-79CAE036A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CDD1-A671-4724-BE1E-B58C01B3F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68C5-9C85-45AB-AF10-5BC13DCEB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594D-CDA5-4E19-AF8F-E3A2F1716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8294-51F2-492A-91F1-7B6433059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FDF5-768D-407E-BA18-C33DB969F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AC7E-E10C-4ED5-905D-D9E693D42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EE7D-846C-488C-B3A4-296D57776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009E-7ED5-4A3C-A626-0361E0A12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22AB-13C8-496E-BE3F-2658A59C7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2B28-C062-452F-AD1A-FAF13DC93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309EB-5007-478E-966E-270439232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EB85-4F16-4191-9159-EAE3D5CA9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7B5A-2943-44EF-B33F-649AD92DF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91C5-8A73-4028-9242-B62C641DE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4F9E-FA02-45CA-BB28-9B439B60F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EA5E-B8CC-428B-B6CC-76084489D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D645-E502-4BB9-A1A5-F90FA0C23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1E78-DDBE-4388-A307-78EF0E3F4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9012-DC32-4C72-9A16-4EEB1EF33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6A39-9723-454B-95A2-D49690711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99800" y="761760"/>
            <a:ext cx="8715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BAMA SONG'S LYRICS SAY "A SOUTHERN MAN DON'T NEED HIM AROUND ANYHOW", SPEAKING ABOUT NEIL YOU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SAW  HER  STANDING  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41280" y="762120"/>
            <a:ext cx="8461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           WAS ORIGINALLY TITLED "SEVENTEEN" BECAUSE OF THE FIRST LINE OF TH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62080" y="4876920"/>
            <a:ext cx="6819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ÉJÀ  V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85920" y="762120"/>
            <a:ext cx="8372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SONG FROM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MOST SUCCESSFUL ALBUM OF CROSBY, STILL, NASH &amp; YOUNG IS FRENCH FOR "ALREADY S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LOVIN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HIT SONG BY THE RASCALS, WHICH INCLUDES THE LYRIC "I ASKED MY FAMILY DOCTOR JUST WHAT I H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300560"/>
            <a:ext cx="60962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ITING  ON  THE  WORLD  TO 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09640" y="762120"/>
            <a:ext cx="75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MAYER #1  SONG WON A GRAMMY FOR BEST MALE POP VOCAL PERFORMANCE IN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GATTA  DE  BLAN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81120" y="762120"/>
            <a:ext cx="778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AL TITLE TRACK OFF THE POLICE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IS FRENCH FOR "WHITE PEOPLE REGGA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  IT  ON 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SIS SONG ABOUT WATCHING TV WAS ACTUALLY USED AS THE TITLE FOR 2 OF THEIR GREATEST HITS ALBU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VE  PEACE  A  CH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74840" y="762120"/>
            <a:ext cx="819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TI-WAR SONG WAS THE FIRST SOLO SONG RELEASED BY JOHN LENNON, WHEN HE WAS STILL A MEMBER OF THE BEA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79440" y="762120"/>
            <a:ext cx="8383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          WAS ORIGINALLY TITLED "SEVENTEEN" BECAUSE OF THE FIRST LINE OF TH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LY  BU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89120" y="762120"/>
            <a:ext cx="756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SAM AND THE PHARAOHS WITH A RHYMING TITLE WAS THEIR FIRST AND BIGGEST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T  HOME  ALA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66760" y="762120"/>
            <a:ext cx="8610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BAMA SONG'S LYRICS SAY "A SOUTHERN MAN DON'T NEED HIM AROUND ANYHOW", SPEAKING ABOUT NEIL YO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51040" y="4343400"/>
            <a:ext cx="7441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BEGIN  WITH  A  RHYTHM  COUNT  (1, 2, 3, 4, ..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SONG FROM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MOST SUCCESSFUL ALBUM OF CROSBY, STILL, NASH &amp; YOUNG IS FRENCH FOR "ALREADY SE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22160" y="762120"/>
            <a:ext cx="769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HIT SONG BY THE RASCALS, WHICH INCLUDES THE LYRIC "I ASKED MY FAMILY DOCTOR JUST WHAT I H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MAYER #1  SONG WON A GRAMMY FOR BEST MALE POP VOCAL PERFORMANCE IN 200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68160" y="762120"/>
            <a:ext cx="7807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AL TITLE TRACK OFF THE POLICE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IS FRENCH FOR "WHITE PEOPLE REGGA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40760" y="761760"/>
            <a:ext cx="8859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SIS SONG ABOUT WATCHING TV WAS ACTUALLY USED AS THE TITLE FOR 2 OF THEIR GREATEST HITS ALBU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TI-WAR SONG WAS THE FIRST SOLO SONG RELEASED BY JOHN LENNON, WHEN HE WAS STILL A MEMBER OF THE BEA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85880" y="762120"/>
            <a:ext cx="757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SAM AND THE PHARAOHS WITH A RHYMING TITLE WAS THEIR FIRST AND BIGGEST H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31T16:36:28Z</dcterms:modified>
  <cp:revision>440</cp:revision>
  <dc:subject/>
  <dc:title>Slide 1</dc:title>
</cp:coreProperties>
</file>