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56FE-2762-41B2-80D8-E9FD29857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FEEA-543D-4049-BCF2-6FFD6BEAE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5DF1-9A8E-48E8-ADEC-50496C42F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EF5A-3C44-49F6-8E1E-FDF4B7A07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3216-8B5E-43D9-8DAB-7AF71FE58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63B0-B03E-4996-A341-A5EC6759C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F130-EE80-4919-AF20-E0FB1B005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3A9D-2331-4F2E-9DD7-EC87934A7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7338-06B4-4388-95B1-C080EFC76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117D-D23E-4FD9-91D5-4E55C9C48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7AC6-0086-46E4-9335-D1FD8D668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8699-15B9-41A8-AA02-F3BB20F66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97BA-20BB-427E-AF4D-747810526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9E50-3BF4-4750-A4BF-DCC7123A8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AD4F-ED3B-474D-87DD-AB37ED048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B7FE-9765-49D1-9201-DF888EF91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852B-C0B3-498A-854C-9384785AA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67D7-81CF-402A-879B-2BDF8BC5E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78C2-2173-4E6D-B89F-41C14B81B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8028-300B-4957-86D0-EDF8631A4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524B-68ED-429B-B81D-509869EFA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87A9-F1CD-49BE-9E7D-F52965084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CC41-B361-4DB0-A211-D392627CF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38080" y="1523880"/>
            <a:ext cx="7467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99800" y="761760"/>
            <a:ext cx="8715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ABAMA SONG'S LYRICS SAY "A SOUTHERN MAN DON'T NEED HIM AROUND ANYHOW", SPEAKING ABOUT NEIL YOU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SAW  HER  STANDING  T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41280" y="762120"/>
            <a:ext cx="8461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           WAS ORIGINALLY TITLED "SEVENTEEN" BECAUSE OF THE FIRST LINE OF THE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162080" y="4876920"/>
            <a:ext cx="6819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ÉJÀ  V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85920" y="762120"/>
            <a:ext cx="8372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TLE SONG FROM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MOST SUCCESSFUL ALBUM OF CROSBY, STILL, NASH &amp; YOUNG IS FRENCH FOR "ALREADY SE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D  LOVIN'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HIT SONG BY THE RASCALS, WHICH INCLUDES THE LYRIC "I ASKED MY FAMILY DOCTOR JUST WHAT I H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300560"/>
            <a:ext cx="60962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ITING  ON  THE  WORLD  TO 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09640" y="762120"/>
            <a:ext cx="7524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 MAYER #1  SONG WON A GRAMMY FOR BEST MALE POP VOCAL PERFORMANCE IN 200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GATTA  DE  BLAN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81120" y="762120"/>
            <a:ext cx="7781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TRUMENTAL TITLE TRACK OFF THE POLICE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 IS FRENCH FOR "WHITE PEOPLE REGGA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N  IT  ON  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28600" y="762120"/>
            <a:ext cx="8686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NESIS SONG ABOUT WATCHING TV WAS ACTUALLY USED AS THE TITLE FOR 2 OF THEIR GREATEST HITS ALBU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VE  PEACE  A  CH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74840" y="762120"/>
            <a:ext cx="819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TI-WAR SONG WAS THE FIRST SOLO SONG RELEASED BY JOHN LENNON, WHEN HE WAS STILL A MEMBER OF THE BEAT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79440" y="762120"/>
            <a:ext cx="8383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          WAS ORIGINALLY TITLED "SEVENTEEN" BECAUSE OF THE FIRST LINE OF THE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LY  BU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89120" y="762120"/>
            <a:ext cx="756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SAM AND THE PHARAOHS WITH A RHYMING TITLE WAS THEIR FIRST AND BIGGEST H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EET  HOME  ALAB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66760" y="762120"/>
            <a:ext cx="8610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ABAMA SONG'S LYRICS SAY "A SOUTHERN MAN DON'T NEED HIM AROUND ANYHOW", SPEAKING ABOUT NEIL YOU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51040" y="4343400"/>
            <a:ext cx="7441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LL  BEGIN  WITH  A  RHYTHM  COUNT  (1, 2, 3, 4, ..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54040" y="761760"/>
            <a:ext cx="803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TLE SONG FROM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MOST SUCCESSFUL ALBUM OF CROSBY, STILL, NASH &amp; YOUNG IS FRENCH FOR "ALREADY SE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22160" y="762120"/>
            <a:ext cx="769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HIT SONG BY THE RASCALS, WHICH INCLUDES THE LYRIC "I ASKED MY FAMILY DOCTOR JUST WHAT I H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 MAYER #1  SONG WON A GRAMMY FOR BEST MALE POP VOCAL PERFORMANCE IN 200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68160" y="762120"/>
            <a:ext cx="7807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TRUMENTAL TITLE TRACK OFF THE POLICE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 IS FRENCH FOR "WHITE PEOPLE REGGA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40760" y="761760"/>
            <a:ext cx="8859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NESIS SONG ABOUT WATCHING TV WAS ACTUALLY USED AS THE TITLE FOR 2 OF THEIR GREATEST HITS ALBU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TI-WAR SONG WAS THE FIRST SOLO SONG RELEASED BY JOHN LENNON, WHEN HE WAS STILL A MEMBER OF THE BEAT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85880" y="762120"/>
            <a:ext cx="7570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SAM AND THE PHARAOHS WITH A RHYMING TITLE WAS THEIR FIRST AND BIGGEST H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0-31T16:36:28Z</dcterms:modified>
  <cp:revision>440</cp:revision>
  <dc:subject/>
  <dc:title>Slide 1</dc:title>
</cp:coreProperties>
</file>