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2805-0451-472E-ACA2-0A0F3EE5C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0BD7-76A9-46BC-8613-3CF5F6B42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6B9A-9390-4D26-8615-F62E67950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E811-FE50-4FE1-83FB-3D004ED98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5018-DBBD-4CBD-94D2-623D2998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F540-BFF9-44FB-856B-DCF869A44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805B-D5AE-4846-87C0-F72E19183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E71A-B526-4815-96FD-BA7A995F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2551-DEB7-4CB8-A3C3-2939A3B72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8B34-B842-43C4-88B9-E8B78C6CF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6F03-D676-4BCC-84B3-B113A99B7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BCF8-AAEA-4078-9C59-8B93A2DF6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AFBA-F320-4D5D-B0A2-A77FD93F9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78DD-760E-4406-B5B8-560E5C1A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D9EF-AD93-4B9A-8BB6-17E64B636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DB15-DC54-4C72-82AE-88D9782A5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B750-9627-49D5-B51E-7FB739872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B7D0-1402-4B5C-9A01-7C840B9F4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BE42-2FBA-4FD8-8C19-05B5C178C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2CC7-6D87-4B3C-A542-98B1803F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C360-8212-474E-8C2B-025F087CC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242F-FB25-4189-853F-884DD2B53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147E-6E26-4BBE-85CC-B51E71297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ROCK STAR WHO SANG "WHITE WEDDING" AND "DANCING WITH MYSEL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0 FILM CONTAINS THE MOST FAMOUS MOVIE SHOWER SCE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6000"/>
            <a:ext cx="82296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I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WHAT WAS THE TECHNICAL TERM FOR SOMEONE WITH AN IQ OF BELOW 2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SCARPONE, KASSERI, AND COTIJA ARE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DISTANCE, USED TO STAND FOR THE DISTANCE ONE COULD WALK IN AN H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12680" y="762120"/>
            <a:ext cx="7118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RE 1 OF ON THE FLAG OF ICELAND AND TONGA, AND 5 OF ON THE FLAG OF GEORG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09760" y="762120"/>
            <a:ext cx="6324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TWO UNDER PAR FOR A HOLE IN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5236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VISION OF THE ROMAN EMPIRE ARMY CONTAINED BETWEEN 1000 AND 5000 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0 FILM CONTAINS THE MOST FAMOUS MOVIE SHOWER SCE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USINESSES ARE QANTAS, GOL, AND KL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Y)  ID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ROCK STAR WHO SANG "WHITE WEDDING" AND "DANCING WITH MYSEL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57480" y="487692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AMERICAN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WHAT WAS THE TECHNICAL TERM FOR SOMEONE WITH AN IQ OF BELOW 2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SCARPONE, KASSERI, AND COTIJA ARE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DISTANCE, USED TO STAND FOR THE DISTANCE ONE COULD WALK IN AN HO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RE 1 OF ON THE FLAG OF ICELAND AND TONGA, AND 5 OF ON THE FLAG OF GEORG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TWO UNDER PAR FOR A HOLE IN GO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VISION OF THE ROMAN EMPIRE ARMY CONTAINED BETWEEN 1000 AND 5000 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USINESSES ARE QANTAS, GOL, AND KL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9:37:49Z</dcterms:created>
  <dc:creator>Jennifer Budzinski</dc:creator>
  <dc:description/>
  <dc:language>en-US</dc:language>
  <cp:lastModifiedBy>Erich Friedman</cp:lastModifiedBy>
  <dcterms:modified xsi:type="dcterms:W3CDTF">2020-08-25T14:31:00Z</dcterms:modified>
  <cp:revision>382</cp:revision>
  <dc:subject/>
  <dc:title>Slide 1</dc:title>
</cp:coreProperties>
</file>