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9D82-7B20-43F9-802B-2FE15857E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1D5B-DF7E-435F-A75F-1CCFEFDCB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5127-49C3-43AA-84E7-208D2DABD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B4F-3CED-481A-B93C-BB2AC3E1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9206-F885-4DBF-AB53-008C8CAE7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1888-63A7-45CA-8A9F-A067D216A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407-071B-4D6C-A1AC-D76BAE384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268E-E727-4C91-9CB8-4E9362AB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CA56-5E67-45DF-B556-4EEB80490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BF6-E210-4AD7-A142-4168209B4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AE3B-1CF7-48B0-B8DE-B155B915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A945-16AB-46B0-AEFD-F614055A0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9762-F7D4-49B6-89B2-93B6237E5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21D-B958-4DF4-A258-8ECEBDB8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7CA-0A47-4759-B9A8-EB02BF909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2D9F-84A4-4211-923D-330FEF4D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D38C-2F2F-43F4-9403-958684106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3A3-7DE2-49A7-8E8E-3D2DE137C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D00-FDD3-4B6B-B464-305D0B8E1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9E18-CAC0-4E19-973B-0A194B63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3A51-3C82-4101-89BD-E5F4D459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AF45-06F1-4771-81A6-716369DD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C22B-D865-4018-9D66-FDA0DEC85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6000"/>
            <a:ext cx="8229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12680" y="762120"/>
            <a:ext cx="711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62120"/>
            <a:ext cx="632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236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FILM CONTAINS THE MOST FAMOUS MOVIE SHOWER SCE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ROCK STAR WHO SANG "WHITE WEDDING" AND "DANCING WITH MY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AMERICAN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THE TECHNICAL TERM FOR SOMEONE WITH AN IQ OF BELOW 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SCARPONE, KASSERI, AND COTIJA ARE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DISTANCE, USED TO STAND FOR THE DISTANCE ONE COULD WALK IN AN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RE 1 OF ON THE FLAG OF ICELAND AND TONGA, AND 5 OF ON THE FLAG OF GEORG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WO UNDER PAR FOR A HOLE IN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THE ROMAN EMPIRE ARMY CONTAINED BETWEEN 1000 AND 5000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USINESSES ARE QANTAS, GOL, AND K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9:37:49Z</dcterms:created>
  <dc:creator>Jennifer Budzinski</dc:creator>
  <dc:description/>
  <dc:language>en-US</dc:language>
  <cp:lastModifiedBy>Erich Friedman</cp:lastModifiedBy>
  <dcterms:modified xsi:type="dcterms:W3CDTF">2020-08-25T14:31:00Z</dcterms:modified>
  <cp:revision>382</cp:revision>
  <dc:subject/>
  <dc:title>Slide 1</dc:title>
</cp:coreProperties>
</file>