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573E-0D9E-44CB-98CB-E150FFF93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61EB-3AFA-4AE3-ABCB-B503407CB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9C09-D49F-4C37-A668-509F3EF09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DABD-C7C1-4616-AEAD-E15AD5F46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D080-C54B-44FA-9374-6355E4588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1015-FA6A-4F5A-858E-93F4976FD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DA1B-929C-4CAF-9DA6-282343CD4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DDFC-0A47-481D-BFB2-DCB575163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520F-3AE3-471E-ADCD-7EEB5BA2C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8EC0-DFDC-4F86-8E28-7D3761120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C17B-5B8C-4AC6-87AA-083561497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1433-D9E7-4CDD-AE3E-879DB7568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0C5D-9D0E-4F20-A246-42917F503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A2CD-D26D-4ED4-8B7B-2A95B2D6B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9D23-8C72-4812-BD56-8026EB45B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1260-7DDD-4DCB-91AD-90E60313E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C91A-23D5-4F5B-841F-6978FF236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4C81-D1A2-44E4-8965-985208753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E80E-DE27-49A2-A923-E1D31F21E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1941-4C22-4D7F-9F58-90D36EF1E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4BF6-AB0F-475E-9912-228DA0146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4292-33BA-4A61-83F5-7E776FF11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A0DA-ED42-4F80-A698-0EB61419A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ROCK STAR WHO SANG "WHITE WEDDING" AND "DANCING WITH MYSEL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SY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0 FILM CONTAINS THE MOST FAMOUS MOVIE SHOWER SCE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96000"/>
            <a:ext cx="82296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DI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, WHAT WAS THE TECHNICAL TERM FOR SOMEONE WITH AN IQ OF BELOW 2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SCARPONE, KASSERI, AND COTIJA ARE TYPE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30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G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DISTANCE, USED TO STAND FOR THE DISTANCE ONE COULD WALK IN AN HO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 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12680" y="762120"/>
            <a:ext cx="7118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RE 1 OF ON THE FLAG OF ICELAND AND TONGA, AND 5 OF ON THE FLAG OF GEORG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409760" y="762120"/>
            <a:ext cx="6324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TWO UNDER PAR FOR A HOLE IN GOL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5236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G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VISION OF THE ROMAN EMPIRE ARMY CONTAINED BETWEEN 1000 AND 5000 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0 FILM CONTAINS THE MOST FAMOUS MOVIE SHOWER SCE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BUSINESSES ARE QANTAS, GOL, AND KL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BILLY)  ID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ROCK STAR WHO SANG "WHITE WEDDING" AND "DANCING WITH MYSEL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57480" y="487692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AMERICAN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, WHAT WAS THE TECHNICAL TERM FOR SOMEONE WITH AN IQ OF BELOW 2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SCARPONE, KASSERI, AND COTIJA ARE TYPE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DISTANCE, USED TO STAND FOR THE DISTANCE ONE COULD WALK IN AN HOU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RE 1 OF ON THE FLAG OF ICELAND AND TONGA, AND 5 OF ON THE FLAG OF GEORG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TWO UNDER PAR FOR A HOLE IN GOL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VISION OF THE ROMAN EMPIRE ARMY CONTAINED BETWEEN 1000 AND 5000 M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BUSINESSES ARE QANTAS, GOL, AND KL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19:37:49Z</dcterms:created>
  <dc:creator>Jennifer Budzinski</dc:creator>
  <dc:description/>
  <dc:language>en-US</dc:language>
  <cp:lastModifiedBy>Erich Friedman</cp:lastModifiedBy>
  <dcterms:modified xsi:type="dcterms:W3CDTF">2020-08-25T14:31:00Z</dcterms:modified>
  <cp:revision>382</cp:revision>
  <dc:subject/>
  <dc:title>Slide 1</dc:title>
</cp:coreProperties>
</file>