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9F70-F412-43F2-B78F-54E13B545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823B-03CE-45C2-9A6A-721C66CF1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C2C4-AC26-4CC7-855B-7F42A3565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4083-17AB-4586-9A60-2C7602408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45ED-13C7-44E4-A748-B90345B16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AB49-18C3-4C40-9A8F-4E0052A55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96B5-8B3E-4AEB-993E-F207A6C74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5008-4CE2-44C8-9105-138E23BBB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8172-71A3-4BB2-A9AE-678E710FC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C20A-C4E7-4F8F-960D-AC21866D1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8057-6323-4141-86A5-4F7FECC8E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67F1-C572-4DB2-A4BA-6799CB872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2C9D-1ABF-436D-BE66-0CF1199AC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A4B8-3496-492D-AAB9-868B06E28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9E30-3F7D-4BB5-896A-B42C7BBF5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78D8-C0F0-475E-A2AA-3FF99B572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BE5A-59C8-48C0-8D62-F299F4F79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07FD-871C-42D7-8F7B-0295427C3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D7BA-6B2E-469E-B36F-2A91E499B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F110-6207-40C2-B18C-62494D677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3588-8B7D-4A22-863A-7EED4EE82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6D07-60E6-4D57-83BB-71B8015A9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C264-CBE8-4274-BF45-7A0C8178E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5760" y="1523880"/>
            <a:ext cx="6972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90080" y="761760"/>
            <a:ext cx="6961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MORK &amp; MINDY", WHAT WAS THE SHAPE OF MORK'S SPACESH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THI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90680" y="762120"/>
            <a:ext cx="8162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A PRESSURE OF 0.5% OF   AN ATMOSPHERE, WHEN ICE MELTS, IT TURNS INTO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81080" y="4876920"/>
            <a:ext cx="8781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R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062000" y="762120"/>
            <a:ext cx="7020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IL INDUSTRY, WHAT UNIT IS DEFINED TO BE 42 GALL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2006-PRESENT    ADULT SWIM TV SERIES, WHAT IS THE NAME OF MORTY'S GRANDFA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Y(P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88960" y="768240"/>
            <a:ext cx="796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IRST "P" IN THIS LOGO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3486240" y="2666880"/>
            <a:ext cx="2171520" cy="21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I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41400" y="762120"/>
            <a:ext cx="725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ERMAN WORD FOR "EMPER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52480" y="762120"/>
            <a:ext cx="7439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U.S. ARMED FORCES' HIGHEST MILITARY DECORATION IS CALLED THE MEDAL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IFOR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42880" y="762120"/>
            <a:ext cx="8058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IS NICKNAMED THE GOLDEN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28760" y="762120"/>
            <a:ext cx="8286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A PRESSURE OF 0.5% OF   AN ATMOSPHERE, WHEN ICE MELTS, IT TURNS INTO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722600" y="4876920"/>
            <a:ext cx="569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47640" y="762120"/>
            <a:ext cx="7845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HOOKE'S LAW     F = –kx GIVES THE FORCE EXERTED BY WHAT OBJ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119240" y="762120"/>
            <a:ext cx="6905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MORK &amp; MINDY", WHAT WAS THE SHAPE OF MORK'S SPACE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14480" y="4819680"/>
            <a:ext cx="8915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ROLL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61840" y="819000"/>
            <a:ext cx="7407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THI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47680" y="761760"/>
            <a:ext cx="6848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IL INDUSTRY, WHAT UNIT IS DEFINED TO BE 42 GALL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68480" y="762120"/>
            <a:ext cx="700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2006-PRESENT    ADULT SWIM TV SERIES, WHAT IS THE NAME OF MORTY'S GRANDFA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52480" y="762120"/>
            <a:ext cx="7439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IRST "P" IN THIS LOGO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162240" y="26668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09720" y="762120"/>
            <a:ext cx="7324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ERMAN WORD FOR "EMPER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96960" y="761760"/>
            <a:ext cx="7748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U.S. ARMED FORCES' HIGHEST MILITARY DECORATION IS CALLED THE MEDAL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IS NICKNAMED THE GOLDEN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50880" y="762120"/>
            <a:ext cx="784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HOOKE'S LAW     F = –kx GIVES THE FORCE EXERTED BY WHAT OB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31T16:47:00Z</dcterms:modified>
  <cp:revision>545</cp:revision>
  <dc:subject/>
  <dc:title>Slide 1</dc:title>
</cp:coreProperties>
</file>