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11D2-28EB-4A33-8CB9-1FAC3A8A4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95FD-A590-4EBE-831A-AA22BEBB6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0D8-DDB0-47F3-B36A-270BA4EF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B75-2438-40C7-A318-79041678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B69-15AB-4ADA-BF23-02362E8E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048C-180B-40DC-A8CC-DB6C860F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271D-0624-4A6F-AB8D-1BA4AFFC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EDCA-7322-4486-A799-4F5C0427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D400-C15C-4B2E-AE49-795AAE0D6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D7F6-A48B-4CDA-97B6-AC63E6B12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F41F-EBDE-464A-928F-B00F78A5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752-6D90-4DF6-B037-6BE95D0A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C6D3-7CE7-4D33-A477-038DB5367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E621-27DE-4C0E-88E3-46AA1B56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BE93-C871-4BF4-98D4-D0A02AECB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7804-D3ED-4411-90AD-BC42A110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916E-0D17-47BD-897D-328E56319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F6AB-731D-4F47-BFCE-73AAC2B6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F297-56A5-4ACF-898D-2712CCCAA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E565-4566-4408-82E6-C1C84B9CD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EDE0-0207-4E8A-A05F-F0DDB723F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3A2B-C8B0-4CA0-BE22-580E59F07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CC40-144E-418F-997D-2FF1E7481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152388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90080" y="761760"/>
            <a:ext cx="6961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&amp; MINDY", WHAT WAS THE SHAPE OF MORK'S SPACE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 PRESSURE OF 0.5% OF   AN ATMOSPHERE, WHEN ICE MELTS, IT TURNS IN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81080" y="4876920"/>
            <a:ext cx="8781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062000" y="762120"/>
            <a:ext cx="702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6-PRESENT    ADULT SWIM TV SERIES, WHAT IS THE NAME OF MORTY'S GRAND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(P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88960" y="768240"/>
            <a:ext cx="796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P" IN THIS LOGO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1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EMPER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.S. ARMED FORCES' HIGHEST MILITARY DECORATION IS CALLED THE MEDAL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IS NICKNAMED THE GOLDEN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 PRESSURE OF 0.5% OF   AN ATMOSPHERE, WHEN ICE MELTS, IT TURNS IN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722600" y="4876920"/>
            <a:ext cx="5697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47640" y="762120"/>
            <a:ext cx="7845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HOOKE'S LAW     F = –kx GIVES THE FORCE EXERTED BY WHAT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19240" y="762120"/>
            <a:ext cx="690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&amp; MINDY", WHAT WAS THE SHAPE OF MORK'S SPACE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14480" y="4819680"/>
            <a:ext cx="8915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O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61840" y="819000"/>
            <a:ext cx="740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HI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7680" y="761760"/>
            <a:ext cx="6848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IL INDUSTRY, WHAT UNIT IS DEFINED TO BE 42 GALL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8480" y="762120"/>
            <a:ext cx="700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6-PRESENT    ADULT SWIM TV SERIES, WHAT IS THE NAME OF MORTY'S GRAND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P" IN THIS LOGO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16224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EMPER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48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U.S. ARMED FORCES' HIGHEST MILITARY DECORATION IS CALLED THE MEDAL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IS NICKNAMED THE GOLDEN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0880" y="762120"/>
            <a:ext cx="784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HOOKE'S LAW     F = –kx GIVES THE FORCE EXERTED BY WHAT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6:47:00Z</dcterms:modified>
  <cp:revision>545</cp:revision>
  <dc:subject/>
  <dc:title>Slide 1</dc:title>
</cp:coreProperties>
</file>