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C677-9233-4817-8BCF-B809784A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6B2A-2EB3-4F65-884F-10CB075BD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1F7-55E8-4EB2-A64B-F5C4DF1B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F46F-866E-4725-816F-670156801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C7A-D5E3-48B1-A87C-D3209CD0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2F25-A940-42A0-83D8-50BED310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AD2-A3CF-4C5C-BDC8-A067C880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DB1C-B048-4677-9032-A47A5DF5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4BF5-E466-4A09-A178-D0EE0AC3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266B-2BAE-4B2B-8623-E37525E55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6D0B-FBAA-4FBA-9030-635D0888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1BA4-FC8B-438C-A29B-E84B4ACD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0E4A-BB78-42B5-9EEF-0A1FB095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242-9C98-4195-AE2F-51EF15F0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1BC-4DEA-4EFC-9FE9-8D498CEB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F4F8-B768-424E-A553-F2BB6E0D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636-85A8-4AAE-8638-8200A374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3B7B-4FDB-4F8F-8796-F3193102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2987-8D0E-4FC9-9232-84ABA48B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FA69-7D85-44C9-81B2-92EEAD48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AAB4-A799-4C9A-AF15-AEA0FDC1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C96D-1204-45D7-9338-FCAD9064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D2E6-D0E7-4AC2-A334-E3CBB0C6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S TOM CRUISE BEEN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WAS A BIOGRAPHY OF COMEDIAN ANDY KAU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IDE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5960" y="762120"/>
            <a:ext cx="8452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ANIMATED FILM WERE THE MAIN CHARACTERS THE 5 PERSONIFIED EMOTIONS OF A YOUNG GIR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760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MPANY CLERK CORPORAL WALTER O'REI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SY CLINE'S ONLY TOP-10 HIT WAS WHAT SONG WRITTEN BY WILLIE NE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VEN  (IS  A  PLACE)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REMOVE THE WORDS "IS    A PLACE" FROM THE TITLE OF BELINDA CARLISLE'S SIGNATURE SONG, YOU GET THE TITLE OF WHAT ALBUM IT COMES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O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ACIDS WITH LOWER pH VALUES WEAKER OR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01680" y="762120"/>
            <a:ext cx="673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, 2, Z-14, 𝝅, No. 1, M7, 1881, AND 69 ARE ALL BRAND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WAS A BIOGRAPHY OF COMEDIAN ANDY KAU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14360" y="762120"/>
            <a:ext cx="832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ROPRIATE NAME DOES THE LEPRECHAUN MASCOT OF THE BOSTON CELTIC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1640" y="76212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S TOM CRUISE BEEN MAR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ANIMATED FILM WERE THE MAIN CHARACTERS THE 5 PERSONIFIED EMOTIONS OF A YOUNG GIR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MPANY CLERK CORPORAL WALTER O'REI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SY CLINE'S ONLY TOP-10 HIT WAS WHAT SONG WRITTEN BY WILLIE NEL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REMOVE THE WORDS "IS    A PLACE" FROM THE TITLE OF BELINDA CARLISLE'S SIGNATURE SONG, YOU GET THE TITLE OF WHAT ALBUM IT COMES FRO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12920" y="761760"/>
            <a:ext cx="651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ACIDS WITH LOWER pH VALUES WEAKER OR STRO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, 2, Z-14, 𝝅, No. 1, M7, 1881, AND 69 ARE ALL BRAND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7800" y="762120"/>
            <a:ext cx="7265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ROPRIATE NAME DOES THE LEPRECHAUN MASCOT OF THE BOSTON CELTICS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6:55:29Z</dcterms:modified>
  <cp:revision>424</cp:revision>
  <dc:subject/>
  <dc:title>Slide 1</dc:title>
</cp:coreProperties>
</file>