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96B46-0F79-4E6D-8A62-803876F6F5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D2F28-B08A-43D2-B12D-D77E6EA4E2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B61ED-1023-4791-A1D1-C2F5CF5F95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AA41D-FCB9-4BA6-A875-E32EE77E79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5A79B-7E9D-4E41-9BED-816B90B15E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8DB47-BD1D-404C-8ED0-EC604A6D87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CBBA6-CE53-46DF-AE95-9EA9FA006B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31D75-894F-45E1-9DF0-C811536C66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C25E6-2D77-4723-B05D-55E05FA93D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BC46B-6CAF-46B3-85FB-60872385DC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29E87-467F-42AB-A8EF-B236CDA36C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0D2C3-E6BA-4EB9-9A3A-ACD7E32165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72C75-DE30-449C-864F-0A79294F68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CF3C9-F2BE-4207-AA03-08459F95E3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D5E17-DA16-4C0B-BBF0-4E46274432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84C6B-EB6E-4FAC-B164-64912783CC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8F91B-A4E5-419F-A7EF-EF0B64C9E8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B09AD-C35A-49E1-9A66-E9B818E0AC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FBC24-B685-489E-BF34-7B80E444A5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5A3A1-B3D5-41CD-B9E6-4B2DBB6534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9B519-C9FB-4154-B15D-7ABE7A6849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5047C-FB3E-4EBA-A173-7A90BC83C0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42736-DAF8-497D-9082-B6D5AE8431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485720" y="1523880"/>
            <a:ext cx="61722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342720" y="76176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TIMES HAS TOM CRUISE BEEN MARRI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457200" y="4876920"/>
            <a:ext cx="8229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N  ON  THE  MO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369720" y="762120"/>
            <a:ext cx="84045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9 FILM WAS A BIOGRAPHY OF COMEDIAN ANDY KAUFMA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NSIDE  O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345960" y="762120"/>
            <a:ext cx="84520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2015 ANIMATED FILM WERE THE MAIN CHARACTERS THE 5 PERSONIFIED EMOTIONS OF A YOUNG GIR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AD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228600" y="760320"/>
            <a:ext cx="8686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ICKNAME OF COMPANY CLERK CORPORAL WALTER O'REILL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1523880" y="4886280"/>
            <a:ext cx="60962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RAZ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571680" y="771480"/>
            <a:ext cx="8001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ATSY CLINE'S ONLY TOP-10 HIT WAS WHAT SONG WRITTEN BY WILLIE NELS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EAVEN  (IS  A  PLACE)  ON  EAR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523800" y="762120"/>
            <a:ext cx="80964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F YOU REMOVE THE WORDS "IS    A PLACE" FROM THE TITLE OF BELINDA CARLISLE'S SIGNATURE SONG, YOU GET THE TITLE OF WHAT ALBUM IT COMES FR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RON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1333440" y="762120"/>
            <a:ext cx="64771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RE ACIDS WITH LOWER pH VALUES WEAKER OR STRONG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238400" y="4876920"/>
            <a:ext cx="6667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ERFU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1201680" y="762120"/>
            <a:ext cx="67388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9, 2, Z-14, 𝝅, No. 1, M7, 1881, AND 69 ARE ALL BRANDS OF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531360" y="762120"/>
            <a:ext cx="80787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9 FILM WAS A BIOGRAPHY OF COMEDIAN ANDY KAUFMA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380880" y="487692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UCK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414360" y="762120"/>
            <a:ext cx="83217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PPROPRIATE NAME DOES THE LEPRECHAUN MASCOT OF THE BOSTON CELTICS HAV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19044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246960" indent="-2469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431640" y="762120"/>
            <a:ext cx="82807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TIMES HAS TOM CRUISE BEEN MARRI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179280" y="4876920"/>
            <a:ext cx="878544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RITNEY  SPEARS  SO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24000" y="761760"/>
            <a:ext cx="8496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2015 ANIMATED FILM WERE THE MAIN CHARACTERS THE 5 PERSONIFIED EMOTIONS OF A YOUNG GIR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447840" y="762120"/>
            <a:ext cx="8248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ICKNAME OF COMPANY CLERK CORPORAL WALTER O'REILL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19040" y="762120"/>
            <a:ext cx="83059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ATSY CLINE'S ONLY TOP-10 HIT WAS WHAT SONG WRITTEN BY WILLIE NELS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96800" y="762120"/>
            <a:ext cx="8150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F YOU REMOVE THE WORDS "IS    A PLACE" FROM THE TITLE OF BELINDA CARLISLE'S SIGNATURE SONG, YOU GET THE TITLE OF WHAT ALBUM IT COMES FROM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312920" y="761760"/>
            <a:ext cx="6518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RE ACIDS WITH LOWER pH VALUES WEAKER OR STRONG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914400" y="761760"/>
            <a:ext cx="73152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9, 2, Z-14, 𝝅, No. 1, M7, 1881, AND 69 ARE ALL BRANDS OF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937800" y="762120"/>
            <a:ext cx="72658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PPROPRIATE NAME DOES THE LEPRECHAUN MASCOT OF THE BOSTON CELTICS HAV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28T16:34:55Z</dcterms:created>
  <dc:creator>Jennifer Budzinski</dc:creator>
  <dc:description/>
  <dc:language>en-US</dc:language>
  <cp:lastModifiedBy>Erich Friedman</cp:lastModifiedBy>
  <dcterms:modified xsi:type="dcterms:W3CDTF">2022-10-31T16:55:29Z</dcterms:modified>
  <cp:revision>424</cp:revision>
  <dc:subject/>
  <dc:title>Slide 1</dc:title>
</cp:coreProperties>
</file>