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9695-138E-41FE-B733-EA6E7FA7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A16-AA38-4B09-96F7-EF6240D72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B80B-85D0-4FF6-BB06-F187D6B6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CFED-FA3D-4778-AEC6-D30B573B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7CA8-4613-474B-972A-04E87D10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E0D9-9B87-4C8E-BDDF-CC0F1E5C8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9E86-7869-4D46-820A-5AED8C953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6810-FB9E-4519-A52C-EA74B423E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3EBB-6CE8-47BB-9A96-4D605CAF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772-973D-41E0-B94E-1EF895C8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6D4-9900-4732-9401-A3B3B280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CC7-1CB7-4369-8815-9FA6291A6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3FA7-4E0B-42D9-9A7C-945A6C53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852B-BFB0-489E-931F-ABE09CBEA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A6BF-F3CF-441F-AE76-ADD839FA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89CA-EC8E-4724-8FE2-6BACA7AB5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C7F9-472D-4977-85C1-BA2D5AEDA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851-1784-4E7C-98A7-7F00DE86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6E59-3166-4047-B292-CCF4EE640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FEC2-567D-4663-8408-4DF80F53D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43E3-5FC0-4B32-8869-4718815FE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C0BB-0F43-4BDA-BA3E-02857EAB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6429-A0CB-407F-A850-8AE6C74BD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90680" y="990720"/>
            <a:ext cx="6362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SYLLABLE WOR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5840" y="761760"/>
            <a:ext cx="8929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TITLE OF THE TV SERIES STARRING SARAH JESSICA PARKER, KIM CATTRALL, KRISTIN DAVIS AND CYNTHIA NIX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74800" y="762120"/>
            <a:ext cx="739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CHRISTMAS FILM DOES WILL FERRELL PLAY AN ADOPTED GUY NAMED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DUET BY MICHAEL JACKSON AND PAUL MCCART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MOST POPULAR SONG BY ARROW, AND WHEN COVERED, THE MOST POPULAR SONG     BY BUSTER POINDEX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952560" y="4343400"/>
            <a:ext cx="7238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W  (NATIONAL  ORGANIZATION  FOR  WOM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90680" y="746280"/>
            <a:ext cx="8162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LARGEST FEMINIST ORGANIZATIO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ZEN CARBON DIOXIDE IS KNOWN AS WHAT KIND OF 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90600" y="762120"/>
            <a:ext cx="8362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TITLES OF THE 1973, 1997, AND 2020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 OF THE STANFORD CARDINAL IS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CHRISTMAS FILM DOES WILL FERRELL PLAY AN ADOPTED GUY NAMED BU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14280" y="857160"/>
            <a:ext cx="53164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IS FROM THE ANIMATED FILM "INSIDE 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03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(IN  THE  C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TITLE OF THE TV SERIES STARRING SARAH JESSICA PARKER, KIM CATTRALL, KRISTIN DAVIS AND CYNTHIA NIX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28680" y="4267080"/>
            <a:ext cx="84866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NOUNCED  THE  SAME  AS  NUMBERS  IN  OTHER 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DUET BY MICHAEL JACKSON AND PAUL MCCART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6520" y="762120"/>
            <a:ext cx="866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MOST POPULAR SONG BY ARROW, AND WHEN COVERED, THE MOST POPULAR SONG     BY BUSTER POINDEX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LARGEST FEMINIST ORGANIZATIO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ZEN CARBON DIOXIDE IS KNOWN AS WHAT KIND OF 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TITLES OF THE 1973, 1997, AND 2020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520" y="761760"/>
            <a:ext cx="904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 OF THE STANFORD CARDINAL IS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5181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IS FROM THE ANIMATED FILM "INSIDE 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172200" y="533520"/>
            <a:ext cx="2403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4T18:12:05Z</dcterms:modified>
  <cp:revision>440</cp:revision>
  <dc:subject/>
  <dc:title>Slide 1</dc:title>
</cp:coreProperties>
</file>