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F224F-0591-4BDE-BAD5-473AD90CC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34927-F00F-45CB-9413-318C7C6E8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9A404-B8A4-429C-BE61-5E6E0361D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882DA-9318-4D24-AE2A-491453C12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C063D-C334-4013-981F-934BC5FAD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64F37-7FFF-47EF-94ED-72F229551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69D3E-DE33-472A-9239-FACD43F8F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BA0D6-8618-4BBB-8239-3041F8753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5B7E0-D41B-488B-A5E4-FBA3CB9C5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7C186-5C40-4987-8ECC-A9F3E0879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77687-C98A-4381-8266-A951D4074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6CCE6-2E29-40FF-9401-F411857F3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EEC7D-D3F5-44CF-90C1-E474FA903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591AF-9BD1-4A7A-B9D1-C9F55A91C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4E3E4-7101-4C5A-83D7-1F87373A3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3A6B7-25E8-4796-81F9-EB0BE1480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D097-F181-43A6-AC3A-F42DB7DE1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6CC3E-C385-4013-BFC3-3FE478EA4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21E9-A31D-426D-8CFF-B0DB45D5C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32036-6349-4B91-B31C-A29B55421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683F2-08FE-4EE2-99D4-85B196766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DFA95-AAA2-40C6-8EE7-280B8E755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704C6-A6CD-455F-BFFA-48C2BBB32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90680" y="990720"/>
            <a:ext cx="63626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E SYLLABLE WORD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05840" y="761760"/>
            <a:ext cx="8929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WORD IN THE TITLE OF THE TV SERIES STARRING SARAH JESSICA PARKER, KIM CATTRALL, KRISTIN DAVIS AND CYNTHIA NIX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874800" y="762120"/>
            <a:ext cx="7394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03 CHRISTMAS FILM DOES WILL FERRELL PLAY AN ADOPTED GUY NAMED BUDD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592200" y="762120"/>
            <a:ext cx="795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APPEARS 3 TIMES IN THE TITLE OF A DUET BY MICHAEL JACKSON AND PAUL MCCARTN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228600" y="762120"/>
            <a:ext cx="8686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APPEARS 3 TIMES IN THE MOST POPULAR SONG BY ARROW, AND WHEN COVERED, THE MOST POPULAR SONG     BY BUSTER POINDEX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952560" y="4343400"/>
            <a:ext cx="7238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W  (NATIONAL  ORGANIZATION  FOR  WOME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490680" y="746280"/>
            <a:ext cx="8162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CRONYM FOR THE LARGEST FEMINIST ORGANIZATION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388800" y="762120"/>
            <a:ext cx="8366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ROZEN CARBON DIOXIDE IS KNOWN AS WHAT KIND OF 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390600" y="762120"/>
            <a:ext cx="8362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APPEARS IN THE TITLES OF THE 1973, 1997, AND 2020 JAMES BOND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000080" y="4876920"/>
            <a:ext cx="7143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112680" y="762120"/>
            <a:ext cx="8918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ASCOT OF THE STANFORD CARDINAL IS A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74800" y="762120"/>
            <a:ext cx="7392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03 CHRISTMAS FILM DOES WILL FERRELL PLAY AN ADOPTED GUY NAMED BUDD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314280" y="857160"/>
            <a:ext cx="531648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ARACTER IS THIS FROM THE ANIMATED FILM "INSIDE OU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6172200" y="533520"/>
            <a:ext cx="2403360" cy="426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X  (IN  THE  CIT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190440" y="762120"/>
            <a:ext cx="8763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WORD IN THE TITLE OF THE TV SERIES STARRING SARAH JESSICA PARKER, KIM CATTRALL, KRISTIN DAVIS AND CYNTHIA NIX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328680" y="4267080"/>
            <a:ext cx="84866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ONOUNCED  THE  SAME  AS  NUMBERS  IN  OTHER  LANGU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76360" y="761760"/>
            <a:ext cx="7991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APPEARS 3 TIMES IN THE TITLE OF A DUET BY MICHAEL JACKSON AND PAUL MCCARTNE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236520" y="762120"/>
            <a:ext cx="8669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APPEARS 3 TIMES IN THE MOST POPULAR SONG BY ARROW, AND WHEN COVERED, THE MOST POPULAR SONG     BY BUSTER POINDEX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90680" y="762120"/>
            <a:ext cx="81626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CRONYM FOR THE LARGEST FEMINIST ORGANIZATION IN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53880" y="762120"/>
            <a:ext cx="84362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ROZEN CARBON DIOXIDE IS KNOWN AS WHAT KIND OF I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2160" y="761760"/>
            <a:ext cx="897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APPEARS IN THE TITLES OF THE 1973, 1997, AND 2020 JAMES BOND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520" y="761760"/>
            <a:ext cx="9048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ASCOT OF THE STANFORD CARDINAL IS A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80880" y="914040"/>
            <a:ext cx="5181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ARACTER IS THIS FROM THE ANIMATED FILM "INSIDE OU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6172200" y="533520"/>
            <a:ext cx="2403360" cy="4267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11-04T18:12:05Z</dcterms:modified>
  <cp:revision>440</cp:revision>
  <dc:subject/>
  <dc:title>Slide 1</dc:title>
</cp:coreProperties>
</file>