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FC360-7E8E-4260-B823-EFC2F9B22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6411D-1744-4145-B215-6ED890F74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3FC6D-C0B8-497F-8528-9C47B7C2BF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14DF4-5891-461F-B540-6F358F3F5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4054D-C106-4E43-9D60-645AA618E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833E0-1CC6-4D60-AB19-1FF373641C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C62AA-298F-4842-B2E2-7F26377C9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D71F4-B716-41FD-9A96-8F8B8AFF9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95D46-2FB8-47B8-B64E-457CD8FE2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5375F-8360-4067-906F-68775D9C0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94141-6A93-459E-A332-BA2638F275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C27D6-5A72-47B1-B348-421C5ECBA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1AC09-A78D-4FA4-9C1B-DF8F63DE5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9782A-B20A-4A41-9E18-A9A89C845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B74C8-DE29-4C0B-87FA-F104FCA49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64DCF-93D6-44AF-BD9D-128CAE2DE9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44C29-C5D4-4B2D-AF6A-C1890CDD07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62DDA-A229-4915-B43F-453F51716C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F503E-6123-497A-A5DA-347DE8F23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75752-3B7B-4067-966C-3B13A28122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E2B64-F226-46A5-9037-714377C29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319AF-D46C-481A-90C9-3A94A0786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0EDB8-D0EA-4F25-A1FD-53CB5A93D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838080" y="1523880"/>
            <a:ext cx="74678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99800" y="761760"/>
            <a:ext cx="8715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FIRST WORD OF INFAN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85800" y="762120"/>
            <a:ext cx="7772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THE 7 DWARFS WEARS GLASS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162080" y="4876920"/>
            <a:ext cx="68198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O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614520" y="762120"/>
            <a:ext cx="79135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DOES THE MOST MEMORABLE SCENE IN THE FILM "PSYCHO" TAKE PLA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R RADIO FORMAT?  COUNTRY, ROCK, HIP-HOP, OR TAL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523880" y="4876920"/>
            <a:ext cx="609624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OM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449280" y="762120"/>
            <a:ext cx="82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1968 RICHARD BURTON / ELIZABETH TAYLOR FILM GOT THIS REVIEW IN "LIFE MAGAZINE": "THAT TITLE COULD NOT BE MORE APT.  IT IS PRECISELY THE SOUND OF A BOMB EXPLODING."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AND  (RAPID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681120" y="762120"/>
            <a:ext cx="7781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WORD IN THE NAME OF THE SECOND-LARGEST CITY IN MICHIGAN, AFTER DETRO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VERBAL COMMAND DO OVER 90% OF DOGS KN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238400" y="4876920"/>
            <a:ext cx="6667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474840" y="762120"/>
            <a:ext cx="81943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TRADED COMMODITY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04720" y="762120"/>
            <a:ext cx="8134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THE 7 DWARFS WEARS GLASS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SPIR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731880" y="762120"/>
            <a:ext cx="7680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MON MEDICATION'S FULL NAME IS ACETYLSALICYLIC ACI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266760" y="762120"/>
            <a:ext cx="86104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FIRST WORD OF INFAN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1904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THE  WORD  "BABY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54040" y="761760"/>
            <a:ext cx="803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DOES THE MOST MEMORABLE SCENE IN THE FILM "PSYCHO" TAKE PLA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474840" y="762120"/>
            <a:ext cx="8192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R RADIO FORMAT?  COUNTRY, ROCK, HIP-HOP, OR TAL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1968 RICHARD BURTON / ELIZABETH TAYLOR FILM GOT THIS REVIEW IN "LIFE MAGAZINE": "THAT TITLE COULD NOT BE MORE APT.  IT IS PRECISELY THE SOUND OF A BOMB EXPLODING."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68160" y="762120"/>
            <a:ext cx="78076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WORD IN THE NAME OF THE SECOND-LARGEST CITY IN MICHIGAN, AFTER DETROI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76200" y="761760"/>
            <a:ext cx="8391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VERBAL COMMAND DO OVER 90% OF DOGS KNOW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99960" y="761760"/>
            <a:ext cx="8344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TRADED COMMODITY IN THE WOR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46280" y="762120"/>
            <a:ext cx="76514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MON MEDICATION'S FULL NAME IS ACETYLSALICYLIC ACI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2-11-05T12:21:28Z</dcterms:modified>
  <cp:revision>449</cp:revision>
  <dc:subject/>
  <dc:title>Slide 1</dc:title>
</cp:coreProperties>
</file>