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FF92-DCBA-4437-9B4A-958E439D4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9765-9E53-4B4C-8B9E-971952E25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5A3F-70D1-43DD-A802-8A3718EB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EB2C-D23B-4479-A0CA-EC02DE661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157C-4810-45A6-9538-8825A369D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16E4-0CFB-44EC-B4DA-EBB8A299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28B-07D0-40C9-98C5-CD61EC90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C51F-C671-4A44-8012-9968E08B5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C3F8-CA22-4823-8AD7-E0BD22FB5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0A3-5504-4A1E-8983-DC355D33C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7A01-E186-4BBD-BE1F-01CB21E6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7EFD-9D5A-4A93-AB77-4A48D11BA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4425-BA79-4F5C-A96D-89967D8B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9B03-2BDF-46AD-B239-5753C540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A773-93FA-440B-9667-8A3C613C8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40E0-FE5A-4148-A4E3-B4CD26B4A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5DC9-4C90-439F-AE9B-3BFF5F7CA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83FC-66A1-4570-9837-89A0D213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51AD-4211-4F2D-A656-5A62F9A69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719E-EBA2-4572-BD98-1C591AEDC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C4FD-4385-4468-95AF-EDDF56219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706-0EEC-4C2B-BF5E-655DA061A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6F5D-4A11-4EAD-846E-F758521D3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9800" y="761760"/>
            <a:ext cx="8715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INF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WARFS WEARS GLA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14520" y="762120"/>
            <a:ext cx="791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MOST MEMORABLE SCENE IN THE FILM "PSYCHO"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RADIO FORMAT?  COUNTRY, ROCK, HIP-HOP, OR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76920"/>
            <a:ext cx="6096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68 RICHARD BURTON / ELIZABETH TAYLOR FILM GOT THIS REVIEW IN "LIFE MAGAZINE": "THAT TITLE COULD NOT BE MORE APT.  IT IS PRECISELY THE SOUND OF A BOMB EXPLODING.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(RAPI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SECOND-LARGEST CITY IN MICHIGAN, AFTER DETRO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BAL COMMAND DO OVER 90% OF DOGS K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TRADED COMMOD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WARFS WEARS GLAS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I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MEDICATION'S FULL NAME IS ACETYLSALICYLIC AC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INF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BAB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MOST MEMORABLE SCENE IN THE FILM "PSYCHO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4840" y="762120"/>
            <a:ext cx="819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RADIO FORMAT?  COUNTRY, ROCK, HIP-HOP, OR T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68 RICHARD BURTON / ELIZABETH TAYLOR FILM GOT THIS REVIEW IN "LIFE MAGAZINE": "THAT TITLE COULD NOT BE MORE APT.  IT IS PRECISELY THE SOUND OF A BOMB EXPLODING.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SECOND-LARGEST CITY IN MICHIGAN, AFTER DETRO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RBAL COMMAND DO OVER 90% OF DOGS K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TRADED COMMOD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6280" y="762120"/>
            <a:ext cx="765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MEDICATION'S FULL NAME IS ACETYLSALICYLIC AC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1:28Z</dcterms:modified>
  <cp:revision>449</cp:revision>
  <dc:subject/>
  <dc:title>Slide 1</dc:title>
</cp:coreProperties>
</file>