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2A2B-4BFC-40D5-B83C-FA95F2628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38BC-2F93-4021-933E-851CFF02C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B842-2794-4CD6-8999-3D983926F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15E7-5BDC-4F1C-8A64-A658083AC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33F7-BEEA-4539-99EF-F100F185F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A6E8-8460-459B-9C87-15A7607F6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E166-7BC5-4DDF-8E21-59B84911D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D0D5-14D7-44D8-8DE5-1BBE6E5A4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F4E9-6BE3-464C-8065-3BACFC76B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355F-468A-4712-BEF1-241F2EFF0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AED0-CC78-4190-AFCF-25F819B73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3B88-C57D-4272-A386-7882536D9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5B98-2450-4B35-B3BB-7D6384BA9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7307-2689-4E62-A146-9DDE3CEB9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AA27-5589-4800-ABF3-06B344026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C2B6-6BE0-439E-9163-B01DE46C0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89A3-CA22-4098-BF24-12E68B8FE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84B8-5F3D-4B92-89FF-46B82C5F6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ACD7-E775-48C0-8B4D-91B3CBF17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83C1-E1BF-4547-A420-54286D43F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BB41-78D0-4C98-B5C2-5AF5AAA40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C69E-9579-4608-83C3-0602CD95D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13FD-9BFE-4AAB-AB61-4A75E1A54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33480" y="1523880"/>
            <a:ext cx="727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GY SONG BY U2 WON BONO AN AWARD FROM CORETTA SCOTT 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.T.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90600" y="762120"/>
            <a:ext cx="6562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TOP-10 HIT BY RONNY AND THE DAYTON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.M.C.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37960" y="762120"/>
            <a:ext cx="8666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VILLAGE PEOPLE, AND ONE OF THE TOP-SELLING SONG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.Y.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28600" y="7603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FROM MICHAEL JACKSON'S ALBUM "THRILLER" STARTS WI THE LYRIC "WHERE DID YOU COME FROM LA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.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57160" y="76680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TY PERRY #1 SONG IS ABOUT FALLING IN LOVE WITH A FOREIGNER, AND SHARES ITS NAME WITH A STEVEN SPIELBERG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.N.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76200" y="762120"/>
            <a:ext cx="8391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/DC TITLE SONG FROM THEI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HAS CHORUS "I'M DYNAMITE, AND I'LL WIN THE FIGHT, I'M A POWER LOAD, WATCH ME EXPLO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.O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316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LINDROMIC BAND ABBA HAD A HIT IN 1975 WITH WHAT PALINDROMIC SONG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.U.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0360" y="762120"/>
            <a:ext cx="842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IDEO FOR WHAT LADY GAGA SONG, FEATURING SEVERAL REFERENCES TO GREEK MYTHOLOGY, WAS FILMED AT HEARST CAS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03400" y="762120"/>
            <a:ext cx="6935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TOP-10 HIT BY RONNY AND THE DAYTON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.I.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07880" y="762120"/>
            <a:ext cx="8326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ÉAD O'CONNOR SONG MADE FUN OF BONO FOR MEETING WITH THE P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.L.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35040" y="762120"/>
            <a:ext cx="7873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GY SONG BY U2 WON BONO AN AWARD FROM CORETTA SCOTT 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00600"/>
            <a:ext cx="878544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BBREVI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VILLAGE PEOPLE, AND ONE OF THE TOP-SELLING SONG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47840" y="762120"/>
            <a:ext cx="82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FROM MICHAEL JACKSON'S ALBUM "THRILLER" STARTS WI THE LYRIC "WHERE DID YOU COME FROM LA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TY PERRY #1 SONG IS ABOUT FALLING IN LOVE WITH A FOREIGNER, AND SHARES ITS NAME WITH A STEVEN SPIELBERG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5440" y="762120"/>
            <a:ext cx="849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/DC TITLE SONG FROM THEI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HAS CHORUS "I'M DYNAMITE, AND I'LL WIN THE FIGHT, I'M A POWER LOAD, WATCH ME EXPLO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08080" y="761760"/>
            <a:ext cx="872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LINDROMIC BAND ABBA HAD A HIT IN 1975 WITH WHAT PALINDROMIC SONG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IDEO FOR WHAT LADY GAGA SONG, FEATURING SEVERAL REFERENCES TO GREEK MYTHOLOGY, WAS FILMED AT HEARST CAS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8680" y="762120"/>
            <a:ext cx="848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ÉAD O'CONNOR SONG MADE FUN OF BONO FOR MEETING WITH THE P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05T12:27:41Z</dcterms:modified>
  <cp:revision>431</cp:revision>
  <dc:subject/>
  <dc:title>Slide 1</dc:title>
</cp:coreProperties>
</file>