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2AB0-E9E9-406E-8580-33A44EED6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5DEE-6793-43EF-B2B9-1A7027FB7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0274-641A-4A6F-9D60-B1AC773ED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3F27-1974-4A3C-8795-AF883E747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D222-4635-4863-978A-E67530C91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022F-6045-48E6-99D2-B40CB9766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3A37-A017-489D-BE6B-F8C66A251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25D0-98BC-487E-8610-1D5E0B890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5926-EA44-4728-99A7-7A9278019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B70B-9BB1-4EE8-960F-E42D86C28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EDE4-B7BB-4205-924B-90D8691A0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580A-E7BB-4397-8132-9A7EF94F8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1762-0D8D-4761-AE0A-9DDE961AC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E3F6-3B69-41DF-A7F3-52BFF24DB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0F11-896F-4512-99A8-9724E4131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B597-E7A3-4713-AAD4-B42BB96D9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ECB9-B008-44B2-8884-D9B6D7500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7044-5884-4643-86FA-5695A9748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A02B-FA03-4215-A347-4923EF5B1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08CE-A6A1-4BAE-AC4C-C89D1B89C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5843-E3E2-462A-99C8-3F21B1A60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B93D-27AF-4F2B-BF18-A990CDED5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7537-96C3-43EC-949D-3DEEE791F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33480" y="1523880"/>
            <a:ext cx="7277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G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04720" y="761760"/>
            <a:ext cx="8134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GY SONG BY U2 WON BONO AN AWARD FROM CORETTA SCOTT K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.T.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290600" y="762120"/>
            <a:ext cx="6562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TOP-10 HIT BY RONNY AND THE DAYTON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.M.C.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37960" y="762120"/>
            <a:ext cx="8666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BY THE VILLAGE PEOPLE, AND ONE OF THE TOP-SELLING SONGS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.Y.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28600" y="76032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FROM MICHAEL JACKSON'S ALBUM "THRILLER" STARTS WI THE LYRIC "WHERE DID YOU COME FROM LAD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.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57160" y="766800"/>
            <a:ext cx="7429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ATY PERRY #1 SONG IS ABOUT FALLING IN LOVE WITH A FOREIGNER, AND SHARES ITS NAME WITH A STEVEN SPIELBERG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.N.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76200" y="762120"/>
            <a:ext cx="8391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/DC TITLE SONG FROM THEIR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 HAS CHORUS "I'M DYNAMITE, AND I'LL WIN THE FIGHT, I'M A POWER LOAD, WATCH ME EXPLOD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.O.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31640" y="762120"/>
            <a:ext cx="830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ALINDROMIC BAND ABBA HAD A HIT IN 1975 WITH WHAT PALINDROMIC SONG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.U.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60360" y="762120"/>
            <a:ext cx="842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VIDEO FOR WHAT LADY GAGA SONG, FEATURING SEVERAL REFERENCES TO GREEK MYTHOLOGY, WAS FILMED AT HEARST CAS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03400" y="762120"/>
            <a:ext cx="6935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TOP-10 HIT BY RONNY AND THE DAYTON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.I.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07880" y="762120"/>
            <a:ext cx="8326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ÉAD O'CONNOR SONG MADE FUN OF BONO FOR MEETING WITH THE PO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.L.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35040" y="762120"/>
            <a:ext cx="7873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GY SONG BY U2 WON BONO AN AWARD FROM CORETTA SCOTT K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79280" y="4800600"/>
            <a:ext cx="878544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ABBREVI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28760" y="761760"/>
            <a:ext cx="8286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BY THE VILLAGE PEOPLE, AND ONE OF THE TOP-SELLING SONGS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47840" y="762120"/>
            <a:ext cx="8248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FROM MICHAEL JACKSON'S ALBUM "THRILLER" STARTS WI THE LYRIC "WHERE DID YOU COME FROM LAD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28560" y="762120"/>
            <a:ext cx="7886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ATY PERRY #1 SONG IS ABOUT FALLING IN LOVE WITH A FOREIGNER, AND SHARES ITS NAME WITH A STEVEN SPIELBERG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5440" y="762120"/>
            <a:ext cx="8493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/DC TITLE SONG FROM THEIR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 HAS CHORUS "I'M DYNAMITE, AND I'LL WIN THE FIGHT, I'M A POWER LOAD, WATCH ME EXPLOD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08080" y="761760"/>
            <a:ext cx="8727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ALINDROMIC BAND ABBA HAD A HIT IN 1975 WITH WHAT PALINDROMIC SONG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52600" y="761760"/>
            <a:ext cx="8038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VIDEO FOR WHAT LADY GAGA SONG, FEATURING SEVERAL REFERENCES TO GREEK MYTHOLOGY, WAS FILMED AT HEARST CAS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8680" y="762120"/>
            <a:ext cx="848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ÉAD O'CONNOR SONG MADE FUN OF BONO FOR MEETING WITH THE POP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11-05T12:27:41Z</dcterms:modified>
  <cp:revision>431</cp:revision>
  <dc:subject/>
  <dc:title>Slide 1</dc:title>
</cp:coreProperties>
</file>