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354-3925-48C9-9FF3-67218EFB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0E97-291D-4228-B0F1-C5836B8E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A45-4524-4373-8D72-9D3303CE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A9E8-E4BA-4921-9A63-C4963AE3F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4EDB-8162-49A6-AA36-1683D1B7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C93-FC9A-4D32-B20C-ADE68D5F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BC3-4A6D-4583-8921-F07D39BD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BEA-A59D-485C-A57C-C291B627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C05-8290-4F3B-87D4-463CDC37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D54B-73F9-48BF-8DC1-BB65AF0A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419-0487-463C-81EE-BF4FBFF2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4BF-C34B-4A24-B211-886AA14A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DC7-89D8-4F78-B2C8-B88F8196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113D-5887-4FDD-985F-0CEAF20A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C19-A6FD-4514-A682-38D8C305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B24-57FA-4495-93EE-A22EDD8A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FB7-5640-48A2-B7E1-19C8D9CF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C2F-E12F-405B-9875-C47FC351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A79-46DC-45CF-8A12-09F03B74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C7E-62C0-40C3-8B79-EDADFC4D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7624-FFE9-4C22-9D4E-C9DF04BE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35D-5383-459D-9CC0-4263591A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AA71-8A57-4D8C-9027-91DC51BF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L IS CALLED    WHEN A BASEBALL FIELDER ILLEGALLY HINDERS A BASERUNNER'S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000-YEAR-OLD       BOOK HAS 64 SECTIONS, INCLUDING 9 TITLED WITH THE PREVIOUS ANSW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NEWT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OCK AND ROLL SONG THAT SOLD MORE THAN A MILLION COPIES BY TWO ACTS (BIG JOE TURNER AND BILL HALEY), WHAT SHOULD ONE DO BESIDES "RATTLE AND ROL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ENALTY CALLED IN THE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PRO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7600" y="762120"/>
            <a:ext cx="88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TERM FOR CALLING THE INITIAL BET WITHOUT RAISING REFERENCES AN ABNORMALITY OF GA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LL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WITH WHAT COMMON 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LLY) 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5760" y="762120"/>
            <a:ext cx="87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INNER OF 7 BEST ACTRESS AWARDS, INCLUDING AN OSCAR AND GOLDEN GLOBE FOR      HER ROLE IN "NORMA R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NEWT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T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1240" y="762120"/>
            <a:ext cx="766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NIOR DOCTOR THAT HAS COMPLETED A FELLOWSHIP IS KNOWN AS WHAT SORT OF PHY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L IS CALLED    WHEN A BASEBALL FIELDER ILLEGALLY HINDERS A BASERUNNER'S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–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000-YEAR-OLD       BOOK HAS 64 SECTIONS, INCLUDING 9 TITLED WITH THE PREVIOUS ANSW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OCK AND ROLL SONG THAT SOLD MORE THAN A MILLION COPIES BY TWO ACTS (BIG JOE TURNER AND BILL HALEY), WHAT SHOULD ONE DO BESIDES "RATTLE AND ROLL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ENALTY CALLED IN THE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PRO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0960" y="762120"/>
            <a:ext cx="8722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TERM FOR CALLING THE INITIAL BET WITHOUT RAISING REFERENCES AN ABNORMALITY OF GA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WITH WHAT COMMON 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INNER OF 7 BEST ACTRESS AWARDS, INCLUDING AN OSCAR AND GOLDEN GLOBE FOR     HER ROLE IN "NORMA R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NIOR DOCTOR THAT HAS COMPLETED A FELLOWSHIP IS KNOWN AS WHAT SORT OF PHY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6:05Z</dcterms:modified>
  <cp:revision>428</cp:revision>
  <dc:subject/>
  <dc:title>Slide 1</dc:title>
</cp:coreProperties>
</file>