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BE43-0C41-4F08-BE5D-BD3C7A7BA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A690-DBCE-4085-9138-0C23A8CD1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713F-6C71-4CE9-81DC-68C2EF19D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A7B8-EC3D-46F6-9673-576DB5BAC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8D8D-A54F-4771-8DED-9BEC1507E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B4E7-3962-4F1B-9200-C6DAB5126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AAA1-76A1-4DDE-816F-6CD85C42E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E747-4803-410C-9DF3-42E24A681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722C-3F91-4E9A-9321-19310E1B1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1E0A-69DD-4662-886A-26C559250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7F86-A9DC-45D2-B76E-7D82E2611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9856-21B7-41A8-BEB8-9A9D29606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3538-104E-4365-8458-19145CAD0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9403-E83B-4398-821F-CC2F50550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7729-1A18-42F9-AD6D-4FC39E53C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0325-8A2E-45DE-BF95-E81A85672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3E93-7E65-4384-A9A6-93F124F86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E562-A8F5-402E-AC23-678F1F83E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D0F6-2F0A-409D-BA17-D9CAB598E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17CE-AFB2-49C5-9FEE-A8CAC62BC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EA8E-FF50-45BD-A848-25FF988DF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DCBB-E1DA-47AF-82B0-2586DCF84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EEEA-9CBC-4C2F-BFF2-6561D7842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L IS CALLED    WHEN A BASEBALL FIELDER ILLEGALLY HINDERS A BASERUNNER'S MOV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000-YEAR-OLD       BOOK HAS 64 SECTIONS, INCLUDING 9 TITLED WITH THE PREVIOUS ANSW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NEWT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7960" y="762120"/>
            <a:ext cx="8666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RDING TO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OCK AND ROLL SONG THAT SOLD MORE THAN A MILLION COPIES BY TWO ACTS (BIG JOE TURNER AND BILL HALEY), WHAT SHOULD ONE DO BESIDES "RATTLE AND ROLL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28600" y="7603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PENALTY CALLED IN THE N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714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PRO TENNIS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47600" y="762120"/>
            <a:ext cx="884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TERM FOR CALLING THE INITIAL BET WITHOUT RAISING REFERENCES AN ABNORMALITY OF GA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LL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YSPHASIA IS A DIFFICULTY WITH WHAT COMMON AC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ALLY) 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5760" y="762120"/>
            <a:ext cx="877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INNER OF 7 BEST ACTRESS AWARDS, INCLUDING AN OSCAR AND GOLDEN GLOBE FOR      HER ROLE IN "NORMA RA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1360" y="762120"/>
            <a:ext cx="8078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S QUANTITY IS MEASURED IN NEWT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TE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41240" y="762120"/>
            <a:ext cx="766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ENIOR DOCTOR THAT HAS COMPLETED A FELLOWSHIP IS KNOWN AS WHAT SORT OF PHYSIC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B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35040" y="762120"/>
            <a:ext cx="787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L IS CALLED    WHEN A BASEBALL FIELDER ILLEGALLY HINDERS A BASERUNNER'S MOV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I–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000-YEAR-OLD       BOOK HAS 64 SECTIONS, INCLUDING 9 TITLED WITH THE PREVIOUS ANSW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RDING TO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OCK AND ROLL SONG THAT SOLD MORE THAN A MILLION COPIES BY TWO ACTS (BIG JOE TURNER AND BILL HALEY), WHAT SHOULD ONE DO BESIDES "RATTLE AND ROLL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PENALTY CALLED IN THE NF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PRO TENNIS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10960" y="762120"/>
            <a:ext cx="8722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KER TERM FOR CALLING THE INITIAL BET WITHOUT RAISING REFERENCES AN ABNORMALITY OF GA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08080" y="761760"/>
            <a:ext cx="872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YSPHASIA IS A DIFFICULTY WITH WHAT COMMON AC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WINNER OF 7 BEST ACTRESS AWARDS, INCLUDING AN OSCAR AND GOLDEN GLOBE FOR     HER ROLE IN "NORMA RA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ENIOR DOCTOR THAT HAS COMPLETED A FELLOWSHIP IS KNOWN AS WHAT SORT OF PHYSIC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05T12:26:05Z</dcterms:modified>
  <cp:revision>428</cp:revision>
  <dc:subject/>
  <dc:title>Slide 1</dc:title>
</cp:coreProperties>
</file>