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4AECE-B8FE-4431-9D59-96AAE63AB2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8081A-F467-4851-8507-FD8DC6329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41862-13E1-47D5-8856-5BABA57B29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4414E-9B38-49B4-A148-54DE43C36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D88F5-F798-4D9B-9A92-AB227E718B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F9312-DECA-43DC-9645-EB8D8F7E91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78DDA-71F0-4F8B-91D0-A17D0E7E7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95E68-7DCF-45F1-B13B-49EF9BCAD1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5E489-C852-47CA-BA90-574D858DA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56A20-005A-4D35-9114-DD4113D79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0A682-2F8B-4D64-888E-0919CFF811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E0C82-23A5-47E5-8922-9CAA9DAB9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C804F-C8D9-4F7F-87AF-2F9D32152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8DE41-2E62-4792-885E-39E197996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02C25-4E7A-4CC6-8CCE-108E5E199E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F6934-DCEF-4CA3-9CE7-26342CA88D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D8A15-83A3-405C-9B14-F77DC118F8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58A28-AA45-4281-B6A0-A4AA1FEC9B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68B5A-6743-4F00-82BE-E7F795F3FC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7C9D3-CCCA-4C0B-89FC-74D18D0830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0AA77-50F1-4493-B54B-16413304D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57E22-C9E2-43A6-B66C-FD6D5BE673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9F1A0-1363-4310-8405-6630DF7B4F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933480" y="1523880"/>
            <a:ext cx="72770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504720" y="761760"/>
            <a:ext cx="8134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ICKNAME FOR ALCATRAZ PRISON, AND THE NAME OF A 1996 FILM THAT TAKES PLACE THE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IM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1290600" y="762120"/>
            <a:ext cx="65628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      OF THE DRUMMER ON "THE MUPPET SHOW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-38160" y="4876920"/>
            <a:ext cx="9220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HH  (HUBERT  HORATIO  HUMPHRE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919080" y="762120"/>
            <a:ext cx="73058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RE THE INITIALS OF LYNDON JOHNSON'S VICE PRESID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D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800280" y="76212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TAGE NAME OF THE GUITARIST FOR U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523880" y="4886280"/>
            <a:ext cx="6096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190520" y="771480"/>
            <a:ext cx="6762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RISKIEST SURGERY IS ON WHAT ORG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874800" y="762120"/>
            <a:ext cx="7394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EAD SINGER FOR THE MUSICAL GROUP THE POLI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I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431640" y="762120"/>
            <a:ext cx="8305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DGE MODEL I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2035080" y="1979640"/>
            <a:ext cx="5073840" cy="289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WORLD'S  STRONGEST  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431640" y="914400"/>
            <a:ext cx="48214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NUAL COMPETITION HAS THIS LOG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6129360" y="457200"/>
            <a:ext cx="2557440" cy="419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09600" y="762120"/>
            <a:ext cx="6724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      OF THE DRUMMER ON "THE MUPPET SHOW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UNDERTA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407880" y="762120"/>
            <a:ext cx="83264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ICKNAME DID JOHNNY CASH HAVE EARLY IN HIS CAREER, BECAUSE OF HIS TENDENCY TO DRESS ENTIRELY IN BLAC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R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635040" y="762120"/>
            <a:ext cx="7873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ICKNAME FOR ALCATRAZ PRISON, AND THE NAME OF A 1996 FILM THAT TAKES PLACE THE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179280" y="4876920"/>
            <a:ext cx="878544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ICKNAMES  OF  PRO  WRESTL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014480" y="761760"/>
            <a:ext cx="7115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RE THE INITIALS OF LYNDON JOHNSON'S VICE PRESID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757080" y="762120"/>
            <a:ext cx="7629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TAGE NAME OF THE GUITARIST FOR U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190520" y="762120"/>
            <a:ext cx="67629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RISKIEST SURGERY IS ON WHAT ORG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93880" y="762120"/>
            <a:ext cx="73562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EAD SINGER FOR THE MUSICAL GROUP THE POLI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08080" y="761760"/>
            <a:ext cx="8727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DGE MODEL IS TH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2035080" y="1979640"/>
            <a:ext cx="5073840" cy="289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47815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NUAL COMPETITION HAS THIS LOG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6129360" y="457200"/>
            <a:ext cx="2557440" cy="419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28680" y="762120"/>
            <a:ext cx="8485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ICKNAME DID JOHNNY CASH HAVE EARLY IN HIS CAREER, BECAUSE OF HIS TENDENCY TO DRESS ENTIRELY IN BLAC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2-11-05T12:23:07Z</dcterms:modified>
  <cp:revision>436</cp:revision>
  <dc:subject/>
  <dc:title>Slide 1</dc:title>
</cp:coreProperties>
</file>