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14C4-A94A-43DA-8C6E-85EA9A1B3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E150-669F-4136-BABD-C7AD094E8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E39B-EA37-4E9F-A87A-C217EFE4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380C-D024-48ED-A50C-B06ACFECB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8CFD-6D1D-42A8-B619-666A3DBA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C3EB-8B4F-41AB-AF3A-1646EFEC2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A7D9-25B9-4FFD-AB8D-5BAC69C76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5102-11E1-442B-B082-44321623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2A35-CFBA-4A6A-9D25-712E7DCFD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2D56-2845-453B-9311-A2AB9DF1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A06E-5E57-45BA-9E82-2BDC0925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0BFF-AB49-4E2F-B41A-9597F5D67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4D53-38C3-4A7D-94C9-AB49A4104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14F2-D453-4664-885C-EBAD70081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900C-5F1D-4A87-A08E-1471E860F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1545-8415-4C4A-944E-5EEF9932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FB87-9686-4799-AB44-567554CB9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98DA-3C3E-4EA9-B592-5DA91570F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CFA2-B77A-4A9C-89FF-5F2E4A80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6B9E-58A5-4A71-91D6-174A39CAF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679B-3C09-44CF-8205-3FBBC478E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A6A0-0F77-406C-BE79-5CEA3EE22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1613-8AE8-4775-9F91-004D8808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33480" y="1523880"/>
            <a:ext cx="727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LCATRAZ PRISON, AND THE NAME OF A 1996 FILM THAT TAKES PLAC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290600" y="762120"/>
            <a:ext cx="6562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    OF THE DRUMMER ON "THE MUPPE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-38160" y="487692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HH  (HUBERT  HORATIO  HUMPHR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9080" y="762120"/>
            <a:ext cx="73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INITIALS OF LYNDON JOHNSON'S VIC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GUITARIST FOR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90520" y="771480"/>
            <a:ext cx="6762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SKIEST SURGERY IS ON WHAT OR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4800" y="762120"/>
            <a:ext cx="739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THE MUSICAL GROUP THE POL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16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DGE MODE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035080" y="1979640"/>
            <a:ext cx="5073840" cy="28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RLD'S  STRONGEST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31640" y="914400"/>
            <a:ext cx="4821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NUAL COMPETITION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29360" y="457200"/>
            <a:ext cx="25574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09600" y="762120"/>
            <a:ext cx="6724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    OF THE DRUMMER ON "THE MUPPE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DERT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JOHNNY CASH HAVE EARLY IN HIS CAREER, BECAUSE OF HIS TENDENCY TO DRESS ENTIRELY IN BL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635040" y="762120"/>
            <a:ext cx="787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LCATRAZ PRISON, AND THE NAME OF A 1996 FILM THAT TAKES PLAC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79280" y="4876920"/>
            <a:ext cx="878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PRO  WREST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INITIALS OF LYNDON JOHNSON'S VIC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7080" y="762120"/>
            <a:ext cx="76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GUITARIST FOR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90520" y="762120"/>
            <a:ext cx="6762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SKIEST SURGERY IS ON WHAT OR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3880" y="762120"/>
            <a:ext cx="7356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THE MUSICAL GROUP THE POL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08080" y="761760"/>
            <a:ext cx="872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DGE MODE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035080" y="1979640"/>
            <a:ext cx="507384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78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NUAL COMPETITION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129360" y="457200"/>
            <a:ext cx="25574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8680" y="762120"/>
            <a:ext cx="848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JOHNNY CASH HAVE EARLY IN HIS CAREER, BECAUSE OF HIS TENDENCY TO DRESS ENTIRELY IN BL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05T12:23:07Z</dcterms:modified>
  <cp:revision>436</cp:revision>
  <dc:subject/>
  <dc:title>Slide 1</dc:title>
</cp:coreProperties>
</file>