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33EB-DC85-418C-9A92-85F41B334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EB5C-A66C-4C1C-B9B8-F51B496CE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6822-8A8F-4C18-93EE-85E3A0A6B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9122-474C-445D-BA20-0598A39F4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61AE-6EDF-4969-B296-74152093C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9449-F8EA-4C0B-907B-2BFE0AC90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9ED8-90BA-4E58-A1CF-784CE4FBD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F907-FF4F-48F8-989E-1E27DF2B8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959B-824B-4DBB-B8B0-8D7F79694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36FD-3F99-4F5A-90B8-01985518D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E74A-9BF8-4C62-B6F5-385DE3B7D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FEBB-060D-4120-919A-4D7659173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6910-D87E-47F9-9A20-281805CEF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7ECF-2C98-40F8-8550-52DBA98C7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CD40-FB4F-4784-BA86-285377F88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EBF1-BE7C-499A-9236-66FF18ABC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607E-04E8-43A6-B6CA-6C0A81974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1BDD-3D22-451A-A15F-596C45194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66B3-F658-4AAF-8A10-9C04EC9AF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E669-DE7F-4F75-8116-F5B749A97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231F-B7F9-40B8-94A8-3BBBCD49E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A428-DD53-4F55-90D9-32D421D85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8C08-8F61-46BB-9E37-A98F92A5C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D ZEPPELIN SONG HAS BEEN CALLED "THE MOST POPULAR ROCK SONG OF ALL TI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N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14280" y="762120"/>
            <a:ext cx="6715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ACE SHUTTLE IS NOW ON DISPLAY AT CAPE CANAVE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20840" y="762120"/>
            <a:ext cx="8302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V'S "I DREAM OF JEANN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R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MUSICAL GROUP'S #1 HITS INCLUDE "HEART-SHAPED BOX", "ABOUT A GIRL", AND "YOU KNOW YOU'RE R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YMP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9240" y="771480"/>
            <a:ext cx="870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ANNOUNCED IN 2020 THAT IT IS LEAVING THE PERSONAL CAMERA BUSINESS IN FAVOR OF ENDOSCOPE AND ULTRASOUND EQUIP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HANGRI–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23840" y="762120"/>
            <a:ext cx="709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0'S GIRL GROUP SANG THE #1 SONG "LEADER OF THE P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  DOR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71360" y="762120"/>
            <a:ext cx="880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ARD HAWKS DIRECTED 3 WESTERNS WITH SPANISH NAMES IN WHICH JOHN WAYNE PLAYED A SHERIFF: "RIO BRAVO", "RIO LOBO"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O  TICKETS  TO  PARAD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28480" y="762120"/>
            <a:ext cx="808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DDIE MONEY'S SIGNATURE SONG, WHICH HE WROTE ABOUT TAKING HIS GIRLFRIEND ON VA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17160" y="762120"/>
            <a:ext cx="6707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ACE SHUTTLE IS NOW ON DISPLAY AT CAPE CANAVE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IE  AVA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32040" y="762120"/>
            <a:ext cx="727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TEEN     IDOL CHARTED OVER 30 SINGLES FROM 1958 TO 1962, INCLUDING THE #1 HITS "VENUS" AND "WH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IRWAY  TO 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87320" y="762120"/>
            <a:ext cx="7569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D ZEPPELIN SONG HAS BEEN CALLED "THE MOST POPULAR ROCK SONG OF ALL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004760" y="4343400"/>
            <a:ext cx="713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MYTHICAL  PL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0600" y="761760"/>
            <a:ext cx="8362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V'S "I DREAM OF JEANN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19280" y="762120"/>
            <a:ext cx="7705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MUSICAL GROUP'S #1 HITS INCLUDE "HEART-SHAPED BOX", "ABOUT A GIRL", AND "YOU KNOW YOU'RE R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ANNOUNCED IN 2020 THAT IT IS LEAVING THE PERSONAL CAMERA BUSINESS IN FAVOR OF ENDOSCOPE AND ULTRASOUND EQUIP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82640" y="762120"/>
            <a:ext cx="757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0'S GIRL GROUP SANG THE #1 SONG "LEADER OF THE P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2160" y="761760"/>
            <a:ext cx="897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ARD HAWKS DIRECTED 3 WESTERNS WITH SPANISH NAMES IN WHICH JOHN WAYNE PLAYED A SHERIFF: "RIO BRAVO", "RIO LOBO"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DDIE MONEY'S SIGNATURE SONG, WHICH HE WROTE ABOUT TAKING HIS GIRLFRIEND ON VAC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TEEN     IDOL CHARTED OVER 30 SINGLES FROM 1958 TO 1962, INCLUDING THE #1 HITS "VENUS" AND "WH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13T13:11:20Z</dcterms:modified>
  <cp:revision>428</cp:revision>
  <dc:subject/>
  <dc:title>Slide 1</dc:title>
</cp:coreProperties>
</file>