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05B04-E4BC-4D00-8421-607B06454E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E76A9-2808-4B25-A25A-C6FB7808A1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80B0E-6C70-46D9-AF86-5AA62AA173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5A272-E609-4354-8840-60F3BF80C7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B4F29-81AE-44C4-BE32-027D807437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148EC-B9FC-4D4D-A47C-9846CFB4C9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FCF36-5F72-4FE6-865C-3C8ADC9C3A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AF0AD-1693-4EB3-91DC-A21ACC7AAF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E362B-4C91-491A-95CC-887AE9DD4B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89583-389B-424C-95C8-FD08EB0FF8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E4AAD-5B9F-4BCF-9E64-DC903565DA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277EE-AD72-4DE9-AA88-9C4FFB36F3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B1272-0DA9-473B-959C-D041B1403B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2143F-4C99-4396-A889-6509CA4D31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46CCD-5680-4464-9421-0ECC5D6910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061D8-9971-433B-8EF1-3F555EA685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A94D7-B3C7-483C-9A7C-D43B842517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B806C-D5E6-4CAB-8259-ABBC0204A9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E4E41-E700-4604-A2E8-E05FA2B7A2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889AB-EACD-4EF4-9072-430EB3E8D4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E2C09-05B6-45E3-8EBE-1BC0EFACD5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11C80-DC03-4E3B-B359-6E7E7029C4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CDAB6-21AA-4E4D-8CD1-D82F2641C8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485720" y="1523880"/>
            <a:ext cx="61722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1009800" y="761760"/>
            <a:ext cx="7124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LED ZEPPELIN SONG HAS BEEN CALLED "THE MOST POPULAR ROCK SONG OF ALL TIM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457200" y="4876920"/>
            <a:ext cx="8229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TLANT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1214280" y="762120"/>
            <a:ext cx="671544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SPACE SHUTTLE IS NOW ON DISPLAY AT CAPE CANAVERA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ARBARA  ED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420840" y="762120"/>
            <a:ext cx="83023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THE TITLE ROLE IN TV'S "I DREAM OF JEANNI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IRVA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685800" y="7621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LTERNATIVE MUSICAL GROUP'S #1 HITS INCLUDE "HEART-SHAPED BOX", "ABOUT A GIRL", AND "YOU KNOW YOU'RE RIGH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1523880" y="4886280"/>
            <a:ext cx="60962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LYMP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219240" y="771480"/>
            <a:ext cx="87055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MPANY ANNOUNCED IN 2020 THAT IT IS LEAVING THE PERSONAL CAMERA BUSINESS IN FAVOR OF ENDOSCOPE AND ULTRASOUND EQUIPME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SHANGRI–L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1023840" y="762120"/>
            <a:ext cx="70963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60'S GIRL GROUP SANG THE #1 SONG "LEADER OF THE PACK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87692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L  DORAD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171360" y="762120"/>
            <a:ext cx="88012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ARD HAWKS DIRECTED 3 WESTERNS WITH SPANISH NAMES IN WHICH JOHN WAYNE PLAYED A SHERIFF: "RIO BRAVO", "RIO LOBO", AND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000080" y="4876920"/>
            <a:ext cx="71438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WO  TICKETS  TO  PARADI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528480" y="762120"/>
            <a:ext cx="80870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EDDIE MONEY'S SIGNATURE SONG, WHICH HE WROTE ABOUT TAKING HIS GIRLFRIEND ON VACAT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217160" y="762120"/>
            <a:ext cx="67071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SPACE SHUTTLE IS NOW ON DISPLAY AT CAPE CANAVERA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380880" y="487692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RANKIE  AVAL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932040" y="762120"/>
            <a:ext cx="72799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ORMER TEEN     IDOL CHARTED OVER 30 SINGLES FROM 1958 TO 1962, INCLUDING THE #1 HITS "VENUS" AND "WH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190440" y="4876920"/>
            <a:ext cx="8763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 marL="246960" indent="-2469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AIRWAY  TO  HEAV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787320" y="762120"/>
            <a:ext cx="75693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LED ZEPPELIN SONG HAS BEEN CALLED "THE MOST POPULAR ROCK SONG OF ALL TIM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1004760" y="4343400"/>
            <a:ext cx="71344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NTAIN  NAMES  OF  MYTHICAL  PLA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90600" y="761760"/>
            <a:ext cx="8362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THE TITLE ROLE IN TV'S "I DREAM OF JEANNI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719280" y="762120"/>
            <a:ext cx="77054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LTERNATIVE MUSICAL GROUP'S #1 HITS INCLUDE "HEART-SHAPED BOX", "ABOUT A GIRL", AND "YOU KNOW YOU'RE RIGH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285840" y="762120"/>
            <a:ext cx="85723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MPANY ANNOUNCED IN 2020 THAT IT IS LEAVING THE PERSONAL CAMERA BUSINESS IN FAVOR OF ENDOSCOPE AND ULTRASOUND EQUIPMEN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782640" y="762120"/>
            <a:ext cx="75787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60'S GIRL GROUP SANG THE #1 SONG "LEADER OF THE PACK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92160" y="761760"/>
            <a:ext cx="8975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ARD HAWKS DIRECTED 3 WESTERNS WITH SPANISH NAMES IN WHICH JOHN WAYNE PLAYED A SHERIFF: "RIO BRAVO", "RIO LOBO", AND WHA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552600" y="761760"/>
            <a:ext cx="80388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EDDIE MONEY'S SIGNATURE SONG, WHICH HE WROTE ABOUT TAKING HIS GIRLFRIEND ON VACATI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914400" y="762120"/>
            <a:ext cx="73152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ORMER TEEN     IDOL CHARTED OVER 30 SINGLES FROM 1958 TO 1962, INCLUDING THE #1 HITS "VENUS" AND "WHY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28T16:34:55Z</dcterms:created>
  <dc:creator>Jennifer Budzinski</dc:creator>
  <dc:description/>
  <dc:language>en-US</dc:language>
  <cp:lastModifiedBy>Erich Friedman</cp:lastModifiedBy>
  <dcterms:modified xsi:type="dcterms:W3CDTF">2022-11-13T13:11:20Z</dcterms:modified>
  <cp:revision>428</cp:revision>
  <dc:subject/>
  <dc:title>Slide 1</dc:title>
</cp:coreProperties>
</file>