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A966-52EA-48EB-AF5F-6A8607FB6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ED40-6A1A-4605-ADAC-DDEE90C59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8658-B9CE-47A0-AE3E-2441D259E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97A7-C76F-4899-8A80-2F3E72953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70A4-8A86-49D9-90EE-B2B5B64EA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2151-459E-4293-8BBE-335FF0918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6359-4D16-41FB-BE1D-A129DF8C1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03B2-AECE-41A8-BEBF-84F67CAA0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31B5-725C-4C9B-BE16-F9441FB4D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10A8-24AF-4123-99FD-240ADC53F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F9FD-AA3A-4EAD-9B7A-5882033FB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241E-5862-459C-AFDA-4CE11A827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B6EC-F082-4A79-88B1-D89EF6C3D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0144-C295-4176-A69D-48A53C73D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CBCA-0A2E-4DB0-90C3-53F2D98C9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8660-485F-4FB8-9734-42B61945E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7699-B306-4183-8031-BA60813FF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9283-02E4-4DF6-A462-A3255495A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9FD6-3821-4F46-928D-EC2A8DABD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CC29-9A87-42A2-835A-DEF38A4BF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57E1-B377-4E7F-A9BE-927F5EFE4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F450-FAEB-4F32-A145-E10EE09BC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9D95-3362-4EDC-9A61-234311A1E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6280" y="1523880"/>
            <a:ext cx="8191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28760" y="761760"/>
            <a:ext cx="8286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HAD THE #1 HITS "YOU'LL THINK OF ME", "SOMEBODY LIKE YOU", "YOU LOOK GOOD IN MY SHIRT", AND "WITHOUT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A  ABD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58760" y="762120"/>
            <a:ext cx="8826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#1 HITS "STRAIGHT UP", "COLD HEARTED", "OPPOSITES ATTRACT", AND THE TITLE TRACK "FOREVER YOUR GIRL", ALL FROM HER DEBUT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EN  DEGEN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20640" y="762120"/>
            <a:ext cx="7900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AN VOICED DORY IN "FINDING NEMO" AND "FINDING D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N  TY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66640" y="762120"/>
            <a:ext cx="800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AEROSM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Y  P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65280" y="762120"/>
            <a:ext cx="781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OST FOLLOWED FEMALE ON TWI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LOP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6800" y="762120"/>
            <a:ext cx="7608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ERSON TO HAVE A #1 ALBUM AND BE A STAR OF A #1 MOVIE ("THE WEDDING PLANNER") IN THE SAME WE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C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55560" y="762120"/>
            <a:ext cx="7831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CORD EXECUTIVE ARGUABLY STARTED REALITY TV COMPETITIONS, WITH "THE X FACTOR" AND "BRITAIN'S GOT TAL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ONEL  RICH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85760" y="762120"/>
            <a:ext cx="6972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COMMODORES MADE IT BIG AS A SOLO ART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4760" y="762120"/>
            <a:ext cx="893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#1 HITS "STRAIGHT UP", "COLD HEARTED", "OPPOSITES ATTRACT", AND THE TITLE TRACK "FOREVER YOUR GIRL", ALL FROM HER DEBUT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A  CA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03280" y="762120"/>
            <a:ext cx="8137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FORMER, KNOWN AS "THE QUEEN OF CHRISTMAS", WAS THE BEST-SELLING FEMALE POP ARTIST OF    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ITH  URB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33440" y="762120"/>
            <a:ext cx="82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HAD THE #1 HITS "YOU'LL THINK OF ME", "SOMEBODY LIKE YOU", "YOU LOOK GOOD IN MY SHIRT", AND "WITHOUT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4480" y="487692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STED  "AMERICAN  IDO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5040" y="761760"/>
            <a:ext cx="7691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AN VOICED DORY IN "FINDING NEMO" AND "FINDING D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11280" y="762120"/>
            <a:ext cx="7920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AEROSM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92200" y="762120"/>
            <a:ext cx="795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OST FOLLOWED FEMALE ON TWIT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52400" y="762120"/>
            <a:ext cx="7639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ERSON TO HAVE A #1 ALBUM AND BE A STAR OF A #1 MOVIE ("THE WEDDING PLANNER") IN THE SAME WEE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3880" y="761760"/>
            <a:ext cx="7896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CORD EXECUTIVE ARGUABLY STARTED REALITY TV COMPETITIONS, WITH "THE X FACTOR" AND "BRITAIN'S GOT TAL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COMMODORES MADE IT BIG AS A SOLO ART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49280" y="762120"/>
            <a:ext cx="8244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FORMER, KNOWN AS "THE QUEEN OF CHRISTMAS", WAS THE BEST-SELLING FEMALE POP ARTIST OF    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13T13:17:39Z</dcterms:modified>
  <cp:revision>526</cp:revision>
  <dc:subject/>
  <dc:title>Slide 1</dc:title>
</cp:coreProperties>
</file>