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75F2-08DF-4BB8-9219-09A200AD6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4886-8C79-4E6F-913F-F74590E3A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B623-912D-4F72-AACE-058D5BEE6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0D12-3E5B-4F97-9D55-18CC935BD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D859-559B-4DA1-8444-447A07419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2CEC-1D0C-4E73-825C-1D83CC19B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CCE6-579F-45BB-B3A1-46490ABD0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D611-2B98-469E-A77F-3BB8FC181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91CD-9B55-4CE5-818F-F7BA4AFE9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D670-AC8B-4696-AEDF-3AFB8E024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C4A3-7CEA-4FA2-9A04-06FC38947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D34A-DCF8-4AFF-9393-BC93365EE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6DAD-0013-4AA3-A644-814C4D777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92A8-33E7-4CC2-A0BF-E1436C08D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0737-5D66-4AEA-BCC2-965568F2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F702-FD04-4918-9F4A-954FE7044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C1D7-DC20-4099-B1C4-3DE5F02CC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F1F9-5293-4565-9FD4-459C7C13F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D0C7-3EB3-4E12-B351-41182790F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A445-68FD-4605-968B-17FF6288F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F685-6F13-4370-86CB-A5C3EDAC6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0402-3914-4204-8E7B-F17F5F3F5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81C3-C79A-45F7-863A-5A8FD0FE5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6280" y="1523880"/>
            <a:ext cx="8191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HAD THE #1 HITS "YOU'LL THINK OF ME", "SOMEBODY LIKE YOU", "YOU LOOK GOOD IN MY SHIRT", AND "WITHOU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A  ABD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58760" y="762120"/>
            <a:ext cx="8826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#1 HITS "STRAIGHT UP", "COLD HEARTED", "OPPOSITES ATTRACT", AND THE TITLE TRACK "FOREVER YOUR GIRL", ALL FROM HER DEBUT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EN  DEGEN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20640" y="762120"/>
            <a:ext cx="7900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VOICED DORY IN "FINDING NEMO" AND "FINDING D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T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66640" y="762120"/>
            <a:ext cx="800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AEROSM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Y  P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5280" y="762120"/>
            <a:ext cx="781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 FOLLOWED FEMALE ON TWI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6800" y="762120"/>
            <a:ext cx="7608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RSON TO HAVE A #1 ALBUM AND BE A STAR OF A #1 MOVIE ("THE WEDDING PLANNER") IN THE SAME WE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C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55560" y="762120"/>
            <a:ext cx="7831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ORD EXECUTIVE ARGUABLY STARTED REALITY TV COMPETITIONS, WITH "THE X FACTOR" AND "BRITAIN'S GOT TAL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EL  RICH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85760" y="762120"/>
            <a:ext cx="6972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COMMODORES MADE IT BIG AS A SOLO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4760" y="762120"/>
            <a:ext cx="893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#1 HITS "STRAIGHT UP", "COLD HEARTED", "OPPOSITES ATTRACT", AND THE TITLE TRACK "FOREVER YOUR GIRL", ALL FROM HER DEBUT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  CA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3280" y="762120"/>
            <a:ext cx="813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FORMER, KNOWN AS "THE QUEEN OF CHRISTMAS", WAS THE BEST-SELLING FEMALE POP ARTIST OF    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URB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3440" y="762120"/>
            <a:ext cx="82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HAD THE #1 HITS "YOU'LL THINK OF ME", "SOMEBODY LIKE YOU", "YOU LOOK GOOD IN MY SHIRT", AND "WITHOU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4480" y="487692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STED  "AMERICAN  IDO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VOICED DORY IN "FINDING NEMO" AND "FINDING D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11280" y="762120"/>
            <a:ext cx="79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AEROSM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92200" y="762120"/>
            <a:ext cx="795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 FOLLOWED FEMALE ON TWI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52400" y="762120"/>
            <a:ext cx="763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RSON TO HAVE A #1 ALBUM AND BE A STAR OF A #1 MOVIE ("THE WEDDING PLANNER") IN THE SAME WEE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6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ORD EXECUTIVE ARGUABLY STARTED REALITY TV COMPETITIONS, WITH "THE X FACTOR" AND "BRITAIN'S GOT TAL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COMMODORES MADE IT BIG AS A SOLO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49280" y="762120"/>
            <a:ext cx="8244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FORMER, KNOWN AS "THE QUEEN OF CHRISTMAS", WAS THE BEST-SELLING FEMALE POP ARTIST OF    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13T13:17:39Z</dcterms:modified>
  <cp:revision>526</cp:revision>
  <dc:subject/>
  <dc:title>Slide 1</dc:title>
</cp:coreProperties>
</file>