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8996-2D72-46B7-A18F-BEA5E2D61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E4B7-1CAA-4A1F-9B5A-04776917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311D-48C8-4159-87E9-FD4BEB36D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91FC-16EF-466E-A358-E3B67EEB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28BC-B78E-4431-AB54-F30712245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545-02B5-46F8-BF71-A244971A0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5272-1BC7-473A-9F44-B21A48FC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FABC-C356-4215-BDE9-C0233225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187C-7A1B-4EC0-9459-1703B939D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50B6-308C-443D-A7F5-A4DD7F1B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6113-00E6-4335-9D18-265012B96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ACB6-5302-4637-AA8C-5FCB9085A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CFE-8ACE-4072-8031-2B173AC03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722F-C87B-4553-8606-C918F50B4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E075-6567-4A43-8594-4E2A56F44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76F7-6437-4B96-A597-DAA225527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3807-485B-4F7F-A875-FB9024877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22E5-7C3C-452C-AE70-4C5E6CA8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A035-2E1D-4D9C-BB0D-EE9240A81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6C2-EB36-4F75-9134-D7B2B531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29203-8124-46C0-9130-DC4D72DF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40BA-4475-41ED-8413-C8AE89882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440F-6991-4784-A844-F17149F20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38080" y="152388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REMAINS A WORD WHEN FOLLOWED BY  THE LETTERS "B", "E", OR "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KATE)  M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ZE-0 BRITISH MODEL WHO WAS PART OF THE "HEROIN CHIC" LOOK OF CALVIN KLEIN IN THE 9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14520" y="762120"/>
            <a:ext cx="791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ATEN FOOD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FAMOUS QUOTE BY THOMAS PHAER, WHAT ARE THE WINDOWS TO THE S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76920"/>
            <a:ext cx="60962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76200" y="762120"/>
            <a:ext cx="838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PEOPLE IN THE CATHOLIC CHURCH, ESTABLISHED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RANCE, WAS DESIGNED TO COMBAT HERE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88960" y="762120"/>
            <a:ext cx="796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ED IN 1996, THE MOST FAMOUS SATIRICAL NEWS WEBSITE IS "THE"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FULL-SIZE SUV MODEL, WHICH IS ALSO THE CZECH AND SLOVAK WORD FOR "ARMED FOR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8800" y="762120"/>
            <a:ext cx="8364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86 SCIENCE FICTION FILM REMAKE, TELEPORTATION SCIENTIST JEFF GOLDBLUM IS TRANSFORMED INTO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1560" y="762120"/>
            <a:ext cx="794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ZE-0 BRITISH MODEL WHO WAS PART OF THE "HEROIN CHIC" LOOK OF CALVIN KLEIN IN THE 9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E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20680" y="762120"/>
            <a:ext cx="870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NNER WAS NAPOLEON MADE BY A FRENCH INNKEEPER WHICH IMPRESSED HIM ENOUGH TO ORDER ALL THE EGGS IN TOWN BE COLL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9960" y="762120"/>
            <a:ext cx="834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REMAINS A WORD WHEN FOLLOWED BY  THE LETTERS "B", "E", OR "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542960" y="4876920"/>
            <a:ext cx="6058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SPANIS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ATEN FOOD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7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A FAMOUS QUOTE BY THOMAS PHAER, WHAT ARE THE WINDOWS TO THE SO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PEOPLE IN THE CATHOLIC CHURCH, ESTABLISHED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FRANCE, WAS DESIGNED TO COMBAT HERE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63400" y="762120"/>
            <a:ext cx="8017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ARTED IN 1996, THE MOST FAMOUS SATIRICAL NEWS WEBSITE IS "THE"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6200" y="761760"/>
            <a:ext cx="83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FULL-SIZE SUV MODEL, WHICH IS ALSO THE CZECH AND SLOVAK WORD FOR "ARMED FOR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1986 SCIENCE FICTION FILM REMAKE, TELEPORTATION SCIENTIST JEFF GOLDBLUM IS TRANSFORMED INTO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0680" y="762120"/>
            <a:ext cx="8702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NNER WAS NAPOLEON MADE BY A FRENCH INNKEEPER WHICH IMPRESSED HIM ENOUGH TO ORDER ALL THE EGGS IN TOWN BE COLLEC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1-13T13:23:15Z</dcterms:modified>
  <cp:revision>453</cp:revision>
  <dc:subject/>
  <dc:title>Slide 1</dc:title>
</cp:coreProperties>
</file>