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BE2-9D5F-4DDC-905E-2BACAB92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EFA-0C09-4D6F-9848-EB78407C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38B-9208-46E5-BC96-3F352647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AD9-BC56-4FF1-8C10-6B4497F4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CBCA-5DF1-4A34-8CAF-C453A4DC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4AC-3BEF-4C73-9F8A-D81B93A8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756-5829-486F-80B3-F1C7D811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E236-1777-4E07-9866-17AC8B525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E40-5A5B-41DA-B16E-1B566BFC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78C7-821D-489E-8566-4C976849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08E-6C1A-4ABD-938F-B924656E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1E0A-234B-4D20-82EF-24FEF143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E479-4FA5-4517-9098-B9F50B27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8AC9-C5FC-4EAF-AD52-5044A051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2E8B-A94B-42A4-81A6-4638167D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4AD-CA9F-4716-AADF-3CA6A22E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C26A-3C6E-4219-989D-0C8DAA87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AD4-4481-4CF1-A248-01DDB57C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27B-4C5D-4F37-8D18-F056A64A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8E90-A226-4FAF-ACD1-7D833199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24ED-0EA3-4387-9E9F-D48428AF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6C4-FC28-4768-AED3-9E96E132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CB7-B680-433D-8B9F-20A12D5B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REMAINS A WORD WHEN FOLLOWED BY  THE LETTERS "B", "E", OR "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ATE)  M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ZE-0 BRITISH MODEL WHO WAS PART OF THE "HEROIN CHIC" LOOK OF CALVIN KLEIN IN THE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14520" y="762120"/>
            <a:ext cx="791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ATEN FOOD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FAMOUS QUOTE BY THOMAS PHAER, WHAT ARE THE WINDOWS TO THE S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76920"/>
            <a:ext cx="6096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76200" y="762120"/>
            <a:ext cx="83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PEOPLE IN THE CATHOLIC CHURCH, ESTABLISHED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RANCE, WAS DESIGNED TO COMBAT HERE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88960" y="762120"/>
            <a:ext cx="796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ED IN 1996, THE MOST FAMOUS SATIRICAL NEWS WEBSITE IS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FULL-SIZE SUV MODEL, WHICH IS ALSO THE CZECH AND SLOVAK WORD FOR "ARMED FOR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8800" y="762120"/>
            <a:ext cx="8364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86 SCIENCE FICTION FILM REMAKE, TELEPORTATION SCIENTIST JEFF GOLDBLUM IS TRANSFORMED INTO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1560" y="762120"/>
            <a:ext cx="794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ZE-0 BRITISH MODEL WHO WAS PART OF THE "HEROIN CHIC" LOOK OF CALVIN KLEIN IN THE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E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0680" y="762120"/>
            <a:ext cx="870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NNER WAS NAPOLEON MADE BY A FRENCH INNKEEPER WHICH IMPRESSED HIM ENOUGH TO ORDER ALL THE EGGS IN TOWN BE COLL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9960" y="762120"/>
            <a:ext cx="834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REMAINS A WORD WHEN FOLLOWED BY  THE LETTERS "B", "E", OR "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42960" y="4876920"/>
            <a:ext cx="605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PANIS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ATEN FOOD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7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FAMOUS QUOTE BY THOMAS PHAER, WHAT ARE THE WINDOWS TO THE S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PEOPLE IN THE CATHOLIC CHURCH, ESTABLISHED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RANCE, WAS DESIGNED TO COMBAT HERE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63400" y="762120"/>
            <a:ext cx="8017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ED IN 1996, THE MOST FAMOUS SATIRICAL NEWS WEBSITE IS "THE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FULL-SIZE SUV MODEL, WHICH IS ALSO THE CZECH AND SLOVAK WORD FOR "ARMED FOR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86 SCIENCE FICTION FILM REMAKE, TELEPORTATION SCIENTIST JEFF GOLDBLUM IS TRANSFORMED INTO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NNER WAS NAPOLEON MADE BY A FRENCH INNKEEPER WHICH IMPRESSED HIM ENOUGH TO ORDER ALL THE EGGS IN TOWN BE COLLE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23:15Z</dcterms:modified>
  <cp:revision>453</cp:revision>
  <dc:subject/>
  <dc:title>Slide 1</dc:title>
</cp:coreProperties>
</file>