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029D-D341-4F41-BF41-3B14E4E6F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F32F-C8F5-4CEE-BB42-F00E994F2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4765-3ED9-4C25-8222-DDCF9B1EA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A44B-EAE8-404D-81F8-FFEB64DD4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31C9-77DA-4BEF-B085-9E645C4B2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4F3A-6232-48F8-9361-1C0B42CAF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AB9B-FD24-45C9-AA69-DC73A6B50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EA7D-7AB0-4CAF-A771-3D03612EA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5913-A72C-49D4-AA91-6D13BC0F3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9677-5265-4189-985E-C95376400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1DA0-869F-46BC-B640-C2C84E031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9763-C0C3-427D-83FC-0632AAE94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2313-68FA-4236-849B-F3F81E9D4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E9C6-2300-4A2C-8BEA-D39023C98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4746-2FE1-4D6F-8E5B-0EE700F81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14DE-E6A6-46C9-99A0-1BE3D5276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E8EF-B776-4DE1-A6BE-1C3764316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825D-3041-45FD-8565-0733BE325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B2F1-BDE5-44C6-8535-537151F75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4478-E8C0-445A-AB02-33231EF2E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FADC-CF46-4226-879E-6DE7C30DF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D051-CEE5-4B3C-879A-997EC1227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CDE7-700E-47E0-BF53-E09B9B269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81160" y="1523880"/>
            <a:ext cx="6781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3 MONSTER FILM WAS REMADE IN 1976 AND 2005, BEING IN THE TOP 5 MONEY-MAKING MOVIES EACH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NTASTIC  F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TEAM HAVE STARRED IN FILMS IN 1992, 2005, 2007, AND 2015, ALL OF WHICH GOT BAD REVIEW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WAS MADE IN 1924, 1953, AND 2003 ABOUT THE BOY WHO NEVER GROWS 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CTOR  DOLI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RED REX HARRISON AS THE TITLE CHARACTER IN 1967, AND EDDIE MURPHY IN THE REMAKE IN 19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1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D  WILD  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STEAMPUNK FILM STARRING WILL SMITH AND KEVIN KLINE WAS BASED ON A POPULAR 1960'S TV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NE  GI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FILM DOES BEN AFFLECK'S CHARACTER'S WIFE DISAPPEAR ON THEIR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EDDING ANNIVER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  WOMEN  W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38080" y="762120"/>
            <a:ext cx="74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0 FILM DOES MEL GIBSON'S CHARACTER HAVE THE ABILITY TO HEAR FEMALES' THOUGH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MMA  MI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MUSICAL FILM IS BASED ON AN ABBA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TEAM HAVE STARRED IN FILMS IN 1992, 2005, 2007, AND 2015, ALL OF WHICH GOT BAD REVIEW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816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E  BYE  BIRD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3 MUSICAL FILM STARS JANET LEIGH, ANN-MARGARET, AND DICK VAN DYKE IN HIS FILM DEB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  K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3 MONSTER FILM WAS REMADE IN 1976 AND 2005, BEING IN THE TOP 5 MONEY-MAKING MOVIES EACH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19040" y="434340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ORDS  IN  EACH  TITLE  ALL START  WITH  THE  SAME  L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2396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WAS MADE IN 1924, 1953, AND 2003 ABOUT THE BOY WHO NEVER GROWS 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RED REX HARRISON AS THE TITLE CHARACTER IN 1967, AND EDDIE MURPHY IN THE REMAKE IN 19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STEAMPUNK FILM STARRING WILL SMITH AND KEVIN KLINE WAS BASED ON A POPULAR 1960'S TV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FILM DOES BEN AFFLECK'S CHARACTER'S WIFE DISAPPEAR ON THEIR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EDDING ANNIVERS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0 FILM DOES MEL GIBSON'S CHARACTER HAVE THE ABILITY TO HEAR FEMALES' THOUGHT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MUSICAL FILM IS BASED ON AN ABBA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3 MUSICAL FILM STARS JANET LEIGH, ANN-MARGARET, AND DICK VAN DYKE IN HIS FILM DEBU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8T18:13:01Z</dcterms:created>
  <dc:creator>Jennifer Budzinski</dc:creator>
  <dc:description/>
  <dc:language>en-US</dc:language>
  <cp:lastModifiedBy>Erich Friedman</cp:lastModifiedBy>
  <dcterms:modified xsi:type="dcterms:W3CDTF">2020-08-25T14:33:13Z</dcterms:modified>
  <cp:revision>380</cp:revision>
  <dc:subject/>
  <dc:title>Slide 1</dc:title>
</cp:coreProperties>
</file>