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8178-EA8E-4E3D-9664-05B81643C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C7CC-E255-4C51-AF84-7AED45A87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4589-DA83-4343-A3FF-0DB4BE607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F474-ACC7-4381-9469-05F8C138A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EA56-BDB5-463A-B314-98B5EBD6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F190-B3E0-42D3-8785-731ACF9D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39B8-3608-4118-A166-38CFBE694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316D-A9C6-455D-94E5-A9183862A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494F-6FCA-49FA-A29D-5D4041CC1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A01E-2CEF-46A5-AA99-5E9B0D39A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A65F-6BCA-4567-B69C-4CF1B3D69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442D-CB33-4CD7-8C41-B818A03CB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7AC0-53DA-47C4-9986-C5230B61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C6E3-E066-470F-8FD8-C13AE44B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B9CF-82BC-4269-A5D4-4EAB5895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0816-DE78-4193-8FA6-849868A91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D0B0-C07C-4057-A16E-A803F8610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A2AE-6C06-4AB9-8535-F96BEFD48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4217-1F94-453A-91A1-5B72AE48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BA05-3F74-4635-81B3-53A54A63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28B5-D17C-44C2-BB20-C18595ADB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B0DF-BFDE-4F46-B77B-D001C779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C441-7E66-4A83-9078-AA715B7B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3 MONSTER FILM WAS REMADE IN 1976 AND 2005, BEING IN THE TOP 5 MONEY-MAKING MOVIES EACH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STIC 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TEAM HAVE STARRED IN FILMS IN 1992, 2005, 2007, AND 2015, ALL OF WHICH GOT BAD REVI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MADE IN 1924, 1953, AND 2003 ABOUT THE BOY WHO NEVER GROWS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DO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ED REX HARRISON AS THE TITLE CHARACTER IN 1967, AND EDDIE MURPHY IN THE REMAKE IN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WILD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FILM STARRING WILL SMITH AND KEVIN KLINE WAS BASED ON A POPULAR 1960'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BEN AFFLECK'S CHARACTER'S WIFE DISAPPEAR ON THEIR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WOMEN  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0 FILM DOES MEL GIBSON'S CHARACTER HAVE THE ABILITY TO HEAR FEMALES' THOUGH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IS BASED ON AN ABBA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TEAM HAVE STARRED IN FILMS IN 1992, 2005, 2007, AND 2015, ALL OF WHICH GOT BAD REVI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E  BYE  BIR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MUSICAL FILM STARS JANET LEIGH, ANN-MARGARET, AND DICK VAN DYKE IN HIS FILM DEB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3 MONSTER FILM WAS REMADE IN 1976 AND 2005, BEING IN THE TOP 5 MONEY-MAKING MOVIES EAC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19040" y="43434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DS  IN  EACH  TITLE  ALL START  WITH  THE  SAME 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MADE IN 1924, 1953, AND 2003 ABOUT THE BOY WHO NEVER GROWS 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ED REX HARRISON AS THE TITLE CHARACTER IN 1967, AND EDDIE MURPHY IN THE REMAKE IN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FILM STARRING WILL SMITH AND KEVIN KLINE WAS BASED ON A POPULAR 1960'S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BEN AFFLECK'S CHARACTER'S WIFE DISAPPEAR ON THEIR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0 FILM DOES MEL GIBSON'S CHARACTER HAVE THE ABILITY TO HEAR FEMALES' THOUGH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IS BASED ON AN ABBA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MUSICAL FILM STARS JANET LEIGH, ANN-MARGARET, AND DICK VAN DYKE IN HIS FILM DEB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8:13:01Z</dcterms:created>
  <dc:creator>Jennifer Budzinski</dc:creator>
  <dc:description/>
  <dc:language>en-US</dc:language>
  <cp:lastModifiedBy>Erich Friedman</cp:lastModifiedBy>
  <dcterms:modified xsi:type="dcterms:W3CDTF">2020-08-25T14:33:13Z</dcterms:modified>
  <cp:revision>380</cp:revision>
  <dc:subject/>
  <dc:title>Slide 1</dc:title>
</cp:coreProperties>
</file>