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243A-9486-4627-A445-822E13B5B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C301-264D-4694-BE6D-AB934C7B1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54C3-4A91-4EAB-8579-D8DA17298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8D87-9A4B-42A9-A73D-6E50C2DE5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F4A3-2AAB-4AFE-98BC-DC1F6151A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BDF-C2B7-4F98-B2B8-97D4326DA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12F9-B185-4939-AD4F-16036EAE7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3BA8-2699-425A-BA77-96087113E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5A59-56AE-4B0A-80AC-B1EF5F43D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0394-289E-450E-907D-C7B69C864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ECE4-C707-484E-A58D-232312D9B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C9B2-F5E9-4376-81B9-5F092D243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221F-70A3-4319-9AC3-2EAAEBF4D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98B5-4F85-4B9D-B601-86F7F24E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64E2-F6D2-4E30-B566-4C9D326C7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3DCF-B587-4AC7-BE72-477502AD3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7C66-9AF6-4F29-9915-FAA38D9B8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3CD9-DF8F-4B62-9AF4-CA8E43CDA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ABC6-1E39-40C1-ACDB-F3E184D32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01D4-F22C-4EBC-9E11-14C15BB0B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CB82-72D4-4B32-A7D7-866EB87D2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A47B-2E09-445E-BB36-E30D21C73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431E-8F7C-4C0F-A58E-4A39577E8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523880"/>
            <a:ext cx="6781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3 MONSTER FILM WAS REMADE IN 1976 AND 2005, BEING IN THE TOP 5 MONEY-MAKING MOVIES EACH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STIC  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TEAM HAVE STARRED IN FILMS IN 1992, 2005, 2007, AND 2015, ALL OF WHICH GOT BAD REVI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MADE IN 1924, 1953, AND 2003 ABOUT THE BOY WHO NEVER GROWS 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DO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ED REX HARRISON AS THE TITLE CHARACTER IN 1967, AND EDDIE MURPHY IN THE REMAKE IN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WILD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FILM STARRING WILL SMITH AND KEVIN KLINE WAS BASED ON A POPULAR 1960'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E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BEN AFFLECK'S CHARACTER'S WIFE DISAPPEAR ON THEIR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WOMEN  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0 FILM DOES MEL GIBSON'S CHARACTER HAVE THE ABILITY TO HEAR FEMALES' THOUGH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IS BASED ON AN ABBA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TEAM HAVE STARRED IN FILMS IN 1992, 2005, 2007, AND 2015, ALL OF WHICH GOT BAD REVI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E  BYE  BIR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MUSICAL FILM STARS JANET LEIGH, ANN-MARGARET, AND DICK VAN DYKE IN HIS FILM DEB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3 MONSTER FILM WAS REMADE IN 1976 AND 2005, BEING IN THE TOP 5 MONEY-MAKING MOVIES EAC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19040" y="43434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DS  IN  EACH  TITLE  ALL START  WITH  THE  SAME 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2396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WAS MADE IN 1924, 1953, AND 2003 ABOUT THE BOY WHO NEVER GROWS 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ED REX HARRISON AS THE TITLE CHARACTER IN 1967, AND EDDIE MURPHY IN THE REMAKE IN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FILM STARRING WILL SMITH AND KEVIN KLINE WAS BASED ON A POPULAR 1960'S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BEN AFFLECK'S CHARACTER'S WIFE DISAPPEAR ON THEIR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EDDING ANNIVER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0 FILM DOES MEL GIBSON'S CHARACTER HAVE THE ABILITY TO HEAR FEMALES' THOUGH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IS BASED ON AN ABBA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3 MUSICAL FILM STARS JANET LEIGH, ANN-MARGARET, AND DICK VAN DYKE IN HIS FILM DEB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8:13:01Z</dcterms:created>
  <dc:creator>Jennifer Budzinski</dc:creator>
  <dc:description/>
  <dc:language>en-US</dc:language>
  <cp:lastModifiedBy>Erich Friedman</cp:lastModifiedBy>
  <dcterms:modified xsi:type="dcterms:W3CDTF">2020-08-25T14:33:13Z</dcterms:modified>
  <cp:revision>380</cp:revision>
  <dc:subject/>
  <dc:title>Slide 1</dc:title>
</cp:coreProperties>
</file>